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F62-6E44-4EC8-84F0-D3E72363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928-B1E2-4133-9754-1F68BF71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629-C0DB-48F0-A4E7-4F2234AC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D41-AD2C-4458-8F8B-B170AC49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E0D2-CB5A-42F8-8C10-13E7828A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9BF5-B335-4A44-A654-774CA162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6A6F-D117-44A7-8597-F4935FB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8B70-3AAE-422F-AC42-2FA45DC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94F-927D-4307-9A27-9B25731C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D417-B74C-4311-98DC-48EE349D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3684-F252-41CB-BFE5-CF80945E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D0E-A2D4-4086-A0E6-45DA26F7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AE22-349F-449B-B85C-C65D245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4D3E-4966-40BE-AB63-D2968AE6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AAB1-0973-4EDD-8D31-B0A1950B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D848-EC79-415B-910B-F00782CE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3242-EBC9-4FAB-8B44-F4DE7FDE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25B-0BD8-4252-BC6D-B726C1FD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14A-7AF6-4F87-AC37-667D641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69F-3B5B-4E6D-8F79-7468C332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790-33B4-4020-8A5B-92ECB0C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AEF-F721-4613-9EF4-5452B27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45E-CDD6-4956-A715-9C87983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4E1-61A0-4413-934A-B10B8BE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8506A782-CAF7-4A11-B2B5-CCEBAF44B494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11280" y="1219320"/>
            <a:ext cx="7923240" cy="2496960"/>
          </a:xfrm>
          <a:prstGeom prst="pie">
            <a:avLst/>
          </a:pr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497400" y="5289480"/>
            <a:ext cx="221904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7CCA-094C-4F4B-961F-BD7C7CE447AA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5032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a verbalizzazione degli esami: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inee guida per l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dematerializzazione del processo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54240" y="4140000"/>
            <a:ext cx="4896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5" descr="logoICT4University"/>
          <p:cNvPicPr/>
          <p:nvPr/>
        </p:nvPicPr>
        <p:blipFill>
          <a:blip r:embed="rId1"/>
          <a:stretch/>
        </p:blipFill>
        <p:spPr>
          <a:xfrm>
            <a:off x="507960" y="3990960"/>
            <a:ext cx="2324160" cy="118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348240" y="3887640"/>
            <a:ext cx="2482920" cy="13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00179E19-F78C-473B-94C3-668E8525D003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7) Firma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verbale attesta esito e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può essere redatto 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irmato anche non contestual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o svolgimento della pro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È lecito individuare un unico responsabile del procedimento amministrativo nella figura del docente verbalizzante che fir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richiede la firma dello stud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9C834901-5C0B-40EE-B6B1-6656A25EA0C2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8) Consultazione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 deve poter verificare 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gruità tra l’esito comunic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l docente e quanto effettiva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zzato e inseri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deve fornire un servizio autorevole di consultazione del voto per gli studenti (mediante il portal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dell’annullamento (o modifica) di un verb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4242ECCE-8D48-4EA2-8BB5-4718C09B45CC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Autenticazione docenti/studenti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stud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Aft>
                <a:spcPts val="1001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doc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P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certificato di autent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ttenzione: usabilità e costi organizz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B8DAA7D2-C630-45DE-BB8D-EE60D22544C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Redazione del verbale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1765080"/>
            <a:ext cx="84247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verbali richiedono conservazione peren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 redatti in formati appropriati per gestione e conservazione (suggerito PDF/A1). Attenzione ai metada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sistema deve precompilare il verbale, per minimizzare informazioni che docente deve immettere (usabilità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0A8CBDE5-2AA1-4326-BB57-EE600CB1D870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</a:t>
            </a:r>
            <a:r>
              <a:rPr b="1" lang="it-IT" sz="2400" spc="-1" strike="noStrike">
                <a:solidFill>
                  <a:srgbClr val="006633"/>
                </a:solidFill>
                <a:latin typeface="Verdana"/>
              </a:rPr>
              <a:t>Tecnologia di Firma per il verbale</a:t>
            </a: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35396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firmato digitalm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ertificati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rma limitati a specifiche attiv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funzionali (es. firma verbali) o a determinati contesti (es. ambito universitari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cnologie di fir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con dispositivi personali (alti costi organizzativi per impatto su Client di tutti i docen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“remota” con dispositivi Hardware Security Module - HSM (Server centralizzato che ospita tutti i certificati di firma dei docenti) [dpcm 30 marzo 2009]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la firma richiesto anche uso di OTP e/o S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26E1E67A-0BAE-4182-80BC-D638461D25E0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I costi della verbalizzazione con </a:t>
            </a:r>
            <a:br>
              <a:rPr sz="2600"/>
            </a:b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firma digitale remota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20168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ineca ha fornito una prima stima dei costi per la verbalizzazione digitale per il prodotto ESSE3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del motore di firma digitale per i verbali (circa il 10% del valore del canone di ESSE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manutenzione del motore di firma digitale (ancora da defini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certificati per firma digitale remota (da 11 a 13 euro/anno per cert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dei certificati (rinnovi, scadenze, etc) (5 euro/anno per certif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ervazione sostitutiva (3.500 euro di attivazione e 3.500 euro per conservare 500.000 verbali per 10 ann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A5D9A977-901D-4C6A-910C-78CD56C588F9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Conclu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linee guida sono il frutto di un confronto tra le 26 università del tavolo tecnico con il MIUR e il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standardizzazione del processo è fondamental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ttimizzare i costi di realizz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gli applicativi per la gestione e conserv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7720" y="4152960"/>
            <a:ext cx="48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tat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97254032-4DAF-4535-881C-BE3ED435428B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Premessa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este linee guida sono il frutto di un ampio confronto all’interno del Tavolo Tecnico ICT4University – Università Digitale, con MIUR e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siderazioni general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è fondamentale standardizzare il processo di verbalizzazione esami prima di informatizzar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li nuove tecnologie per autenticazione e fir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6FE711D1-54F0-4180-BA8F-21797AEEFDA4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orkflow processo di verbalizz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53125 -0.25648 E">
                                      <p:cBhvr>
                                        <p:cTn id="6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51000" y="5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45F59B28-F92B-483B-A07B-FFF93D454793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1) Definizione appelli e commis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te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offer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mat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durre impatto sui doc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evitare error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controlli a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1)Def.appelli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0C8325A6-9FE2-463D-B7BC-0812A0961459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2) Gestione liste di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liste per doc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scrizione appelli per student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chied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te 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licativi di gestione carri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, con possibilità di eventual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trolli bloccanti (es. propedeuticità o pagamento tas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6B95F99D-6FF9-49CC-8876-55E99DACED7D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3) Svolgimento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7643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volgimento esame, scritto e/o oral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che con prove multi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stema deve supportare efficacemente tutte le possibili modalità di esa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7FAE9799-E829-41C7-9CB1-14D1DCF53EF2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4) Voto e comunicazione allo studen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zione del voto e inser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el siste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o studente prende visione del voto                       sul portale, verrà avvisato dell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     pubblicazione voto attraver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ail istituzi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C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M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noti che la presa visione non lascia traccia document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BD651CFE-E088-4E5B-982D-AFD01BB237C4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5) Accettazione/rifiuto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se 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op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perché il vo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trebbe essere impost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 è prassi generale (a vol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ta in regolamenti interni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re la possibilità di “rifiutare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vo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blemi legati alla (mancata) “presa visione” nel caso di esami non in presenza: definizione di una finestra temporale (per esempio 5 giorni) trascorsa la quale inserire il vo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300720" y="907920"/>
            <a:ext cx="2664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DF0B1565-058E-4DAC-9939-ABBD5579EC6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6) Redazione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587240"/>
            <a:ext cx="69645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ali informazioni nel verba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obbligatori: denomin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, membri commission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docente verbalizzan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studente, voto esam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: appello, esame, verbal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addizionali: argomenti di esame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wifiUPUAS</cp:lastModifiedBy>
  <dcterms:modified xsi:type="dcterms:W3CDTF">2010-11-12T09:08:14Z</dcterms:modified>
  <cp:revision>2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