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BC3-CC6F-4960-A820-09983D14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D94-DB26-43E9-9434-CE831C86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A29-7149-474F-8E93-E06D2ADD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477-6A6D-432C-B73B-4CDE129D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27BD-00B5-4282-8C96-B5FF36AE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E2BB-EA88-40DC-9F7B-72C70D86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32C5-5E94-4262-912D-B6852CBC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ECE5-B2F4-4317-8F67-D49384E6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C74B-AF18-4796-97D8-E5F47CD6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B582-DDD5-40C5-BA7A-5DC0E19E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4690-F499-49E7-8ED1-CD7CCD2D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BC2-D2A8-4D0C-8768-2A6B8F94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C21-7DAD-4122-A6DA-9836898C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854B-CB5C-4114-AE9C-377C380C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8D2E-B048-4C59-B0E3-896ADF60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84E6-41E9-4603-9388-9903504E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8CF4-55F7-4087-9B01-8422D953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06D-0515-437C-A61A-0C4A4C22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D96-5CF1-4A19-98A9-9F938126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D14-F893-42BB-B951-A694464E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844-B53C-4C4D-BA0D-CF9C05C1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26B-2F7C-4C61-BF08-9A9F599E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32D-F163-4A24-AD03-1EE024A3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DC3-4280-4CF0-898C-CF559042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2C906AF9-8E5B-477D-81B3-0F51098B5E61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11280" y="1219320"/>
            <a:ext cx="7923240" cy="2496960"/>
          </a:xfrm>
          <a:prstGeom prst="pie">
            <a:avLst/>
          </a:pr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497400" y="5289480"/>
            <a:ext cx="221904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798A-66DD-4E3E-A6B1-6D317BA5C6E6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50320" cy="10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La verbalizzazione degli esami: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linee guida per l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Verdana"/>
              </a:rPr>
              <a:t>dematerializzazione del processo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54240" y="4140000"/>
            <a:ext cx="4896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f. Cesare Stefanel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Ferr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esare.stefanelli@unife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5" descr="logoICT4University"/>
          <p:cNvPicPr/>
          <p:nvPr/>
        </p:nvPicPr>
        <p:blipFill>
          <a:blip r:embed="rId1"/>
          <a:stretch/>
        </p:blipFill>
        <p:spPr>
          <a:xfrm>
            <a:off x="507960" y="3990960"/>
            <a:ext cx="2324160" cy="118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6348240" y="3887640"/>
            <a:ext cx="2482920" cy="137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E8AE4894-D293-43FE-8A0F-543AD412BCA5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7) Firma del verbal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425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verbale attesta esito esa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e può essere redatto 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irmato anche non contestual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lo svolgimento della pro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È lecito individuare un unico responsabile del procedimento amministrativo nella figura del docente verbalizzante che fir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on si richiede la firma dello stud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52E5F195-EB87-4619-B0F2-EF441E8234C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8) Consultazione del vot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udente deve poter verificare l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gruità tra l’esito comunic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al docente e quanto effettiva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izzato e inserito in carri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deve fornire un servizio autorevole di consultazione del voto per gli studenti (mediante il portal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Gestione dell’annullamento (o modifica) di un verb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25950803-B6ED-4D54-8503-33BF217C19B9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Autenticazione docenti/studenti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utenticazione stud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Aft>
                <a:spcPts val="1001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utenticazione doce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e P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ername/password e certificato di autent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ttenzione: usabilità e costi organizz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53C69771-045D-47D2-AF5E-750B7B52FDC5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Redazione del verbale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1765080"/>
            <a:ext cx="84247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verbali richiedono conservazione perenn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i redatti in formati appropriati per gestione e conservazione (suggerito PDF/A1). Attenzione ai metada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sistema deve precompilare il verbale, per minimizzare informazioni che docente deve immettere (usabilità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A9B443EF-0ECF-4AE0-9321-3A10F7016124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Tecnologie per dematerializzare processo: </a:t>
            </a:r>
            <a:r>
              <a:rPr b="1" lang="it-IT" sz="2400" spc="-1" strike="noStrike">
                <a:solidFill>
                  <a:srgbClr val="006633"/>
                </a:solidFill>
                <a:latin typeface="Verdana"/>
              </a:rPr>
              <a:t>Tecnologia di Firma per il verbale</a:t>
            </a:r>
            <a:endParaRPr b="1" lang="en-US" sz="24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353960"/>
            <a:ext cx="84250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bale firmato digitalm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ertificati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irma limitati a specifiche attiv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funzionali (es. firma verbali) o a determinati contesti (es. ambito universitari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cnologie di firm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rma con dispositivi personali (alti costi organizzativi per impatto su Client di tutti i docent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irma “remota” con dispositivi Hardware Security Module - HSM (Server centralizzato che ospita tutti i certificati di firma dei docenti) [dpcm 30 marzo 2009]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7160" indent="-305640">
              <a:spcBef>
                <a:spcPts val="499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la firma richiesto anche uso di OTP e/o S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27C49AFF-2A0B-48BA-8757-84A62B89F14C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I costi della verbalizzazione con </a:t>
            </a:r>
            <a:br>
              <a:rPr sz="2600"/>
            </a:br>
            <a:r>
              <a:rPr b="1" lang="it-IT" sz="2600" spc="-1" strike="noStrike">
                <a:solidFill>
                  <a:srgbClr val="006633"/>
                </a:solidFill>
                <a:latin typeface="Verdana"/>
              </a:rPr>
              <a:t>firma digitale remota</a:t>
            </a:r>
            <a:endParaRPr b="1" lang="en-US" sz="26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201680"/>
            <a:ext cx="842508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550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ineca ha fornito una prima stima dei costi per la verbalizzazione digitale per il prodotto ESSE3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del motore di firma digitale per i verbali (circa il 10% del valore del canone di ESSE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manutenzione del motore di firma digitale (ancora da defini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sto certificati per firma digitale remota (da 11 a 13 euro/anno per certic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dei certificati (rinnovi, scadenze, etc) (5 euro/anno per certificat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-292680">
              <a:spcBef>
                <a:spcPts val="499"/>
              </a:spcBef>
              <a:spcAft>
                <a:spcPts val="1250"/>
              </a:spcAft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ervazione sostitutiva (3.500 euro di attivazione e 3.500 euro per conservare 500.000 verbali per 10 ann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4836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C1A4495E-DE44-4E59-B04B-9F929FC591F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Conclusion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linee guida sono il frutto di un confronto tra le 26 università del tavolo tecnico con il MIUR e il D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standardizzazione del processo è fondamental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ttimizzare i costi di realizz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gli applicativi per la gestione e conservazi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77720" y="4152960"/>
            <a:ext cx="489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tat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f. Cesare Stefa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versità di Ferr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esare.stefanelli@unife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7434D667-C8D8-4FEA-8C6D-5242800C281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Premessa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este linee guida sono il frutto di un ampio confronto all’interno del Tavolo Tecnico ICT4University – Università Digitale, con MIUR e D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siderazioni general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-380880">
              <a:spcBef>
                <a:spcPts val="550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è fondamentale standardizzare il processo di verbalizzazione esami prima di informatizzar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004760" indent="-380880">
              <a:spcBef>
                <a:spcPts val="550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li nuove tecnologie per autenticazione e fir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0C8B7376-6D57-4295-B11A-B3E6081978DB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Workflow processo di verbalizz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0.53125 -0.25648 E">
                                      <p:cBhvr>
                                        <p:cTn id="6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</p:cBhvr>
                                      <p:to x="51000" y="5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96594435-429D-47CB-89F2-A71B942D9EBE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1) Definizione appelli e commission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80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orte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integ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 offer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ormati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idurre impatto sui doc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evitare error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controlli a m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1)Def.appelli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B933723F-2A17-486F-BD81-F29A2AD58A0A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2) Gestione liste di esam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3628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Gestione liste per docen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scrizione appelli per student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chiede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orte integ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pplicativi di gestione carri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udente, con possibilità di eventual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trolli bloccanti (es. propedeuticità o pagamento tass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5B04AA4C-9FAC-4E4B-8B8E-EF92F1592604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3) Svolgimento esam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7643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volgimento esame, scritto e/o oral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che con prove multip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stema deve supportare efficacemente tutte le possibili modalità di esa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168FFBB9-3D69-44B1-903E-C2BF089E5FF6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4) Voto e comunicazione allo student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9636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finizione del voto e inser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el siste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o studente prende visione del voto                       sul portale, verrà avvisato della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     pubblicazione voto attraver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ail istituziona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C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760" indent="-31536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M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noti che la presa visione non lascia traccia documenta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355E27F9-6010-4C06-AE02-A437DB1B6356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5) Accettazione/rifiuto del vot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se 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opzion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perché il vo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otrebbe essere imposto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 è prassi generale (a vol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efinita in regolamenti interni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are la possibilità di “rifiutare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vo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blemi legati alla (mancata) “presa visione” nel caso di esami non in presenza: definizione di una finestra temporale (per esempio 5 giorni) trascorsa la quale inserire il voto in carri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300720" y="907920"/>
            <a:ext cx="2664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5"/>
          <p:cNvSpPr/>
          <p:nvPr/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erbalizzazione esami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 -  </a:t>
            </a:r>
            <a:fld id="{CBC948A7-32F7-4F8D-9757-A6152B5F0237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6) Redazione del verbal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587240"/>
            <a:ext cx="69645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ali informazioni nel verba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i obbligatori: denomin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egnamento, membri commission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dentificativo docente verbalizzan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dentificativo studente, voto esam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: appello, esame, verbal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i addizionali: argomenti di esame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443640" y="907920"/>
            <a:ext cx="2556000" cy="2376720"/>
          </a:xfrm>
          <a:prstGeom prst="rect">
            <a:avLst/>
          </a:prstGeom>
          <a:noFill/>
          <a:ln w="93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Def. appelli e commiss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gestione liste di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svolgimento 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voto e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ccettazione/rifiuto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6) redazione verb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firma verb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 consultazione v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wifiUPUAS</cp:lastModifiedBy>
  <dcterms:modified xsi:type="dcterms:W3CDTF">2010-11-12T09:08:14Z</dcterms:modified>
  <cp:revision>22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