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120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ftr" idx="84"/>
          </p:nvPr>
        </p:nvSpPr>
        <p:spPr>
          <a:xfrm>
            <a:off x="-360" y="8680320"/>
            <a:ext cx="2963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a Federazione IDEM - Finalità e Vant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sldNum" idx="85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6E9F6-9156-4294-854A-D49C90AFFE7B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progetto-idem.idem.garr.it/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s://www.idem.garr.it/index.php/it/servizi/idp" TargetMode="External"/><Relationship Id="rId2" Type="http://schemas.openxmlformats.org/officeDocument/2006/relationships/hyperlink" Target="https://www.idem.garr.it/index.php/it/servizi/sp" TargetMode="External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BFF77-E922-4118-BF6A-167F8FA5946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BC4A9-D154-4886-8A61-A857E68A973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2F342-B2BF-4C9F-94F0-6D711954822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E4EC5-F40F-4B33-879F-E6A020CF0EE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B58A1-A1BB-45F1-9516-9CC1B03D398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AE141-3E8A-434C-8D7C-D779337DECF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36BF4-6D0A-4762-9243-B4B77FD233F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15BA2-5EBA-491E-BB41-F6BA67BD12F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5880" cy="342576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Storia di ID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La Federazione IDEM nasce sulle basi poste dal lavoro di 2 anni (2007-2008) effettuato dal Progetto IDEM. Il progetto pilota del GARR per realizzare un'Infrastruttura di Autenticazione e Autorizzazione federata si è concluso con successo il 31 Marzo 2009 giungendo all'attivazione di 20 Identity Provider e 10 Service Provider. Il sito del progetto è raggiungibile all'indirizzo 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"/>
              </a:rPr>
              <a:t>http://progetto-idem.idem.garr.it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Gli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obiettiv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della Federazione Italiana delle Università e degli Enti di Ricerca per l’Autenticazione e l’Autorizzazione sono quelli di creare e supportare un framework, comune agli enti di formazione e di ricerca italiani, per la gestione condivisa degli accessi alle risorse on-line. Per raggiungere questi obiettivi IDEM favorisce lo sviluppo di una comunità basata sulla fiducia reciproca, cosi da facilitare i partecipanti a prendere decisioni appropriate, per il controllo degli accessi, sulla base delle informazioni fornite dai partecipanti stes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19351-68D3-43A6-870B-ADDBB3C32EF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D2BA0-427E-4794-BB27-011A144AF53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0B27B-63C8-470B-BC4F-9F24823185B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5880" cy="342576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I Servizi della Federazione IDEM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I Servizi vengono classificati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* 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"/>
              </a:rPr>
              <a:t>Servizi di gestione e verifica delle identità </a:t>
            </a:r>
            <a:r>
              <a:rPr b="0" lang="it-IT" sz="1200" spc="-1" strike="noStrike">
                <a:solidFill>
                  <a:srgbClr val="009999"/>
                </a:solidFill>
                <a:latin typeface="Times New Roman"/>
                <a:ea typeface="SimSun"/>
              </a:rPr>
              <a:t>(ID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* 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"/>
              </a:rPr>
              <a:t>Risorse </a:t>
            </a:r>
            <a:r>
              <a:rPr b="0" lang="it-IT" sz="1200" spc="-1" strike="noStrike">
                <a:solidFill>
                  <a:srgbClr val="009999"/>
                </a:solidFill>
                <a:latin typeface="Times New Roman"/>
                <a:ea typeface="SimSun"/>
              </a:rPr>
              <a:t>(SP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I Membri registrano principalmente un Servizio di gestione e verifica delle identità, ma possono registrare anche una o più Risor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I Partner generalmente registrano una o più Risorse.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D293E-01E4-4297-B0D4-27E77BB9B98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88222-59DB-4F00-AEC9-6A3F160E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59AD-7745-4229-90BF-609B5F4A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D43975-311D-47E3-AD2B-709548AE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024FB-F393-4D3C-8EC6-88D150FF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7A8415-63BD-4701-9D8B-32F661F0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0119C-7CA1-4C1B-8C60-52CCF67C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1E1C4-02E1-48E0-AC8D-D7DDB646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12EBAD-F146-40DF-A072-F4D70DDF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F797C-7037-438D-885B-FD5169ED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EA086-F69E-446F-BBDC-FCCB6CB7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2305F-C490-42EA-8880-3DEA6A85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892005-1E56-4FD1-91F6-5FADE16B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5EBB1-6F6E-4803-B8C4-CB8225D6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DFC3E-C24F-44EC-8DED-AB9486A7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8A9F4-E217-4CFE-9596-C2D23FAA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77D6D-A666-4EB7-A42F-EE481096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929CC-D82C-4134-AF89-D508319E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87138-AE44-4CD2-9C44-3B2FB894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7C502B-D8AE-4213-8DB3-79C7F603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758BD2-A119-4B7E-896C-A2121AB1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071FB-403A-44A8-B9E9-2AAF469E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ABCBCD-7DC3-4148-BC5A-B1FA272E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9D585-D111-45E0-A384-95DE2FEC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DFF3F-C58C-461B-B626-004BF906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1ADE1B-CE88-43AF-996D-6A5BE1B8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873773-87B3-457E-BD53-8EE29B11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8B610C-C080-4057-9E73-E22826A6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37B359-FE7A-4B27-A69E-A681F68A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C05913-2B4A-4F34-904A-82BDAD90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3C2EAC-BB7B-48EE-866A-BB1A2E8F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B2B19E-F2D6-485D-BC10-1197A68D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40DB7A-C419-40F3-AEA8-52D5090E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C54BE4-551D-47F3-8AD3-01C8C3AB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34C81E-E322-4148-8B49-1571497D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187D2-BBB7-4A23-BFCE-40EC1CF8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2970EB-451A-40F4-A919-E72E41CB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EE2F2D-F16B-49F3-BE46-C9A46393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2943A5-D796-461E-962C-EE136A7E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B3700-0633-4522-A327-7E876D41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60B32-E0DB-4D54-9E55-3C444C1B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DF3F3F-7D14-435A-8109-F5A4E1E6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DBF9A3-4A64-4EC3-B871-E7C69460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269E8-2BE5-4F34-B1EC-4C1D66B4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BC42A-F804-4387-AE54-D6D0F566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CF1C4D-DE74-4699-936E-9113E73B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B9730-5DBD-4664-9A0F-635FA431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20330-C230-44C0-8A53-045EDD87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785636-519D-4F7E-9155-8FE6CBA7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BDA2C-0B0E-490A-A230-2B873947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2B59DE-601B-48D9-AE59-90FC21DD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8D9B9C-AF45-476A-AED1-071162A0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6363FA7-11A6-401B-B7F2-066D42D5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9CAA31-8BCC-4E25-AB31-7E03B1D7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D8CBD0-1D90-4318-9513-E4FE4C3B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F87E26D-A502-40DC-B83A-15948B72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606561-CF6F-4039-A1D6-48FFB926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675EC-CF09-44F1-A768-DFFBEC4B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065C826-7204-4032-A6DA-0CEEEEA0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03C155-84E7-478F-9A37-82EEA9C1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519F6B-FC24-4B41-9464-6DBFCE48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2354CEE-ACD9-45FE-9277-0FE5EFE9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C40F0B-306B-4282-A923-96F87146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FC7657-B2A3-4540-A53A-D2DBC1BA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3817F3-F80A-4C8D-8D51-0E3BCFED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AE9709-2544-4771-A82C-6EC419BA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875D72-CFE6-437C-B752-BA6613A5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1B58C28-8E05-4AFD-9239-8488E58C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630A5-E67E-4241-A4E1-B550C73E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2A6D959-A3F1-42D2-B477-59483ECE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7655F6A-6B47-4F52-BFCC-9F9CE2D2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4346964-B4C6-4C3D-B2F1-AC813F50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3E35D2D-1A53-4FA2-9E19-CB133C40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34C84EC-9302-4E54-80BD-13C6C894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6FE9D5-EFB4-4BD8-9F9F-64F0DF8E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ABEC0AE-4E48-4BFF-A6CC-2FA34E6B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9362967-724E-440D-BE30-C2E7A96B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9E7C241-246D-4DB1-8C06-1C9BF567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F09753-F6D8-42E1-8ACD-E0A0B85A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06731-0D40-4B47-858E-2EB2DA62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ADCD8B-4FF3-4144-86DC-35B8B462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F9182D-0BD6-46CB-9D47-FCC5D4F9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678260-16C7-447B-B1D0-21CBBA5B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A004DA-B7FE-4531-89F9-A49B9318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E1C232-E7B0-4DD7-B972-3F98D302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572E37-DA6D-4112-9345-E6677091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FD71BBF-3F85-4C71-9789-EEB4C466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F998E92-CB01-4555-82DE-D8ED8458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1C974C-FC74-4655-897F-837EB4A3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1A796B-B746-4A78-829C-165097C5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BA1CD-1269-4815-8CFA-9765E312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EA9972-F069-4B3E-8B4A-5561BC79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23FC883-0D00-41A6-940E-D7BDD702945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9CFF8E3-0AB8-480A-855D-F728D0F2135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728C27A-D4A0-4341-B63E-F1CA96B03C3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03057DF-7EEE-4BBC-A36B-EB60079E795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FF85E64-3343-4F75-8F02-35554ED9A13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AD1BF8D-C7D9-4967-ACA4-B63A610404E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07B939D-16BF-4102-BE1E-4B9CF1F9CE4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F1D07E0-B36D-422E-97E0-85840BCADFA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F0C15BB-80A9-4900-82CB-07DC792DFC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F6590-AED2-4A5C-A066-3D1EF66E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052F612-E9EF-43E3-B3F0-5B5CE7889C3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9BDD729-63F2-4039-8F0D-BD86E034ECF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326506F-C4BE-490E-9005-500A632FD5B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BFF7A-6043-4114-ADDA-3888D603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23FA0-C598-468F-B1A3-EF931AE4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945B2AF-D9AF-4EC2-A343-EDEEC543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5724097-5A74-4EA8-A94B-517E8772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87AF846-2D82-43B7-BB25-388E8216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2A18A5A-CB47-41B3-879C-3A436EDB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20167C1-A919-4D7F-A21A-B2D84689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299E2-3F29-4E55-A86F-2CAF2870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4D8328D-A7D1-4553-8DBB-798FED78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1A74750-A5AA-49D2-9035-753BAB20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C4768AF-03A3-42CF-9F9B-89DE3028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E40723A-87B8-4BA0-81CA-F114F682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EF7A6AC-9B9A-44F4-BF47-89C827B9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F6DAFE0-7632-4409-AA53-089C6A1B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72DEB70-5883-4C5A-AD61-7C84574F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9952BEA-7B39-4FF9-A292-2836C8F1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B2AE49A-A98C-4530-83A4-D6AA64C6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525E2A5-455F-417A-BD24-4D7B68AE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69017-F151-4672-B2BF-559474FB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7794C8-B423-4E19-A518-4B43565F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318C73E-2776-4EC8-9FCA-FC0F03CB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BAC3559-FBF9-4789-A934-7C7736A0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1B91795-CAA7-44B0-BF90-9EEB4475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1121321-464D-4483-A557-357E6C9C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525E38D-781F-4763-A0A0-A7034C64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E1BEE45-415F-403F-9B8D-1C09FB89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AF1891F-4F45-4077-9619-F15B01B2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CF8ADD-C0EF-4C5A-9ACC-938FC5F8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E232FE2-C39C-42DB-8AC9-6C89A8C4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26A75-2B35-4889-9913-F59BB5F9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E53E2D9-63D2-4351-8E47-24F6443A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818686A-54A4-427A-A84C-40C3CC0C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7602F80-170A-43E2-84E5-73185F8B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940E3AB-FC76-4B69-AA4F-1FB869AA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ACE7D27-E58D-4FC6-9573-14E33E90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8AA8FF3-D997-4CBE-9A7C-2A7C675F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B927932-D567-4B8B-B74F-7FBB38BA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28E2431-F0AE-48F1-A403-CC5A30B5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38A2E79-28DC-4701-BE44-73603678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9D749F7-B46F-47BA-B74C-C3E07D21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3E9E5-C0A6-4E5D-BFB5-9F24E915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C42C8E0-CD3C-4D36-BE96-4A818AD9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F43DAE4-18C7-42A0-9456-B1E80583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3B115F2-2130-4C2E-AC8F-29E3096C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B9218B1-BFB6-4CB5-9E38-15413802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6EB0400-ED7F-40D9-A2DF-4E605BB3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943BF0C-6C86-4F3A-8AC6-FBA6CCA0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9665019-E460-4C4E-B6D5-9B7CF32C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1D7D978-DA84-4255-9884-2B2C3383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836AE01-6D9E-4581-BB33-176C2E9B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03AF05B-3CD0-4450-9F4A-50656483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69C8F-F389-4F09-B3DE-13432C07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1F38B7D-DC11-495B-A4F6-F4837A3B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7DE9E13-9D3F-4B9F-BDD3-CB634ABE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932B393-5BFF-42CB-9AA9-463CD43E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325F5B9-D2B5-427D-8AD2-8A9B27CE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28A3991-EA9D-42FE-BA7C-A5B116E1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E8BE156-39AE-4A84-81E9-26C09543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7945051-F9BA-47CE-91DD-34CC4F5C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BA31917-70C3-477E-BB0E-37BCEAB5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0A70E76-F174-4223-A150-14225B21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CD5475C-7A46-419A-A6DA-7CDCC60B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3E5BC-2D99-4781-B42E-BE691710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5035A00-6EDA-44D8-A407-B623D0E1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B279D03-3805-4F90-87A7-3BB143B8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3C3BC8C-15C5-46D4-B490-CCE73C75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7F353BB-DAEA-4013-8DEF-832FA7BB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B6E462F-5E8B-4B76-A5E9-1807F8F5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A8E67B4-6D13-4E8A-93D7-C2F003AF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D7D0247-0F26-4C3C-B934-0C33DDC6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1F40006-A933-4C66-A0DF-C7A52F04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FB85D5D-ACB8-4D11-980E-9091FF78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43A7014-BCE8-48F9-A7E0-0E34B089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3F100-58FC-4BA1-AA3D-07F34512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ECAA177-5B66-48D7-B70C-53342B71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8760AA1-03E2-4368-8FF9-0D5614F8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7F32ACF-CB48-40FE-BC11-634E47CB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5DFF0D9-6197-4A67-8D8C-A799AF36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B358E32-FDC2-4702-AF41-45C2148D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AA62571-9F2B-42AD-80FD-7ADB9B63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9737E9C-6546-4387-9795-6330D66F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D19719F-8BD9-4E84-9667-0587300A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BF7E6EA-765D-4E12-B538-A413D001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BD646B4-028D-498C-83DC-97C293EB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74ED2F-C966-4FD5-AA4F-FF36FB08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5FF1FB1-CC3C-4F87-B6E5-A4D22FBF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B009FEC-9D8C-4EEE-8C83-6D467919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7562E2B-3E8F-414A-ACC1-1947AC0A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99FB721-09BD-4A22-8E69-03CAC2E3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10B421A-5EF7-4A28-879E-73BD64AD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A4B162C-7E3E-4165-976A-3BC75F91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679DBBD-995F-4269-9E4D-88F4445D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7DFCE19-9C05-4FDC-9318-0125B096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59F3E87-5CCE-4AAA-8CA4-4E0AE10A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FCB0286-2839-4537-B0A6-01E12742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43E75-6EBC-4367-B0D8-03D28F31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41B5DB3-1A30-466C-9DE2-BF175CA6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E3D7E8A-DFFC-4074-88CE-063A14EF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EE400E4-73CE-4DF0-BEC5-79376C1A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7727C11-43B0-41ED-8216-84511E3F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051541B-778F-4F54-A38A-A04DDE64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7148B37-2781-4C3C-A8F3-1071EFDE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975F2AF-A3C7-4FF6-9A1D-69BB4ABC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E01DB0C-A4B0-4B51-AC2E-366D512A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F7D047A-960C-49F4-8E4A-A908DB8B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030BF2E-0F5D-4433-B46C-4E58A459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3C0A1-E127-4C99-979D-1763097F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DABF7-0BDE-4895-91C2-D2F12DEE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E756F2A-1AAC-483C-BC72-C32FB60C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F475C43-1811-443B-8373-F22304DD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65FD595-2E70-408B-9E34-4D812B32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BB7E45B-6C86-4755-9AD9-36E00F2C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9A19113-71B1-4920-B0F4-1FCE7256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888FAFB-7512-4A69-87D8-73FC46B7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3E93873-27F3-4CC7-BE02-5E96C5BE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512BCA8-024F-40FF-B3C0-319A86CB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F735CD8-0302-4B0B-BC6A-FBA5FECF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B217E9E-615D-44AF-B8ED-0EBEBE39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486D5-0914-48D0-A040-14967847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10F2C0B-826E-4E2E-8C2A-8EEC98F7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8DA39A1-4949-4AF2-8A07-25524EFB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4623575-4DCE-442E-A0AF-D43FEE87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767B809-01FE-4DD7-AFF3-FA8CD97E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F6EC8A6-50C2-46E9-BFF9-29ADF4C7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3440762-A679-4248-B3F8-ADD2BFC8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AD2164A-97DD-4492-802A-6BAE63AC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6B907FB-13FC-47DF-BA0F-ADC3F881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143895A-D821-41A6-8FFE-A1D45719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E072572-1F72-44FB-AD6F-263566CE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BE46E-3170-4D1A-AC90-63826ED1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D9BAF48-2FCE-44DB-9D61-EF7447C0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C3EB1AF-3C8D-4ED8-A71D-88D50292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3F2E4A5-9A31-48A5-9A6B-10AFB665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50DCEDE-7C3D-4A47-A328-90F84EF8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21E519B-A813-453D-97DD-7A4F032A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7F921F-54A1-47C0-B77B-CFB8199B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8A2797-950F-44DB-A566-21EAB8A4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2F0F13-6329-4CFD-A970-D3070B7B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29A213-8987-45EE-91D9-063D86C7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754A32-51AF-4423-AAB0-D0F2C920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6D93E-A5B4-41F9-84C7-058A8C38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51130A-3D04-40DB-8EE5-E285E44A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F9BDD4-72B9-472C-B691-5F5311DD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9B606B-AB72-420E-BF27-BE7A2601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C3E2D6-9A45-4557-BDA7-4984E1A6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F09A00-EDC4-4117-91F4-36EC487B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93F465-0A05-4457-8FCB-6F18B420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278616-3A98-4D5C-A4E2-DA6630AD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45C3408-BEBE-4C2E-BD88-C47FB7AB2935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4F76465-614C-4F8E-B1C7-9851E405AE81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2829E91-55DC-4AD7-B444-FA6B5AB887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D67B5-CD48-4EC8-83F6-C52DAD5F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66D63DF-6C01-4270-B85C-04E95F838789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FE7877A-C892-483C-B2A0-BE473BA937EF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34BF172-2C9B-447D-AB79-AC9DB0EB9126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9C1F68A-B14D-41DC-9E60-6CFD782F9BA7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C77D5B2-585B-44FA-A642-8EBD96EF190A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DD8DB47-2046-49BA-BBE1-68F7B4B5108A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64EB03A-A2F8-4C8F-88AB-942405EA2D8B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9EEB3F6-B43C-4FD9-B8E5-74CB1943B37A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BCD7850-0F76-478F-8C6D-4007DA6864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8FA0F-853C-4E51-AFED-75372DB4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94068-80A3-473E-B26B-CDD4E1FD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9692-7751-4FD5-BF01-01A52C4E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8B7307-0B22-4DF5-9E1A-9484F3D0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2D601-C106-4442-8CD1-856B5C2A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5344D0-CF87-4ADB-8A4A-671195DB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A87ECF-0116-4A52-88A3-B16D7156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E2395C-55F5-4D9E-8682-26B46D76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4BF1E3-C2F3-4736-8C7D-A0615F62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9F97E9-C1F6-4361-B7F9-34B72DA8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B30516-401C-49F6-890D-C6CE9FFF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F80E61-E846-41B7-B00D-18889487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AE53E3-B84A-44F6-B713-3671A6D5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1C2AE1-0692-49C7-9167-EBCA8FC1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338A66-172A-4D23-9EC8-11AC999A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0BC57-B4DA-4CC1-8A35-54E43217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089F9C-FFD6-4E39-BCC8-3B9C0DDC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F81065-71FA-4887-9DF4-C98A061F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D403E3-BE77-4D7A-B678-4AEE2F70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9304D4-5372-46B1-8365-F7EAFCC2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B91B6E-2195-42E9-992C-2B6959F8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BD6C31-95EC-4063-9DE6-28296678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58E00B-9318-4D33-9587-8A58F627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1F575A-55D9-40FF-9D9D-F7BCB87B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E9BEA9-1E87-43A5-B8C6-99DE0A2E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1C71CA-715A-4E90-922A-7BAE4EE6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986FC-190C-4B1E-8BC2-E4C6DE3B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C9AE24-EED3-4F5C-889A-4E73A7A1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A59D32-CFAC-4ED7-8C74-A23C2D48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AF9219-EB3E-485E-B984-F466E83B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BEF379-F3D4-468B-B45D-8E0DC576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0E9518-F606-48F9-9417-E8C40E64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01C13B-3FAA-4029-8CDF-DE471997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A2F254-BE0E-4212-BAEA-29A4BF43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56AC97-ED5E-4BC2-A36D-E374D733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DCD933-5444-46D8-A99A-9BD8BCB6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38F6C2-E418-4C15-8692-B133CA5A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DB5BB-7ADF-40F7-B854-78719B86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FDF7C3-109C-4C17-A095-19F4CD44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3999DD-730B-4EEB-A79E-A31FAAA9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8C9CA6-7200-4251-BCCC-08732B9F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B0D4B7-7219-465C-83A7-E837C296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4CC1B6-91AD-49E7-A8B7-955C04D2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2F1F25-CEDD-4C9A-9D93-9AC52B8B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BA4540-4138-4927-8DE9-EC425D0B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A70CC6-FACC-497D-B353-431BA3DA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3FBBCF-EC85-474F-B6EE-E00ADE51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4C66D6-99CE-41E8-9163-5BD0B4CC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691E6-B36B-45C7-BA96-BCC86280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029DEC-A860-41D6-BF66-4F89AFB2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86EACC-589A-4229-8DBE-92636CE4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237719-E87C-4628-8821-5DCB8300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D4A670-6B9D-49FE-A163-D5EFEEF7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D01089-149F-496A-A913-B6037489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FBDB5A-52CD-4E7C-8166-473AAD22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A1B5D9-D0ED-470F-86B8-C4B41A18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CB81C3-CDBB-4100-8B15-5804B9B6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FC1959-13CC-4F95-8336-DF9B97C3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922FB9-B137-4B5D-8B20-5A658971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Force GARR ICT4University - idem@garr.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0CDE7-6459-4BD5-BF1C-098D56CBF37F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7.09.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ftr" idx="27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28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83FF43B-3CDF-422E-8ED4-14536AC5A88E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dt" idx="29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ftr" idx="30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31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39D621F-58CF-4019-A003-3398E7D9D355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dt" idx="32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ftr" idx="33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sldNum" idx="34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0510DF7-530B-4A93-AE86-7CA98C12AD84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dt" idx="35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ftr" idx="36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sldNum" idx="37"/>
          </p:nvPr>
        </p:nvSpPr>
        <p:spPr>
          <a:xfrm>
            <a:off x="1476000" y="630720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FD553EE-FD2A-400C-B181-5BDAF10D5C9C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dt" idx="38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ftr" idx="39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40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5A0962F-1C7C-41CB-9D62-055E81BA1C15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dt" idx="41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3"/>
          </p:nvPr>
        </p:nvSpPr>
        <p:spPr>
          <a:xfrm>
            <a:off x="3124080" y="6242040"/>
            <a:ext cx="28879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8C55078-FD60-4598-B1EA-C0573840086B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ftr" idx="45"/>
          </p:nvPr>
        </p:nvSpPr>
        <p:spPr>
          <a:xfrm>
            <a:off x="4211640" y="6476760"/>
            <a:ext cx="48448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sldNum" idx="46"/>
          </p:nvPr>
        </p:nvSpPr>
        <p:spPr>
          <a:xfrm>
            <a:off x="6919560" y="612144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9B908BD-E01F-466D-881F-63E43AEF4FF3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7"/>
          </p:nvPr>
        </p:nvSpPr>
        <p:spPr>
          <a:xfrm>
            <a:off x="414000" y="5689440"/>
            <a:ext cx="7628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0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8"/>
          </p:nvPr>
        </p:nvSpPr>
        <p:spPr>
          <a:xfrm>
            <a:off x="414360" y="5267160"/>
            <a:ext cx="7556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0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ftr" idx="49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sldNum" idx="50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90B9EA5-ED3A-4A7A-AB88-64BB5C7B4BA6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dt" idx="51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ftr" idx="52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sldNum" idx="53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A63D17E-2C17-43CF-A94D-ACA1EF3BC187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dt" idx="54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8A55701-87C2-4E19-972D-FC4048596829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ftr" idx="55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sldNum" idx="56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99E631-A2B1-45C8-B958-1996D2F6DF7A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dt" idx="57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58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59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1B00B28-94C1-4992-9831-4D4A6AE769D6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dt" idx="60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61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62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88D889A-3ADB-49E5-890E-51DCCF13FE8E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dt" idx="63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64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65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A91B8C3-9588-4637-9CD2-DF0D8296A633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dt" idx="66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67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68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38F001F-ECA5-4D14-ADDB-9014AFB6556E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dt" idx="69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70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71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A5E1F25-72BC-4AB7-BAD6-3D43991A86F2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dt" idx="72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ftr" idx="73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sldNum" idx="74"/>
          </p:nvPr>
        </p:nvSpPr>
        <p:spPr>
          <a:xfrm>
            <a:off x="1476000" y="630720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34063B-EB03-4AD8-8647-981B32F68D78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dt" idx="75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ftr" idx="76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sldNum" idx="77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2CE872A-D50C-4D1B-97A3-45B5F8961E87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dt" idx="78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E10EAA3-202D-4562-BEBC-94AA66AD6CD5}" type="slidenum">
              <a:rPr b="0" lang="it-IT" sz="14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ftr" idx="82"/>
          </p:nvPr>
        </p:nvSpPr>
        <p:spPr>
          <a:xfrm>
            <a:off x="4211640" y="6476760"/>
            <a:ext cx="48448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sldNum" idx="83"/>
          </p:nvPr>
        </p:nvSpPr>
        <p:spPr>
          <a:xfrm>
            <a:off x="6919560" y="612144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C456017-43A8-4BA2-9383-5A204343B080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0760" y="-228600"/>
            <a:ext cx="804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1640" y="1267920"/>
            <a:ext cx="748008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2556000" y="6254280"/>
            <a:ext cx="6416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854400" y="5775480"/>
            <a:ext cx="2125800" cy="46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0F1E135-C1E6-43AE-AD12-92A885C975B9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1692000" y="6470280"/>
            <a:ext cx="73105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14000" y="5689440"/>
            <a:ext cx="7628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0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4360" y="5267160"/>
            <a:ext cx="7556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0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2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3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4B90D0B-E881-4146-8489-0B51295F19F5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dt" idx="14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5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6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763AFB-EF47-4E07-838D-6ED1002029DF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dt" idx="17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8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9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8E47FC3-0D2E-46AA-89FB-1FDC7A1705D5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dt" idx="20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21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22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9B30040-1A2A-4BA5-9A7A-A2EB07A9CA40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dt" idx="23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24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25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102A124-B406-443D-8CC6-DA2AB75E8137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dt" idx="26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dem.garr.it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s://refeds.terena.org/index.php/Federations" TargetMode="External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dem.garr.it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dem.garr.it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idem.garr.it/index.php/it/chi-siamo/assemblea" TargetMode="External"/><Relationship Id="rId3" Type="http://schemas.openxmlformats.org/officeDocument/2006/relationships/hyperlink" Target="https://www.idem.garr.it/index.php/it/chi-siamo/comitato-di-indirizzo" TargetMode="External"/><Relationship Id="rId4" Type="http://schemas.openxmlformats.org/officeDocument/2006/relationships/hyperlink" Target="https://www.idem.garr.it/index.php/it/chi-siamo/comitato-tecnico-scientifico" TargetMode="External"/><Relationship Id="rId5" Type="http://schemas.openxmlformats.org/officeDocument/2006/relationships/hyperlink" Target="https://www.idem.garr.it/index.php/it/chi-siamo/servizio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dem.garr.it/" TargetMode="External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idem-help@garr.it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417600" y="1677960"/>
            <a:ext cx="77724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it-IT" sz="2800" spc="-1" strike="noStrike" u="sng">
                <a:solidFill>
                  <a:srgbClr val="ccccff"/>
                </a:solidFill>
                <a:uFillTx/>
                <a:latin typeface="STOMP_Forgotten Futurist"/>
                <a:hlinkClick r:id="rId2"/>
              </a:rPr>
              <a:t>www.idem.garr.it</a:t>
            </a: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 </a:t>
            </a: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14360" y="31161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990000"/>
                </a:solidFill>
                <a:latin typeface="Tahoma"/>
              </a:rPr>
              <a:t>Presentazione realizzata per workshop “ICT4UNIVERSITY”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990000"/>
                </a:solidFill>
                <a:latin typeface="Tahoma"/>
              </a:rPr>
              <a:t>12 Novembre 2010 Napo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14360" y="568944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Tahoma"/>
              </a:rPr>
              <a:t>Ing. Angelo Sacc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14360" y="5267160"/>
            <a:ext cx="756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01352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852E4-2CEA-4783-8801-7106FAA89109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3"/>
          <a:stretch/>
        </p:blipFill>
        <p:spPr>
          <a:xfrm>
            <a:off x="5148360" y="1979640"/>
            <a:ext cx="187164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411120" y="1079640"/>
            <a:ext cx="8229600" cy="54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Iniziative analoghe a IDEM sul piano naziona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CAR (Interoperabilità e Cooperazione Applicativa fra le Regioni) è l’azione interregionale finalizzata al coordinamento dello sviluppo in tutti i territori regionali della cooperazione applicativa secondo le specifiche SPCoop. L’azione è stata avviata in forma di progetto iniziato nel 2006 e concluso nel 2009 e ha definito e implementato un modello condiviso di infrastruttura territoriale e lo ha sperimentato in 7 ambiti applicativi. Dal 1 luglio 2009 è in corso l’attività di manutenzione e sviluppo dell’infrastruttura e di nuovi applicativi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ahoma"/>
              </a:rPr>
              <a:t>Gestione identità federat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ono 18 (una in più dello scorso anno) le Regioni che intendono realizzare la Gestione delle Identità Digitali Federate, in 10 casi attraverso l’adozione della realizzazione ICAR. Il sistema è già realizzato in Emilia Romagna e Toscana, in corso di aggiornamento presso la Regione Campania, in corso di realizzazione presso la Provincia Autonoma di Trento e la Regione Valle D’Aosta. FedERa è il progetto che in Emilia Romagna si pone l’obiettivo di garantire la circolarità dell’autenticazione tra gli enti, permettendo a cittadini ed operatori della CN-ER di utilizzare una sola credenziale per accedere ai servizi on line disponibili sul territorio. Il progetto ARPA, sull’infrastruttura CART e a servizio della RTRT, costruisce l’identità federata sul territorio della Regione Toscana, federando le identità tra i diversi soggetti che offrono servizi. In Campania è il progetto SPICCA che ha consentito di individuare la soluzione per creare la federazione degli enti al fine di erogare in sicurezza i servizi presso la comunità regiona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niziative loca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lcune amministrazioni comunali hanno stipulato accordi con gli enti locali (Università, biblioteche) per consentire l'accesso ad internet con identità federate (Modena-Carpi-ReggioEmilia, Trento, Ferrara, ..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7A8E8-06D5-4106-B932-79A87C61B517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874880" cy="1282680"/>
          </a:xfrm>
          <a:prstGeom prst="rect">
            <a:avLst/>
          </a:prstGeom>
          <a:ln w="0">
            <a:noFill/>
          </a:ln>
        </p:spPr>
      </p:pic>
      <p:pic>
        <p:nvPicPr>
          <p:cNvPr id="1249" name="" descr=""/>
          <p:cNvPicPr/>
          <p:nvPr/>
        </p:nvPicPr>
        <p:blipFill>
          <a:blip r:embed="rId3"/>
          <a:stretch/>
        </p:blipFill>
        <p:spPr>
          <a:xfrm>
            <a:off x="42840" y="-304920"/>
            <a:ext cx="9186840" cy="76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250920" y="-39600"/>
            <a:ext cx="8265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Le Federazioni AAI in Europa e non so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24BF1-4D03-491F-8694-82425BC88C7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2"/>
          <a:stretch/>
        </p:blipFill>
        <p:spPr>
          <a:xfrm>
            <a:off x="1835280" y="871560"/>
            <a:ext cx="5973480" cy="553068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>
            <a:off x="250920" y="2708280"/>
            <a:ext cx="80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Verso 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Confederazio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528480" y="2095560"/>
            <a:ext cx="433080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untry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Fede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T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ACOnet-A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U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Australian Access Federation AA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Canadian Access Federation CA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WITCHa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Z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duID.c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FN-A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K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WAY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S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SI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F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Hak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FR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Fédération Éducation-Recherc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GR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G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HR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AI@EduH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E1A4F-D083-4AED-BBC1-85B4E4AB5A9D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0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874880" cy="1282680"/>
          </a:xfrm>
          <a:prstGeom prst="rect">
            <a:avLst/>
          </a:prstGeom>
          <a:ln w="0">
            <a:noFill/>
          </a:ln>
        </p:spPr>
      </p:pic>
      <p:sp>
        <p:nvSpPr>
          <p:cNvPr id="1261" name=""/>
          <p:cNvSpPr/>
          <p:nvPr/>
        </p:nvSpPr>
        <p:spPr>
          <a:xfrm>
            <a:off x="4859280" y="2160720"/>
            <a:ext cx="360036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untry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ede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HU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duID.hu (HREF Federati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dug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D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JP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PK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V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IF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L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RF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E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CTSa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WAM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K Federation for Education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d Researc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Comm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GT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755640" y="1413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iziative analoghe a IDEM sul piano internazion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s://refeds.terena.org/index.php/Fed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979640" y="5172120"/>
            <a:ext cx="6480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È in corso l'iniziativa EduGAIN per l'interoperabilità delle Federazioni nazional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he eduGAIN service simplifies access to resources and content on a Pan‑European scale for participating Research &amp; Education Institu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MS Gothic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MS Gothic"/>
              </a:rPr>
              <a:t>Vantaggi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MS Gothic"/>
              </a:rPr>
              <a:t>per il sistema universitario e della Ricerca scientifica italiano apportati da ID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efficienz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sicurezz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aggregazione di risor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riuso di serviz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flessibilità delle soluzio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interoperabilità (fra gli utenti della Federazione ed, in futuro, fra utenti delle Confederazion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Innov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Standardizzazione “dal basso” indotta da identità e servizi feder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38C3A-B8CA-45F7-84B6-41464F05C9D4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8748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MS Gothic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La federazione IDEM og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Il sito 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Tahoma"/>
                <a:ea typeface="MS Gothic"/>
                <a:hlinkClick r:id="rId2"/>
              </a:rPr>
              <a:t>www.idem.garr.i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 come primo e completo riferimento per sap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hi c'è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ome partecipare alla federazion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Modulistic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ome ed a chi chiedere support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Quali servizi sono già disponibil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Aggiungere un servizio-risorsa alla federazion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hi e come si decid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Ma ...non solo web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7EBAD-73F4-478B-B0AE-FF57D9CCBB33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3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8748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417600" y="1440000"/>
            <a:ext cx="78627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TOMP_Forgotten Futurist"/>
              </a:rPr>
              <a:t>Prossimo appuntamento: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STOMP_Forgotten Futurist"/>
              </a:rPr>
              <a:t>IDEM DAY si svolgerà a Roma, il 2 e 3 dicembre 2010, presso la sede del Ministero dell’Istruzione, dell’Università e della Ricerca, in piazza Kennedy, 20.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STOMP_Forgotten Futurist"/>
              </a:rPr>
              <a:t>L'IDEM DAY rappresenta un’importante occasione di formazione rivolta al personale tecnico delle organizzazioni che partecipano o che hanno programmato di partecipare alla Federazione IDEM.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STOMP_Forgotten Futurist"/>
              </a:rPr>
              <a:t>Prenotazioni ed informazioni: www.idem.garr.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14360" y="31161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14360" y="5267160"/>
            <a:ext cx="756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701352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E59D9-B8E8-434D-864F-9A188C8D6CF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2"/>
          <a:stretch/>
        </p:blipFill>
        <p:spPr>
          <a:xfrm>
            <a:off x="539640" y="5400720"/>
            <a:ext cx="28051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971640" y="1312560"/>
            <a:ext cx="748512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CONTATT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Ing. Angelo Saccà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Università degli Studi di Torin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Tel.:   011.670.2037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Mail:  angelo.sacca@unito.i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411120" y="-142920"/>
            <a:ext cx="80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STOMP_Forgotten Futurist"/>
              </a:rPr>
              <a:t>Breve memo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50920" y="836640"/>
            <a:ext cx="87138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getto IDEM (2007-Marzo 200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ederazione IDEM (Aprile 200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SimSun"/>
              </a:rPr>
              <a:t>Regole e Documentazione per ader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SimSun"/>
              </a:rPr>
              <a:t>Servizio IDEM GARR A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Nel 1° anno della federazione siamo arrivati a 14 Membr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SimSun"/>
              </a:rPr>
              <a:t>Quasi tutti coloro che avevano partecipato al proget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SimSun"/>
              </a:rPr>
              <a:t>Anche qualcuno in pi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9/3/2010 Prima Assemblea dei Membri della Federazione IDEM: eletto il Comitato di Indiriz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31/08/2010 Membri = 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www.idem.garr.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FC6D1-0DC6-4D6E-BFDC-689200870959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3"/>
          <a:stretch/>
        </p:blipFill>
        <p:spPr>
          <a:xfrm>
            <a:off x="6300720" y="115920"/>
            <a:ext cx="1871640" cy="128124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519120" y="968400"/>
            <a:ext cx="755964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STOMP_Forgotten Futurist"/>
              </a:rPr>
              <a:t>IDEM: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Organi della Federazione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membri e partner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utenti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servizi-risorse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il supporto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le tecnolo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C73A2-451D-4EE9-9113-FA6EF85510DF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684360" y="1197000"/>
            <a:ext cx="822960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1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Organizzazione ID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Gli organi della Federazione sono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1. l'</a:t>
            </a:r>
            <a:r>
              <a:rPr b="0" lang="it-IT" sz="17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Assemblea dei Membri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2. il </a:t>
            </a:r>
            <a:r>
              <a:rPr b="0" lang="it-IT" sz="17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Comitato d'Indirizzo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3. il </a:t>
            </a:r>
            <a:r>
              <a:rPr b="0" lang="it-IT" sz="17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Comitato Tecnico-Scientifico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Il Comitato Tecnico-Scientifico opera in stretto raccordo con il </a:t>
            </a:r>
            <a:r>
              <a:rPr b="0" lang="it-IT" sz="17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Servizio IDEM GARR AAI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messo in opera da GARR per fare funzionare la Federazion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L'Assemblea dei Membri è composta dai Referenti Organizzativi (uno per Membro) e dai Referenti Tecnici (uno per Membro) nominati nella richiesta di adesione alla Federazione . Il Referente Organizzativo si esprime con il proprio voto e con parere. Il Referente Tecnico ha funzioni solamente consultiv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1.   I compiti dell'</a:t>
            </a:r>
            <a:r>
              <a:rPr b="1" lang="it-IT" sz="1700" spc="-1" strike="noStrike">
                <a:solidFill>
                  <a:srgbClr val="000000"/>
                </a:solidFill>
                <a:latin typeface="Tahoma"/>
              </a:rPr>
              <a:t>Assemblea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sono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* la nomina del Presidente dell’Assemblea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* l'elezione del Comitato d'Indirizzo e sua eventuale revoca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* la proposta di candidature per il Comitato Tecnico-Scientifico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* esprimere il parere vincolante sulle proposte di modifica ai documenti costitutivi della Federazione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* esprimere il parere vincolante riguardo al piano annuale e al piano pluriennale di sviluppo della Federazione proposti dal Comitato di Indirizzo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14CC9-7BF6-4A41-AA82-0603D498B87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7" name="" descr=""/>
          <p:cNvPicPr/>
          <p:nvPr/>
        </p:nvPicPr>
        <p:blipFill>
          <a:blip r:embed="rId6"/>
          <a:stretch/>
        </p:blipFill>
        <p:spPr>
          <a:xfrm>
            <a:off x="179280" y="115920"/>
            <a:ext cx="18748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411120" y="-142920"/>
            <a:ext cx="80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STOMP_Forgotten Futurist"/>
              </a:rPr>
              <a:t>Partecipare ad ID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971640" y="1009800"/>
            <a:ext cx="7488000" cy="53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Partecipanti alla Federazione si distinguono i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Membr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organizzazioni afferenti alla comunità GARR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artn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organizzazioni esterne a GAR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Membri sono gli enti che tipicamente connettono alla federazione il proprio sistema di autenticazione e quindi i proprio utenti al fine di favorire interoperabilità con i servizi-risorse della federazione (alcuni membri connettono anche servizi-risor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Partner generalmente  connettono alla federazione servizi-riso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D4A61-0372-4DD5-93DB-59E9ED2B5865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411120" y="-142920"/>
            <a:ext cx="80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STOMP_Forgotten Futurist"/>
              </a:rPr>
              <a:t>Utenti e servizi-risor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971640" y="1268280"/>
            <a:ext cx="7488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C4C06-334D-4D95-A5B8-373220DB0FD6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2014560" y="2824200"/>
            <a:ext cx="52912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vare per credere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it-IT" sz="3600" spc="-1" strike="noStrike" u="sng">
                <a:solidFill>
                  <a:srgbClr val="ccccff"/>
                </a:solidFill>
                <a:uFillTx/>
                <a:latin typeface="Times New Roman"/>
                <a:ea typeface="Lucida Sans Unicode"/>
                <a:hlinkClick r:id="rId2"/>
              </a:rPr>
              <a:t>www.idem.garr.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...tra i servizi anche il wif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590400" y="118908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IL SUPPOR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È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revisto il supporto durante l'installazione di Idp e/o Sp, durante la fase testing o per inviare l'entityDescriptor del componente che si desidera far entrare in federazione scrivere all'indirizzo: </a:t>
            </a:r>
            <a:r>
              <a:rPr b="0" lang="it-IT" sz="1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idem-help@garr.it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(Maria Laura Mantovani coordina per Garr il servizio di suppor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supporto, IDEM GARR AAI,  mette a disposizione della Federazione i seguenti servizi specific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* rende disponibili il catalogo e i metadati dei Servizi disponibili: validità, veridicità e tempestivo aggiornamento di tali informazioni sono di esclusiva responsabilità dei Partecipanti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* fornisce alle Organizzazioni della Comunità GARR il know-how per la realizzazione dei Servizi attraverso attività di help-desk, formazione e aggiornamento; · fornisce ai potenziali Partner la documentazione e il supporto necessario all'interoperabilità delle Risorse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* mette a disposizione il Discovery Service (WAYF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* gestisce e mantiene il sito web ufficiale della Federazione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* effettua attività di monitoraggio e audit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1D5AC-F816-473C-A346-DC6A27FA6D78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62108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250920" y="-95400"/>
            <a:ext cx="8388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STOMP_Forgotten Futurist"/>
              </a:rPr>
              <a:t>Membri e partner in IDEM (28) </a:t>
            </a:r>
            <a:r>
              <a:rPr b="1" lang="it-IT" sz="2000" spc="-1" strike="noStrike">
                <a:solidFill>
                  <a:srgbClr val="000000"/>
                </a:solidFill>
                <a:latin typeface="STOMP_Forgotten Futurist"/>
              </a:rPr>
              <a:t>agosto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5" name=""/>
          <p:cNvGraphicFramePr/>
          <p:nvPr/>
        </p:nvGraphicFramePr>
        <p:xfrm>
          <a:off x="250920" y="907920"/>
          <a:ext cx="8353440" cy="5437440"/>
        </p:xfrm>
        <a:graphic>
          <a:graphicData uri="http://schemas.openxmlformats.org/drawingml/2006/table">
            <a:tbl>
              <a:tblPr/>
              <a:tblGrid>
                <a:gridCol w="3168720"/>
                <a:gridCol w="3528720"/>
                <a:gridCol w="1656000"/>
              </a:tblGrid>
              <a:tr h="38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Università (16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Enti vigilati MIUR (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Altri (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olitecnico di Mil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Area della Ricerca di BARI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ASPU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Ca' Foscari Venez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Area della Ricerca di BOLOGN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IL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Bari "Aldo Moro"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CERIS (Istituto di Ricerca sull’impresa e lo sviluppo) Tori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R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Cagliar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IFC (Istituto di Fisiologia Clinica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ISTA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Ferrar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IVV (Istituto di Virologia Vegetale) Tori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Milano-Bicocc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IIT (Istituto di Informatica e Telematica) Pis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Modena e Reggio Emil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ILC (Istituto di Linguistica Computazionale) Pis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Pado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(Amministrazione Centrale) Rom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Parm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Tori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Urbino "Carlo Bo"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egli Studi “Roma Tre”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egli Studi di Pav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Bologn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IUAV di Venez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Politecnica delle March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6" name=""/>
          <p:cNvSpPr/>
          <p:nvPr/>
        </p:nvSpPr>
        <p:spPr>
          <a:xfrm>
            <a:off x="4211640" y="6477120"/>
            <a:ext cx="484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919920" y="6121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EB403-2249-4D53-A253-BF1F38CD918A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6372360" y="4941720"/>
            <a:ext cx="187164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250920" y="123840"/>
            <a:ext cx="7283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Risorse (SP) in Federazione e </a:t>
            </a:r>
            <a:r>
              <a:rPr b="1" lang="it-IT" sz="3200" spc="-1" strike="noStrike">
                <a:solidFill>
                  <a:srgbClr val="2136ff"/>
                </a:solidFill>
                <a:latin typeface="STOMP_Forgotten Futurist"/>
              </a:rPr>
              <a:t>in Test</a:t>
            </a: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 (17+</a:t>
            </a:r>
            <a:r>
              <a:rPr b="1" lang="it-IT" sz="3200" spc="-1" strike="noStrike">
                <a:solidFill>
                  <a:srgbClr val="2136ff"/>
                </a:solidFill>
                <a:latin typeface="STOMP_Forgotten Futurist"/>
              </a:rPr>
              <a:t>10</a:t>
            </a: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) al 31/08/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0" name=""/>
          <p:cNvGraphicFramePr/>
          <p:nvPr/>
        </p:nvGraphicFramePr>
        <p:xfrm>
          <a:off x="179280" y="1197000"/>
          <a:ext cx="8785440" cy="5075280"/>
        </p:xfrm>
        <a:graphic>
          <a:graphicData uri="http://schemas.openxmlformats.org/drawingml/2006/table">
            <a:tbl>
              <a:tblPr/>
              <a:tblGrid>
                <a:gridCol w="3095640"/>
                <a:gridCol w="3240360"/>
                <a:gridCol w="2449440"/>
              </a:tblGrid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Biblioteche (8+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Collaborazione/e-learning (4+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Altro (5+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ILEA Digital Library (CILE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AAI WIKI (CASPU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SP di Prova (GAR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Nilde Utenti (BiblioAreaCNR-B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RR VCONF (GARR/CINEC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WiFi (UniT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thology Atlases (Masaryk University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Moodle-Shib (UniMOR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WiFi (UniF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ScienceDirect (Elsevi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YouBlog (UniT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WiFi (CASPU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Scopus (Elsevi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ALMA ARC (INA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WiFi (CNR Torin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SpringerLink (Spring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IDEM AUTH JOOMLA (GAR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ff"/>
                          </a:solidFill>
                          <a:latin typeface="Trebuchet MS"/>
                          <a:ea typeface="Arial"/>
                        </a:rPr>
                        <a:t>Richiesta certificati Personal/eScience (GARR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Web Of Knowledge (ThomsonReut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Foodle (Uninett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BestPractice (BMJ Grou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Internet2 wiki (Internet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Emeroteca Virtuale (CASPU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EndNoteWeb (ThomsonReut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IEEE Xplore (IEE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Refwork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gLibrary (INF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1" name=""/>
          <p:cNvSpPr/>
          <p:nvPr/>
        </p:nvSpPr>
        <p:spPr>
          <a:xfrm>
            <a:off x="4211640" y="6477120"/>
            <a:ext cx="484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919920" y="6121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31EB4-247F-498A-91B8-7771286B04B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3" name="" descr=""/>
          <p:cNvPicPr/>
          <p:nvPr/>
        </p:nvPicPr>
        <p:blipFill>
          <a:blip r:embed="rId2"/>
          <a:stretch/>
        </p:blipFill>
        <p:spPr>
          <a:xfrm>
            <a:off x="6840360" y="4659480"/>
            <a:ext cx="1872000" cy="128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9:38:38Z</dcterms:created>
  <dc:creator>sprotopa</dc:creator>
  <dc:description/>
  <dc:language>en-US</dc:language>
  <cp:lastModifiedBy>manto</cp:lastModifiedBy>
  <dcterms:modified xsi:type="dcterms:W3CDTF">2010-09-07T15:39:13Z</dcterms:modified>
  <cp:revision>84</cp:revision>
  <dc:subject/>
  <dc:title>Diapositiva 1</dc:title>
</cp:coreProperties>
</file>