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28B-4832-430C-8FE2-0FC3E85B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D5D-3E30-4E78-9F1B-6C4C7DF4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40AC-2837-4F71-8F4E-4199F29F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CE3-D916-4271-8DCB-3B16DF3B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BB1C-0A5E-44B6-ABAB-CA335E5A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4E3D-4C33-4573-84D2-CADF4EA2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8DCB-50B0-43D6-BE5B-6707734F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77C5-D07C-474C-AA9E-894CC5A9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BA0F-9512-4DB5-8EE7-6209CB0E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5BAC-BDBE-4CAA-A4DE-D9FEC252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41A7-E641-41A9-B123-DECFEBB0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232-FE6D-4191-BAF5-E1F01EA3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CB8C-4CB3-42A5-9E32-07DD8DEA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29FC-3A00-46FA-B4D5-9A223B75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1903-EEA8-40A3-A2DF-09B8B434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4859-2B15-41BD-990B-E467A017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6C27-3561-4F56-94F7-30F9E3B5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DB3-DF64-45B3-9B81-8C1186F2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54B-639F-48F2-A9BD-6F246A66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65F-E558-4617-8438-3D1DBD06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2AB-513B-408B-91FE-2CEA9812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CD4-1A55-411E-9CA6-7708ABE4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6D75-3EFA-4A81-A1E4-E06CCA5B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3E8-DD78-433C-BAA3-D175C29A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6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510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927080" indent="-31572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446200" indent="-3394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D42BB03A-F341-43A4-9860-BC68B06480CA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68360" y="6165720"/>
            <a:ext cx="822960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11280" y="1219320"/>
            <a:ext cx="7923240" cy="2496960"/>
          </a:xfrm>
          <a:prstGeom prst="pie">
            <a:avLst/>
          </a:prstGeom>
          <a:noFill/>
          <a:ln w="255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497400" y="5289480"/>
            <a:ext cx="221904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6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510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927080" indent="-31572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446200" indent="-3394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A0DF-28BB-48AC-87DF-40B5E804EB66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50320" cy="104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Verdana"/>
              </a:rPr>
              <a:t>La verbalizzazione degli esami: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Verdana"/>
              </a:rPr>
              <a:t>linee guida per la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Verdana"/>
              </a:rPr>
              <a:t>dematerializzazione del processo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54240" y="4140000"/>
            <a:ext cx="489600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f. Cesare Stefanel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iversità di Ferr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esare.stefanelli@unife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5" descr="logoICT4University"/>
          <p:cNvPicPr/>
          <p:nvPr/>
        </p:nvPicPr>
        <p:blipFill>
          <a:blip r:embed="rId1"/>
          <a:stretch/>
        </p:blipFill>
        <p:spPr>
          <a:xfrm>
            <a:off x="507960" y="3990960"/>
            <a:ext cx="2324160" cy="118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6348240" y="3887640"/>
            <a:ext cx="2482920" cy="137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0FF2D95C-C199-482A-BD8A-71336FB8D7B7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7) Firma del verbal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4250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verbale attesta esito es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bale può essere redatto 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irmato anche non contestualm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llo svolgimento della pro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È lecito individuare un unico responsabile del procedimento amministrativo nella figura del docente verbalizzante che fir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on si richiede la firma dello stud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688F81F5-6DF2-497D-8B2C-0687EEA087A1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8) Consultazione del voto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tudente deve poter verificare l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gruità tra l’esito comunica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al docente e quanto effettivam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balizzato e inserito in carri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deve fornire un servizio autorevole di consultazione del voto per gli studenti (mediante il portal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Gestione dell’annullamento (o modifica) di un verba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D887E8BF-8151-46C2-B0E9-87FD4BF4D35E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Tecnologie per dematerializzare processo: Autenticazione docenti/studenti</a:t>
            </a:r>
            <a:endParaRPr b="1" lang="en-US" sz="26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Autenticazione stude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Aft>
                <a:spcPts val="1001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ername/pass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Autenticazione doce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ername/passwor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ername/password e P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ername/password e certificato di autent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ttenzione: usabilità e costi organizza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1CADE695-36BA-4798-A737-1C870AB9927E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Tecnologie per dematerializzare processo: Redazione del verbale</a:t>
            </a:r>
            <a:endParaRPr b="1" lang="en-US" sz="26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1765080"/>
            <a:ext cx="84247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verbali richiedono conservazione perenn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bali redatti in formati appropriati per gestione e conservazione (suggerito PDF/A1). Attenzione ai metada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sistema deve precompilare il verbale, per minimizzare informazioni che docente deve immettere (usabilità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2C9F066E-B19A-4C6D-BF96-DE131590953F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Tecnologie per dematerializzare processo: </a:t>
            </a:r>
            <a:r>
              <a:rPr b="1" lang="it-IT" sz="2400" spc="-1" strike="noStrike">
                <a:solidFill>
                  <a:srgbClr val="006633"/>
                </a:solidFill>
                <a:latin typeface="Verdana"/>
              </a:rPr>
              <a:t>Tecnologia di Firma per il verbale</a:t>
            </a:r>
            <a:endParaRPr b="1" lang="en-US" sz="24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353960"/>
            <a:ext cx="842508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bale firmato digitalm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ertificati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irma limitati a specifiche attivit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funzionali (es. firma verbali) o a determinati contesti (es. ambito universitari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ecnologie di firm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7160" indent="-305640">
              <a:spcBef>
                <a:spcPts val="499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irma con dispositivi personali (alti costi organizzativi per impatto su Client di tutti i docent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7160" indent="-305640">
              <a:spcBef>
                <a:spcPts val="499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irma “remota” con dispositivi Hardware Security Module - HSM (Server centralizzato che ospita tutti i certificati di firma dei docenti) [dpcm 30 marzo 2009]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7160" indent="-305640">
              <a:spcBef>
                <a:spcPts val="499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la firma richiesto anche uso di OTP e/o S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D2E6DB55-FE88-47DB-BEB7-F70197A8AF77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I costi della verbalizzazione con </a:t>
            </a:r>
            <a:br>
              <a:rPr sz="2600"/>
            </a:b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firma digitale remota</a:t>
            </a:r>
            <a:endParaRPr b="1" lang="en-US" sz="26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201680"/>
            <a:ext cx="842508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ineca ha fornito una prima stima dei costi per la verbalizzazione digitale per il prodotto ESSE3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sto del motore di firma digitale per i verbali (circa il 10% del valore del canone di ESSE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sto manutenzione del motore di firma digitale (ancora da defini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sto certificati per firma digitale remota (da 11 a 13 euro/anno per certica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Gestione dei certificati (rinnovi, scadenze, etc) (5 euro/anno per certifica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servazione sostitutiva (3.500 euro di attivazione e 3.500 euro per conservare 500.000 verbali per 10 ann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12D690C8-4458-4D68-877F-CB45DDF044C2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Conclusion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linee guida sono il frutto di un confronto tra le 26 università del tavolo tecnico con il MIUR e il DD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standardizzazione del processo è fondamentale per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ttimizzare i costi di realizz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gli applicativi per la gestione e conservazio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77720" y="4152960"/>
            <a:ext cx="489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ntat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f. Cesare Stefa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iversità di Ferr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esare.stefanelli@unife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64AF1542-2FE0-4563-96C9-517172281870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Premessa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Queste linee guida sono il frutto di un ampio confronto all’interno del Tavolo Tecnico ICT4University – Università Digitale, con MIUR e DD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siderazioni general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04760" indent="-380880">
              <a:spcBef>
                <a:spcPts val="550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è fondamentale standardizzare il processo di verbalizzazione esami prima di informatizzarl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004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004760" indent="-380880">
              <a:spcBef>
                <a:spcPts val="550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quali nuove tecnologie per autenticazione e fir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4A376BDE-144C-41F3-8892-06E1432AB2B0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Workflow processo di verbalizzazion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0.53125 -0.25648 E">
                                      <p:cBhvr>
                                        <p:cTn id="6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</p:cBhvr>
                                      <p:to x="51000" y="5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05E6C1A6-0045-4DC0-9BCB-21465D0FDD9E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1) Definizione appelli e commission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507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orte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integr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n offer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ormativ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ridurre impatto sui doce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evitare error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controlli a mo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1)Def.appelli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5A4156C7-1344-4D55-862D-A1C857964462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2) Gestione liste di esam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Gestione liste per docen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scrizione appelli per studenti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ichiede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orte integr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pplicativi di gestione carrie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tudente, con possibilità di eventual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trolli bloccanti (es. propedeuticità o pagamento tass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7927D436-7964-4002-993E-86C4AFEEED7D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3) Svolgimento esam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7643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volgimento esame, scritto e/o oral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nche con prove multip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stema deve supportare efficacemente tutte le possibili modalità di esa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26F04E2D-A390-4B4B-8878-5B4FFB90170C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4) Voto e comunicazione allo student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finizione del voto e inserime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el sistem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o studente prende visione del voto                       sul portale, verrà avvisato della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     pubblicazione voto attravers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31536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ail istituzional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31536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C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31536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MS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noti che la presa visione non lascia traccia documenta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8E65F58B-F7C1-4ED0-B6A7-C32292344661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5) Accettazione/rifiuto del voto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se 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opzion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perché il vo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otrebbe essere imposto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 è prassi generale (a vol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finita in regolamenti interni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are la possibilità di “rifiutare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 vo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blemi legati alla (mancata) “presa visione” nel caso di esami non in presenza: definizione di una finestra temporale (per esempio 5 giorni) trascorsa la quale inserire il voto in carri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300720" y="907920"/>
            <a:ext cx="2664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BD29E69B-F39F-475C-8441-369CA7D9991D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6) Redazione del verbal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587240"/>
            <a:ext cx="69645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Quali informazioni nel verba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i obbligatori: denomin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segnamento, membri commission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dentificativo docente verbalizzant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dentificativo studente, voto esam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e: appello, esame, verbalizz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i addizionali: argomenti di esame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1:19:12Z</dcterms:created>
  <dc:creator>Cesare</dc:creator>
  <dc:description/>
  <dc:language>en-US</dc:language>
  <cp:lastModifiedBy>wifiUPUAS</cp:lastModifiedBy>
  <dcterms:modified xsi:type="dcterms:W3CDTF">2010-11-12T09:08:14Z</dcterms:modified>
  <cp:revision>22</cp:revision>
  <dc:subject/>
  <dc:title>La verbalizzazione degli esami:  proposta di processo dematerializzato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