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120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84"/>
          </p:nvPr>
        </p:nvSpPr>
        <p:spPr>
          <a:xfrm>
            <a:off x="-360" y="8680320"/>
            <a:ext cx="2963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Federazione IDEM - Finalità e Vant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8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1215E-C6E7-4288-BE87-D897964FD5D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progetto-idem.idem.garr.it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www.idem.garr.it/index.php/it/servizi/idp" TargetMode="External"/><Relationship Id="rId2" Type="http://schemas.openxmlformats.org/officeDocument/2006/relationships/hyperlink" Target="https://www.idem.garr.it/index.php/it/servizi/sp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62591-6CCA-4465-9CC3-9F2F48B2FF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D594E-0097-4F39-9203-2F03DD3850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80EC0-0324-45B2-A6F0-5C268FD26F0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493B3-DFD6-4FF5-AA3D-991A51F88B4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0E6D6-4185-4254-84CB-4023F5341A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11C9-951A-4BFD-8D0D-80B68FA222E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4144A-CC15-44C8-A077-90F5041F11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B0970-6C08-419A-AD6D-A61DF10E12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toria di ID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a Federazione IDEM nasce sulle basi poste dal lavoro di 2 anni (2007-2008) effettuato dal Progetto IDEM. Il progetto pilota del GARR per realizzare un'Infrastruttura di Autenticazione e Autorizzazione federata si è concluso con successo il 31 Marzo 2009 giungendo all'attivazione di 20 Identity Provider e 10 Service Provider. Il sito del progetto è raggiungibile all'indirizzo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progetto-idem.idem.garr.i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obiett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della Federazione Italiana delle Università e degli Enti di Ricerca per l’Autenticazione e l’Autorizzazione sono quelli di creare e supportare un framework, comune agli enti di formazione e di ricerca italiani, per la gestione condivisa degli accessi alle risorse on-line. Per raggiungere questi obiettivi IDEM favorisce lo sviluppo di una comunità basata sulla fiducia reciproca, cosi da facilitare i partecipanti a prendere decisioni appropriate, per il controllo degli accessi, sulla base delle informazioni fornite dai partecipanti stes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B5E24-BF6F-4BC2-AF53-7DB8B914FD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43DA1-7544-4DC3-A0CF-68836D82E6D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5DF5-C65F-4214-B85F-8E644065A7E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della Federazione IDEM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vengono classificati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Servizi di gestione e verifica delle identità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I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isorse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SP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Membri registrano principalmente un Servizio di gestione e verifica delle identità, ma possono registrare anche una o più Riso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Partner generalmente registrano una o più Risorse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A27A1-0AAD-4E67-827E-6388D0C0E0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B708-DF4E-4516-B61D-1A39DF84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7A5C-D232-48CC-B635-8A24104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366BB-A659-480D-AD87-15BB8C7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5243D-78D3-42DF-89FA-04DF1C9D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8861A-69C2-41DC-8F80-EA0FED61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50301-F135-4140-A98B-90CF7BB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5D18E-5E85-4FE6-868E-C9E59BF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E3078-B0BA-4E3D-881F-B0BFCEAB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61DB0-5820-4D31-BA14-117528A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6211E-EA56-4AAD-9E9F-13CBACD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2779F-AB70-443F-8BCC-4A5793E0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9B1D0-D27F-491A-A675-777F9FE9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A5AE4-8F87-4405-9F92-6F589278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ACDF2-5CA8-4974-B4C6-BF480826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94884-C3A4-4DD5-88F2-A3AB471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DF3D4-E515-4B71-ABFF-D47E33F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7F60B-3F4E-459F-B20A-6333CB2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197D0-292F-40C9-96E5-FAB789E4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88842-E5DA-4CEA-ADB9-C84445F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8E5E0-0B9C-4FC8-A4C7-0DB3405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F6BC4-924E-4110-A830-DFE5014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820D0-DB68-4E6A-A02D-8EC13DC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96337-A269-4405-AD96-E976EADF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A6F2-6078-488B-8BCA-086904C8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585D8-177A-481C-ADE7-E4EF2B46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DD2F93-0554-410B-A2E2-47C3F44F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0F7056-553E-411F-9969-B6B8790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178012-4E5B-4DA5-AF6A-A1D5735D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5756E5-033E-417F-A6FE-0B16F598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CA1AC-81EB-4FC6-A2EE-D06046D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3D0FAC-3A08-4918-B4CA-98D21C6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AED84B-CDA8-4822-B75B-719752B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D50880-E299-4E65-AE5C-DAAEB32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2A8063-089C-4AD4-B10C-A083700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D791-506E-4221-92D3-C4E3017F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4CBA56-E250-48E1-9C04-9609CDC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26442-DA34-4597-8758-B7B86947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7B8EB1-EB0F-4E7E-961A-E89DEF16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69275-EFFB-4D9F-88A1-30140376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66259-29ED-4BA7-83F3-31F5D5CA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7944F-7A1D-4EE6-B484-18303FEA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6E7F5-FB66-4425-A999-E7F1AE5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3226F-BC0F-493B-9256-EEE99982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E5260-159E-4535-B680-55C2CD01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6B9B8-8341-452E-9A97-D8FA870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6294-38D0-4DDB-948E-8DFB7647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9C6D9-6837-4715-90CA-4C21F06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C43F4-FD49-4AED-A66E-411958A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36499-816E-4623-AD44-DA8AFD9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2B989-AA3F-4EC2-9EAD-652C23F6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5A4B4-BD01-4212-9EAA-6AB87D7F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017575-8416-42DB-B9B2-F6CAEEA5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29ADFF-C201-4647-846E-E17B56E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28ADE1-88ED-453E-B32F-F814560C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DC024B-525F-4C21-B494-E83E673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F4B5B9-3975-46D4-A42D-DA7031D4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044C6-72C6-4226-9FE8-FFCAB92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B9F8EC-8740-4B49-8845-88FC5615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F60331-B16F-4C9A-AC41-3D0A366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8A3FA1-95A6-481B-B397-8C08065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0921C9-6DCD-4581-BE05-469FEF7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B498E6-E442-47FF-B873-8D96813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24CC11-F2FA-4624-BCF8-C08EB213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158738-2BD9-4DEE-B185-A404687C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6B1391-611B-490F-AE0D-793AA0B3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0BC0DF-3817-4716-B9F6-5C0A84FA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2CDE93-484C-4663-A586-0585ADC4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5B39C-BA30-401C-9906-6BA6CAEE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868149-BBD9-446F-B358-5F820DE8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BF1352-C285-4692-A19E-4AB84AF5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DC1C6B-D793-4A16-BF9E-970B295D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0B5728-0582-4AF1-885D-8CC8C95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4597E2-AF33-493F-B2F4-E410AE30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71AC85-3F21-4A6F-9971-360FEEB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0E436E-05F5-4F71-9BDD-362C93C6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D003C4-85A0-4BFF-A071-CD0A2351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C6C37E-C701-43AF-900B-4870EA20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39F610-6A95-4507-A333-25E5E10F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5F93-CCC6-4653-8938-434A44C4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7F6556-8DDD-4406-849F-A0CA961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7AFA61-81AF-4437-BA45-02B044B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E36C1C-1C3B-4FFF-B7FD-238D402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E3671E-3C08-47AF-8F4F-05FAE19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6134EF-68C9-4C2D-B73D-4B50A65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0D6579-D3C1-474F-B130-73BEC148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DCFEA5-E0B9-41F9-AE79-8894241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0E5F8A-5B77-4DE0-9008-50371298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8D599D-AD33-4144-BE6E-4162FC22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EBF640-9D1E-4DC1-81D5-2F01E5FB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59F2C-A268-4AA7-9454-71FE9802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CB9F74-0C59-42E1-B073-48283362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4C5F6B-DB60-4D64-B3A5-130C37390D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5BB27F-C9AE-4A15-9C2C-47DED64643A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54E84D-84E7-4B02-9CAE-918C13D7112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B499F3-E8E0-4996-91B5-899F2C48DC9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2ACF9F-A240-4A74-982A-00EE7C07FEE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C67843-E6B6-43D2-ACC4-9D54706FEC3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C64A5A-1EBE-4DE9-AE5C-5B7199243DD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7FE125-0BC4-4D71-AA1F-EDAED2155C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A6A816-7320-48D1-8C3C-1107C0CC0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676B-34D8-40FC-B016-6E3DD928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038308-E5DD-4C48-B9A1-DD46A8F4663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9DD90A-4D66-4350-ACE8-20B9F503452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9FEBE0-F7BA-458A-AD6A-77AAACEFA4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10E4-79EC-4270-82AD-9AEB98FC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6A487-532C-4859-BD3C-10E3269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C6BD90-A670-46D7-9DEF-6E93E3BA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069B5C-1125-45DD-8E98-3B6DA3B6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AF01A4-425E-446D-B957-1AF4F31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93BFD5-9390-4E06-B22B-C813D8C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AE9D5D-FF97-4876-B025-CA42D43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F1BC8-3881-470B-97B5-A7F6DD7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50ECEA-3B68-4F9F-8776-08C9708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7B3BCF-C6CA-4E08-8198-0CB9903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41B4C8-28C4-4AC1-8721-CB2976F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5771C7-4019-4C9E-8DDF-E35EA64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604843-731F-4F50-AA9B-E13AF3CE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980B16-652B-4D1B-B9D5-771C8985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9A90C9-3F55-4981-AD79-F667C44A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FBD660-32BD-4E1B-802C-5E5FB987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436EDE-E300-471B-94B0-8C6C8592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FB79AA-2DBF-49CC-B731-7DE026A4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0B789-8A81-4BCC-A41B-73C64E6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8BEEE8-BE6D-42D7-8BD7-75363A1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FED401-B1DB-40EC-AA66-EE8E549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A5310C-2587-4D46-88F9-64AB2761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575B81-5CBB-4000-A86E-0748049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E429AA8-F642-4FC4-B3FC-A230C5A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6821B4-3FC2-4C55-AB3E-6B844A9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15C0B1-AF78-433D-B4C7-3975DE6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28C261-E3DF-472E-B6C8-8064813C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E3DA3E-0F9A-4DB2-83E7-0A4F35C0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39203F-8EF5-4EDC-A1A6-71D83398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0EC6-7622-4A28-BCF7-0D3017D0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E19097-0C04-40C0-A090-998AB71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5534DF-291E-4AD3-B293-87565BA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85D63DB-0337-408D-BD5F-725EC1E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F0E471-AD1B-45FE-A736-67727EA3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686852-FFD2-499F-AA32-C8ABBFDD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31166F-AA81-4AA4-90BD-3B2119E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4C90B2-27F1-4643-9A01-6F63247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0646F1-C1E3-4234-A2C6-02800B7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40DEDB-87E0-4C68-8E0A-912594FE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FA7EB2-D0B3-4CDC-AEC6-F25A4E9F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12220-5A37-4BFD-B57C-F8517BEA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178D79-EA8F-4298-8C9B-FFCEF4D4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254820-FB5E-4B59-A960-A0101594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D73579-F84F-4F16-BBC8-19C0837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C924820-A764-47EA-9536-0AEAA821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8935C3-901C-4487-ADC0-8D3400E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2BBDFE-AE54-4BAD-B7E5-A3A0463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3F15E6-4551-43DA-B69C-2F70970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77E64A-EDE8-4FB2-9378-8FB8FBD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1BB207-D0B9-46E7-A9B2-0C8E4BF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050196-3FC3-4ADB-8511-1B2C2EA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C0039-834B-439A-8027-6294424C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DEB7B6-AD14-4CFD-9ACE-993299D7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C8CEA0-1810-4EDE-B27E-00138D6A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CE9A4E-A925-47C7-B715-6F71C124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B9AA46-71B2-4A3D-9364-43708B7C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49797A-A363-44E1-B171-6219B4D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06B40A-5827-4C0D-AE39-4D79472A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A2D429E-E085-47B1-AFE0-EBF4BD80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455192E-EB93-4274-AA88-EF5C197F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F0CB03-B086-424B-A94C-D6E5D2A6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0D43C8-BFAD-44C1-88E2-E4CF66C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C86D4-4E00-425C-AE78-D2B8579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9A5081-4E59-49B2-853D-16FB9BE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BFE931-1AD4-4F7D-AEAD-9418A98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7AB6A6-FA5A-4F43-BDFC-257671E6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41CABD-D6A1-43C4-B8D5-B31AFFBA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FD3FBB-633E-46BF-B921-A22753CE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10298E4-697A-490D-A0D6-FDC4B659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A7E92DB-69C6-4ABF-BD62-F75B69BB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BDE82BB-7F51-4577-8629-EC6A76B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2B0401-4A43-4D82-B661-C8F2575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9078D5-EA04-40D6-A41F-11E1B49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A69A4-476A-42CC-AF56-A0440AA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588ED2-9218-4817-820E-0D8F5813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C33B18-9397-434E-80A8-EEEE1EB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374AE39-E9CB-4025-9092-051F302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1DD07F-5CE4-46D7-9EED-5AC8E77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BCBCE94-A330-4D29-8033-9B8C718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06817E-B43E-434F-A1A7-3F0D809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12D3DA2-D47E-43FD-99EF-9B23A9BF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7C8E40-0F98-45BF-A5C0-4D1D459C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2E6396-A467-46DD-A13A-8A2A66C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8B71393-0864-4B85-8245-7BD2BC3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B1207-3068-4444-9E67-BBB58EC9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A47654-1F8F-41A4-B6D8-2C8A7960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8D5B54-3A74-4502-AF4E-2470C7F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4A68B4-A7CF-4A78-AD00-679D78C4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6B67FE-7EFB-4353-8BCF-28CF9B7D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A10C3F-D5B9-4752-BD43-08C2CC9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C986B62-7924-4D5B-B403-A2CC7C6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F908F0-6F93-49E4-B272-9976ACDA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EAE1AF-BEB4-4851-A738-0026931F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AC4A60-CE60-4BB1-9079-0ED45BF7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F305BF-E7FA-4EFB-8213-1AA88F6F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77456-2F07-4E67-AE70-5211F2C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D178A8-37F3-41C8-8672-0CA72B5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25AC8E-5FC1-49ED-BD64-7D1BBBF9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CD4B73-8149-43D3-8092-137F6679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0E32F51-10B2-42B8-84F7-6266B88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809FA5-E63A-40D2-9F76-E75873D3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E7D5A0-7AB0-43C8-BA3D-FD4D8943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254502-AACF-4B05-A9CE-FAF23AA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80D1FA-97F6-4DF8-9831-EB795FE7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0A4156-8DEF-4260-888D-56ACFE0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BC61F1-0FCF-4A14-BB20-D2CFFA1E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6F81-3030-489C-98BA-8839EB8F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9BEA3-7D0D-4B7E-9543-08B7101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907A53-2218-4B44-874D-63A72D1F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44C248-E797-405B-91A9-AFFE7AB8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503506C-D38E-442A-A46A-A43B8DE2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5BA069-67A9-44F0-BA6E-285BEB5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25F8C05-7625-41DA-8541-63F88A32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C4E852A-236F-41FF-A437-FDFB620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1C4F4A-09A4-40AD-8D5E-320D502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E36A7A-EA46-47C5-9DF6-98916FBC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F53587-1F9E-494F-9500-590AF3F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1638D8-A3F4-48C2-B0CF-4B4793A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4EDAC-11AA-4052-AB5B-087976B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C35CD5-8D53-4B38-A98D-03EE994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7878D5-571E-49CF-BB42-BC7BFB56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308B82A-87DD-4365-B341-F319F29F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90A843-FA99-43FC-977F-D94CD6D7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B15C1C-30C9-4155-A716-89323E8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DE1F7E-8810-4D23-9159-2A8BB7E4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1757BD-85B9-4BEA-9959-6148E4D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C8822E9-2287-4374-BF74-467C605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D90995-0927-4CB5-9963-B0224FD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8C7BE4-2E27-40D4-9335-3753A30F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07ADE-DF6C-451A-B3A6-92CE663B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3EF254-4843-411B-B4AF-FE4D173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34D002D-BAB2-4D48-AD95-4078DF9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75EE08-A162-455A-8738-5778891F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308FFBC-1DBE-4439-A58B-5716D458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1FD2AE-E7A2-41C7-8E0F-4E049F49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70D63-FEA2-4184-9867-3AA79A09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A60DD2-B93C-4E3B-8C0E-558F945D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D545FD-1FC8-4A24-917F-FBB59B7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AA9524-761E-46E1-874B-27FFBE74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E4758-D55C-4F70-81AE-897909D1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88351-F577-4047-8D97-6F407EB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17E07C-41E9-43AD-B8EA-4449702B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B910CC-3605-442E-BA03-0FE197B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56AF6-1B71-4F0B-B17D-758A2AD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EF7FE4-7CEE-48FA-A566-1FFC085A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B88652-95D2-4350-B701-3A8EE01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496E7A-0EBA-4DA1-8897-ED6FB5A9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D8043C-5BF5-4C3D-BB8F-572B607D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3B1CCA1-DF98-4430-A67E-417875026E9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998AD5F-E561-4347-9B2D-641B4CA762F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5996FF4-55CC-4DA8-A8BB-487664A79A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411F2-9B02-4A3E-A28A-7F12F74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5F7715-C2D7-4A63-BB5E-45768896512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27F7074-4883-4113-ACCF-7A7A2903FA1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F6E382E-6567-45CC-A541-F669B8EAC07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0A4FF52-E06A-48BD-9422-983923672A4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E6CC9A-8703-4C19-B32E-94DDB28A181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423394-C6F6-44D9-9131-724F04720F11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6404FF-3DEA-416C-B2D7-0FCD8DD53F6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1DB1580-D6F9-4061-BBDA-08A9028E995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729D67F-4175-41A7-B161-6FEF98FDA1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0F710-FDBB-4DE5-8334-F5C831E4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EF940-DF3A-4AE6-8948-BB8863A0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DDE5-E86F-4E10-B667-6EED9095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E07DF1-2086-4C27-BB86-DB159FBD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F36D-53B2-43B4-9721-BB82399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3E5ED-9D38-45DA-902A-1535CA96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7374E-B93C-4AD6-93A9-FB036F1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F310F-E1CD-444E-8C95-0791BD6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6DD14-6BAF-4E7A-A1C7-E022C11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6B40CF-2EDA-4CBF-BD42-D0E33F34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5BECDF-97AB-44F9-A2C1-2C010E2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7D01F-5EA6-42AC-AAF5-D858CBDA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1C508-AA29-4903-A082-7DDCC8BB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7EF07-95BC-4057-B04E-44E6AAA7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FC4C5-C57F-4566-8830-56FE3072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151F-DA3D-4E03-80EB-FC152F01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E000E-AA0B-41DD-8591-8107A769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42983-DA2D-4686-A96C-B36F22D0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28679-8780-45FC-A28C-A1209C41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2C6361-2925-4094-9E09-0F2032B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2FBF5-C453-4E0C-930B-41CC0668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6B71F1-2965-442F-B68E-423402EA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951E74-6142-45E5-86AE-6729871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7B3D29-7861-440D-8A34-A35094B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BF0CAE-8299-480D-B86B-0361BC66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DE0DAB-175F-4018-A3B5-8FF9CE69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A98A-2339-482D-BA31-53B505F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3E8B7-7A6C-47E2-8F7C-4D4E9893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BC9EA-3604-40C3-B675-B5C0669E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427EF-D1DD-4823-8E14-47E2A1A6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CAB63-7E4D-4842-9158-483FD0BE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76BC9-9D99-4EBF-8DDA-771C91A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019857-673E-4125-993E-7516A87F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C7EFF3-694A-4BCF-B46C-0BCB64DD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B38C5-A0A1-49D6-9BD9-C338E7C4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9292B8-D150-45C1-9A39-02B1F0F2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3F64F-A175-4FD1-860C-8B072D4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F4AD-9EA4-48AB-9A77-93A2662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CEF13-3019-478E-BC00-169CA5E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5D276-7920-4E34-9437-74E6796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68BCB-CF29-4E6D-935F-FE9C968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54923B-5687-46BA-896A-21DBCDDA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95FC24-FD17-4884-AEC0-E69465AF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E1FABE-6321-4D09-9808-C6A475FD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4FDCE-C334-4AA6-A2BC-26285C1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ADECB-658B-499B-A540-CF19E2EB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4760B-4BD6-48C3-AB24-D7A44EFA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A03D0-ACB0-4F58-A354-049B272D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573A-B84F-4AED-A254-6950137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71D08-C1EC-4A13-89D6-EED4526C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F5DBC-DB1B-43C3-88FF-934B2CF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B0FF0-5977-462E-AA01-475B36A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C4AB4-C46E-4122-9278-0A7A265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DD469-3264-4568-ABD4-607379B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2D96D-405E-4331-8B3E-6C33B458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41ACC-51F7-42FF-9F76-B1ECE584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020E3-1BFF-432A-BAC0-73994B80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607BC-81FD-4681-A3D0-E645DEA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ED52B-4F6E-4C4A-A9EE-17751E0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GARR ICT4University - idem@garr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59232-C993-4B9A-B354-B263903DB07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7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ED565B-A4C3-4D52-8724-480AAFCC13F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6F7017-B5B3-4BD4-81A0-2862B9AE31B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FE8150-12A4-4AB6-8F7B-4412627E1295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C3AAFC-06B1-4F45-B682-3646EE3A9BF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15BEBA-2824-4821-8FFD-E187BDEC129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2040"/>
            <a:ext cx="2887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C668A8-2B06-44B0-9A61-18D5CC6E6DF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5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6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FCBF36-A120-46DB-8C7A-2D20DB5F0B7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F0DF16-24A0-4221-8F0B-49FA2C78348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5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5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5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B2C70D-163B-4B2A-A40B-C66AE3CF0721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dt" idx="5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15CEAE-776C-4142-98EB-12677DD9276C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5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5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B4A32B-662B-477D-9D06-2AF16EF213DA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5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5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5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FE2730-EA80-420E-A3BA-536E85A648A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dt" idx="6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6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6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036A22-C6BA-45F8-89A7-B8F709EF1FE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dt" idx="6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6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6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0DA27A-C865-438B-B873-615D80DF0F8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dt" idx="6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6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6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B44529-F6D9-4A48-BB56-5053F9AF86E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dt" idx="6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7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7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46C1D2-AF5B-4B60-9258-71B802BD41F1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dt" idx="7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855693-C45D-40FC-97B8-780E50E67B0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ftr" idx="7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7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898529-331E-45F2-A1D1-14277D470378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dt" idx="7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9E2337-77B9-445C-A358-8766AA5D2B73}" type="slidenum">
              <a: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ftr" idx="82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sldNum" idx="83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0F57EF-B98B-4161-A884-CEFA77CB0DD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-228600"/>
            <a:ext cx="804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4800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2556000" y="6254280"/>
            <a:ext cx="6416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854400" y="5775480"/>
            <a:ext cx="212580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FEB2A2-F09B-49AB-B45D-36B83C2E6E8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1692000" y="6470280"/>
            <a:ext cx="73105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4E6785-2DC9-4CE6-B033-C98544A9657D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B60268-D157-4508-B889-E44F87F2E88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EC0E5B-D561-4D35-8D7A-C2004F91B75D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B15952-AF9C-4700-A49C-88A53E5941D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B193FF-D4F7-4926-9F7C-1BA201E2748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efeds.terena.org/index.php/Federations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idem.garr.it/index.php/it/chi-siamo/assemblea" TargetMode="External"/><Relationship Id="rId3" Type="http://schemas.openxmlformats.org/officeDocument/2006/relationships/hyperlink" Target="https://www.idem.garr.it/index.php/it/chi-siamo/comitato-di-indirizzo" TargetMode="External"/><Relationship Id="rId4" Type="http://schemas.openxmlformats.org/officeDocument/2006/relationships/hyperlink" Target="https://www.idem.garr.it/index.php/it/chi-siamo/comitato-tecnico-scientifico" TargetMode="External"/><Relationship Id="rId5" Type="http://schemas.openxmlformats.org/officeDocument/2006/relationships/hyperlink" Target="https://www.idem.garr.it/index.php/it/chi-siamo/serviz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dem-help@garr.it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417600" y="1677960"/>
            <a:ext cx="77724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it-IT" sz="2800" spc="-1" strike="noStrike" u="sng">
                <a:solidFill>
                  <a:srgbClr val="ccccff"/>
                </a:solidFill>
                <a:uFillTx/>
                <a:latin typeface="STOMP_Forgotten Futurist"/>
                <a:hlinkClick r:id="rId2"/>
              </a:rPr>
              <a:t>www.idem.garr.it</a:t>
            </a: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 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Presentazione realizzata per workshop “ICT4UNIVERSITY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12 Novembre 2010 Napo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14360" y="568944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Ing. Angelo Sacc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71C7-EA22-40DD-8957-CDC96DBD94C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148360" y="1979640"/>
            <a:ext cx="1871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11120" y="1079640"/>
            <a:ext cx="82296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iziative analoghe a IDEM sul piano nazion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CAR (Interoperabilità e Cooperazione Applicativa fra le Regioni) è l’azione interregionale finalizzata al coordinamento dello sviluppo in tutti i territori regionali della cooperazione applicativa secondo le specifiche SPCoop. L’azione è stata avviata in forma di progetto iniziato nel 2006 e concluso nel 2009 e ha definito e implementato un modello condiviso di infrastruttura territoriale e lo ha sperimentato in 7 ambiti applicativi. Dal 1 luglio 2009 è in corso l’attività di manutenzione e sviluppo dell’infrastruttura e di nuovi applicativi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Gestione identità fede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ono 18 (una in più dello scorso anno) le Regioni che intendono realizzare la Gestione delle Identità Digitali Federate, in 10 casi attraverso l’adozione della realizzazione ICAR. Il sistema è già realizzato in Emilia Romagna e Toscana, in corso di aggiornamento presso la Regione Campania, in corso di realizzazione presso la Provincia Autonoma di Trento e la Regione Valle D’Aosta. FedERa è il progetto che in Emilia Romagna si pone l’obiettivo di garantire la circolarità dell’autenticazione tra gli enti, permettendo a cittadini ed operatori della CN-ER di utilizzare una sola credenziale per accedere ai servizi on line disponibili sul territorio. Il progetto ARPA, sull’infrastruttura CART e a servizio della RTRT, costruisce l’identità federata sul territorio della Regione Toscana, federando le identità tra i diversi soggetti che offrono servizi. In Campania è il progetto SPICCA che ha consentito di individuare la soluzione per creare la federazione degli enti al fine di erogare in sicurezza i servizi presso la comunità regiona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niziative loc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lcune amministrazioni comunali hanno stipulato accordi con gli enti locali (Università, biblioteche) per consentire l'accesso ad internet con identità federate (Modena-Carpi-ReggioEmilia, Trento, Ferrara, 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25C6F-C08D-4C40-8F76-79C959A7DA2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3"/>
          <a:stretch/>
        </p:blipFill>
        <p:spPr>
          <a:xfrm>
            <a:off x="42840" y="-304920"/>
            <a:ext cx="9186840" cy="76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-39600"/>
            <a:ext cx="826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Le Federazioni AAI in Europa e non s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81B91-4A0A-42F2-A99E-950C5B16D72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1835280" y="871560"/>
            <a:ext cx="5973480" cy="553068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250920" y="270828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Verso 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Confeder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28480" y="2095560"/>
            <a:ext cx="4330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COnet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ustralian Access Federation A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Canadian Access Federation C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WITCH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Z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duID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FN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K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WA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édération Éducation-Recher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AI@EduH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F07B-E5BC-466E-99C0-40FAAD7DCED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4859280" y="2160720"/>
            <a:ext cx="3600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ID.hu (HREF Feder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g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JP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P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V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RF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CTS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W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 Federation for Education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d Re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Comm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64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iziative analoghe a IDEM sul piano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refeds.terena.org/index.php/Fe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979640" y="5172120"/>
            <a:ext cx="648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in corso l'iniziativa EduGAIN per l'interoperabilità delle Federazioni nazional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eduGAIN service simplifies access to resources and content on a Pan‑European scale for participating Research &amp; Education Institu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Vantagg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per il sistema universitario e della Ricerca scientifica italiano apportati da ID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efficien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icurez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regazione di riso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riuso di servi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flessibilità delle solu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teroperabilità (fra gli utenti della Federazione ed, in futuro, fra utenti delle Confederazio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nov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tandardizzazione “dal basso” indotta da identità e servizi fede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15312-BED4-43DE-B86C-734C0C04CEC2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La federazione IDEM og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l sito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Tahoma"/>
                <a:ea typeface="MS Gothic"/>
                <a:hlinkClick r:id="rId2"/>
              </a:rPr>
              <a:t>www.idem.garr.i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 come primo e completo riferimento per sap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c'è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partecipare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odulistic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ed a chi chiedere suppor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Quali servizi sono già disponibil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iungere un servizio-risorsa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e come si dec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a ...non solo web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11BE1-A38A-4C0D-B630-20FB0DA71D8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417600" y="1440000"/>
            <a:ext cx="78627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ossimo appuntamento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IDEM DAY si svolgerà a Roma, il 2 e 3 dicembre 2010, presso la sede del Ministero dell’Istruzione, dell’Università e della Ricerca, in piazza Kennedy, 20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L'IDEM DAY rappresenta un’importante occasione di formazione rivolta al personale tecnico delle organizzazioni che partecipano o che hanno programmato di partecipare alla Federazione IDEM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enotazioni ed informazioni: www.idem.garr.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3179F-BC35-4383-B59D-966FEB077F79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28051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1312560"/>
            <a:ext cx="748512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ONTAT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g. Angelo Saccà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Università degli Studi di Tori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el.:   011.670.203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Mail:  angelo.sacca@unito.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Breve mem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0920" y="83664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IDEM (2007-Marzo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derazione IDEM (Aprile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Regole e Documentazione per ader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Servizio IDEM GARR A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l 1° anno della federazione siamo arrivati a 14 Memb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Quasi tutti coloro che avevano partecipato al proge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Anche qualcuno in pi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9/3/2010 Prima Assemblea dei Membri della Federazione IDEM: eletto il Comitato di Indiriz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1/08/2010 Membri =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idem.garr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3F8E-E343-48FC-B75E-32AAB39E216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1871640" cy="12812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9120" y="968400"/>
            <a:ext cx="755964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IDEM: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Organi della Feder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membri e partner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utenti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servizi-risors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il suppor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le tec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57B57-E697-4B49-B4F2-4B808DF59D2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84360" y="1197000"/>
            <a:ext cx="8229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rganizzazione ID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Gli organi della Federazione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l'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Assemblea dei Membr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2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Comitato d'Indirizz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3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Comitato Tecnico-Scientific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Il Comitato Tecnico-Scientifico opera in stretto raccordo con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ervizio IDEM GARR AA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messo in opera da GARR per fare funzionare la Federazio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L'Assemblea dei Membri è composta dai Referenti Organizzativi (uno per Membro) e dai Referenti Tecnici (uno per Membro) nominati nella richiesta di adesione alla Federazione . Il Referente Organizzativo si esprime con il proprio voto e con parere. Il Referente Tecnico ha funzioni solamente consultiv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  I compiti dell'</a:t>
            </a:r>
            <a:r>
              <a:rPr b="1" lang="it-IT" sz="1700" spc="-1" strike="noStrike">
                <a:solidFill>
                  <a:srgbClr val="000000"/>
                </a:solidFill>
                <a:latin typeface="Tahoma"/>
              </a:rPr>
              <a:t>Assemblea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nomina del Presidente dell’Assemble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'elezione del Comitato d'Indirizzo e sua eventuale revoc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proposta di candidature per il Comitato Tecnico-Scientifico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sulle proposte di modifica ai documenti costitutivi della Federazione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riguardo al piano annuale e al piano pluriennale di sviluppo della Federazione proposti dal Comitato di Indirizzo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098C-E39F-4B13-8692-86E269960ABA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Partecipare ad I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971640" y="1009800"/>
            <a:ext cx="74880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ecipanti alla Federazione si distinguono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mb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afferenti alla comunità GAR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t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esterne a GAR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mbri sono gli enti che tipicamente connettono alla federazione il proprio sistema di autenticazione e quindi i proprio utenti al fine di favorire interoperabilità con i servizi-risorse della federazione (alcuni membri connettono anche servizi-risor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ner generalmente  connettono alla federazione servizi-ris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E65F-ED8B-4F5A-B91F-8078A9260CA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Utenti e servizi-riso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268280"/>
            <a:ext cx="748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7B621-B50B-4CF7-9168-75826728E85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014560" y="2824200"/>
            <a:ext cx="52912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vare per creder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it-IT" sz="36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2"/>
              </a:rPr>
              <a:t>www.idem.garr.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..tra i servizi anche il wif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590400" y="118908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L SUPPOR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È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visto il supporto durante l'installazione di Idp e/o Sp, durante la fase testing o per inviare l'entityDescriptor del componente che si desidera far entrare in federazione scrivere all'indirizzo: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idem-help@garr.i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(Maria Laura Mantovani coordina per Garr il servizio di suppor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supporto, IDEM GARR AAI,  mette a disposizione della Federazione i seguenti servizi specifi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rende disponibili il catalogo e i metadati dei Servizi disponibili: validità, veridicità e tempestivo aggiornamento di tali informazioni sono di esclusiva responsabilità dei Partecipant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fornisce alle Organizzazioni della Comunità GARR il know-how per la realizzazione dei Servizi attraverso attività di help-desk, formazione e aggiornamento; · fornisce ai potenziali Partner la documentazione e il supporto necessario all'interoperabilità delle Risors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mette a disposizione il Discovery Service (WAYF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gestisce e mantiene il sito web ufficiale della Federazion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effettua attività di monitoraggio e audi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30E4E-5CF0-428B-A856-D989E912C8F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62108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50920" y="-95400"/>
            <a:ext cx="838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STOMP_Forgotten Futurist"/>
              </a:rPr>
              <a:t>Membri e partner in IDEM (28) </a:t>
            </a: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agosto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250920" y="907920"/>
          <a:ext cx="8353440" cy="5437440"/>
        </p:xfrm>
        <a:graphic>
          <a:graphicData uri="http://schemas.openxmlformats.org/drawingml/2006/table">
            <a:tbl>
              <a:tblPr/>
              <a:tblGrid>
                <a:gridCol w="3168720"/>
                <a:gridCol w="3528720"/>
                <a:gridCol w="1656000"/>
              </a:tblGrid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Università (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Enti vigilati MIUR (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i 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olitecnico di Mil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ARI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ASP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Ca' Foscar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ari "Aldo Mor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CERIS (Istituto di Ricerca sull’impresa e lo sviluppo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Cagliar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FC (Istituto di Fisiologia Clinica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ST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Ferra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VV (Istituto di Virologia Vegetale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ilano-Bicoc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IT (Istituto di Informatica e Telematica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odena e Reggio Emi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LC (Istituto di Linguistica Computazionale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do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(Amministrazione Centrale) Ro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r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Urbino "Carlo B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“Roma Tre”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di Pav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IUAV d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Politecnica delle March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6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5F7E5-6D41-4482-8F74-2D2572EC382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8716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50920" y="123840"/>
            <a:ext cx="728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Risorse (SP) in Federazione e 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in Test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 (17+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10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) al 31/08/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179280" y="1197000"/>
          <a:ext cx="8785440" cy="5075280"/>
        </p:xfrm>
        <a:graphic>
          <a:graphicData uri="http://schemas.openxmlformats.org/drawingml/2006/table">
            <a:tbl>
              <a:tblPr/>
              <a:tblGrid>
                <a:gridCol w="3095640"/>
                <a:gridCol w="3240360"/>
                <a:gridCol w="244944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Biblioteche (8+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Collaborazione/e-learning (4+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o (5+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 Digital Library (CILE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AI WIK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 di Prov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Nilde Utenti (BiblioAreaCNR-B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 VCONF (GARR/CINEC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hology Atlases (Masaryk Universit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oodle-Shib (UniM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F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ienceDirect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YouBlog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opus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ALMA ARC (INA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NR Torin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ringerLink (Spring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DEM AUTH JOOML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ff"/>
                          </a:solidFill>
                          <a:latin typeface="Trebuchet MS"/>
                          <a:ea typeface="Arial"/>
                        </a:rPr>
                        <a:t>Richiesta certificati Personal/eScience (GARR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eb Of Knowledge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Foodle (Uninet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BestPractice (BMJ Grou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nternet2 wiki (Internet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meroteca Virtuale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EndNoteWeb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EEE Xplore (IEE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Refwor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gLibrary (INF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792D2-5375-495F-B642-351D8AFCAED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6840360" y="4659480"/>
            <a:ext cx="1872000" cy="12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9:38:38Z</dcterms:created>
  <dc:creator>sprotopa</dc:creator>
  <dc:description/>
  <dc:language>en-US</dc:language>
  <cp:lastModifiedBy>manto</cp:lastModifiedBy>
  <dcterms:modified xsi:type="dcterms:W3CDTF">2010-09-07T15:39:13Z</dcterms:modified>
  <cp:revision>84</cp:revision>
  <dc:subject/>
  <dc:title>Diapositiva 1</dc:title>
</cp:coreProperties>
</file>