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120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ftr" idx="84"/>
          </p:nvPr>
        </p:nvSpPr>
        <p:spPr>
          <a:xfrm>
            <a:off x="-360" y="8680320"/>
            <a:ext cx="2963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 Federazione IDEM - Finalità e Vant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sldNum" idx="85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FDC11-708F-4D86-9FCB-1F9E0EDB3C3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progetto-idem.idem.garr.it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s://www.idem.garr.it/index.php/it/servizi/idp" TargetMode="External"/><Relationship Id="rId2" Type="http://schemas.openxmlformats.org/officeDocument/2006/relationships/hyperlink" Target="https://www.idem.garr.it/index.php/it/servizi/sp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4C6BB-EF99-4CE7-8980-9232144A5C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488FC-DE88-4253-8CBA-B40BA8949A1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7FC97-A576-4C7C-955F-BA3BC50AFA3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60129-8454-4C75-923B-13B039FD9D42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1E9B7-9F52-4D97-A7AF-A9D2174F72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1FFB9-1400-4131-8970-A43D799C2BCC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F6792-0B6B-4E26-81E3-D360704D60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8760D-58A4-49BB-85D3-F3BBD09D1BF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Storia di IDE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La Federazione IDEM nasce sulle basi poste dal lavoro di 2 anni (2007-2008) effettuato dal Progetto IDEM. Il progetto pilota del GARR per realizzare un'Infrastruttura di Autenticazione e Autorizzazione federata si è concluso con successo il 31 Marzo 2009 giungendo all'attivazione di 20 Identity Provider e 10 Service Provider. Il sito del progetto è raggiungibile all'indirizzo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http://progetto-idem.idem.garr.i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Gl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obiettiv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della Federazione Italiana delle Università e degli Enti di Ricerca per l’Autenticazione e l’Autorizzazione sono quelli di creare e supportare un framework, comune agli enti di formazione e di ricerca italiani, per la gestione condivisa degli accessi alle risorse on-line. Per raggiungere questi obiettivi IDEM favorisce lo sviluppo di una comunità basata sulla fiducia reciproca, cosi da facilitare i partecipanti a prendere decisioni appropriate, per il controllo degli accessi, sulla base delle informazioni fornite dai partecipanti stes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0A904-A795-4F72-98DB-8F2986F0DB3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B9B9C-28A2-4CD9-AFDA-2C8792012914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52E0B-B14E-4EB7-B451-9A5B42AD0597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I Servizi della Federazione IDEM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Servizi vengono classificati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*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1"/>
              </a:rPr>
              <a:t>Servizi di gestione e verifica delle identità 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  <a:ea typeface="SimSun"/>
              </a:rPr>
              <a:t>(ID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* </a:t>
            </a:r>
            <a:r>
              <a:rPr b="0" lang="it-IT" sz="1200" spc="-1" strike="noStrike" u="sng">
                <a:solidFill>
                  <a:srgbClr val="ccccff"/>
                </a:solidFill>
                <a:uFillTx/>
                <a:latin typeface="Times New Roman"/>
                <a:ea typeface="SimSun"/>
                <a:hlinkClick r:id="rId2"/>
              </a:rPr>
              <a:t>Risorse </a:t>
            </a:r>
            <a:r>
              <a:rPr b="0" lang="it-IT" sz="1200" spc="-1" strike="noStrike">
                <a:solidFill>
                  <a:srgbClr val="009999"/>
                </a:solidFill>
                <a:latin typeface="Times New Roman"/>
                <a:ea typeface="SimSun"/>
              </a:rPr>
              <a:t>(SP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Membri registrano principalmente un Servizio di gestione e verifica delle identità, ma possono registrare anche una o più Risor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I Partner generalmente registrano una o più Risorse.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ederazione IDEM - Finalità e Vantagg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7EE69-9C94-4D06-87A5-71BA710565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6DB2-A037-4A83-8B5C-97E84788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E69D-BA59-4D8A-B012-D09D3B68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60D72-5425-4595-9BA3-40E3FC35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47115-B724-49E9-A93D-EA2FA1BD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AA95D-C0D5-41F8-A1A9-B42A8731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229F3-2CE7-497A-AD06-DD6E8BAC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FFD39-3DAF-464B-866D-27A152A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EEF92-C1E1-4F11-9F3D-BA1E954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738EF-FC17-4321-AD9A-37C339FD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5067F-ED12-4268-B84A-ABA84DCB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353D0-2F63-427D-B1AB-32C49703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A0320-42D4-48C4-9FF6-60740F63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604EB-187C-4361-9F61-F86EAA27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15D16-559F-45F8-836E-D0BBCAC5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A6AAB-491E-4301-8B0B-50C6DCB1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70C6E-6CE9-4993-A21E-CBA6671F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71A24-CB84-4874-A303-FD614319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7CE8A-3CD2-4D24-9724-EFFA0F58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D2E13B-F865-42F8-A1E9-4D39299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59B52-6CDB-49B9-8F59-5BD2CF9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A8B79-627F-4F38-9215-B857BEC6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707E0-AFD2-4172-9325-4ABC375F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E4ABED-856A-4DF2-9769-D85634E9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4163-D0F8-4092-A358-C7649062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0197B-6C84-427A-831C-C72051BF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01B7D5-0A69-49CF-9A76-DF746103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6BE7D3-B4E2-4C72-A09B-BA8D6A8C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C0A8BE-795C-4216-A383-BB9D405C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C8F1C1-0870-4D28-9DDF-41917F64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EC4467-C024-4499-835C-A0B30098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0E5CC5-E81E-4F0F-9559-ED7C08DF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75C88C-5DC6-45D1-8258-BE628FA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21E0DC-D4F8-4A79-974D-11CD2C6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4A9337-4CE0-48C1-8EBA-0A0F96EE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888A9-2A0F-4AE3-BDA2-20F60E2D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FB7DDA-B683-4F4F-BD63-B8827C74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BBB1DE-F17D-4885-8E8C-9BF0E0DA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6E6171-147C-4DDA-9D19-DC336112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55723-1AD6-493E-A262-1CB7534F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26DEF-84AA-4366-8E3F-819990B8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54A6F-F231-42C2-A146-1C928246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C8344-450B-4491-9945-618B3B8E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223C4-F8FD-4985-8CE0-E7959E58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04919-F29C-4489-AC10-A0EB6E7C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4B330-9363-4728-9E09-AB32A485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4DB1A-D2D6-4DA0-B2A5-2CFC40C7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913D4-4A4F-49D6-8811-5C8C0D21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1B1AB-3AE8-4D08-A306-5FC4C860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4B568E-322E-411B-874A-1A16C4A1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88E171-4C8D-43EF-82D2-39404C6C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F12F2-7433-49C3-8234-E3FC8FC4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830C6C-B160-43E1-AF19-9A8F15EE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8F7AF7-F62E-429B-99BD-01C4C326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CDC75C-31A5-4258-A095-34419A5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577501-95DA-4987-9952-4D73B76D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8D1AE0-93DE-48E0-995C-49522B9A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8A2BB-E971-4F57-8DCC-A646E5D3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CB69FC-2AC2-4925-992B-8ACA2850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878A87-FE89-4EF2-AA8B-58E5481A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9A858E-F1ED-4098-AD5D-B98928B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330179-7CA7-4BEF-9953-DD6264F1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6EEF48-5C24-43FE-A344-76B52DBD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4024CC-BAE6-47F7-8175-8D6FBC19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1CE8F2-E187-4FC7-87F2-FB5B4763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2F5A8B-71AB-4FC8-9CB6-13E1C2C5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1B4644-9502-4982-8468-6133BFFA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3DAF57-6DD7-48EB-9474-26B38C52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FD394-E4E8-4DEE-A4F9-BC7A78A5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1F529B-0E83-4D33-A8ED-2F303793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450593-77FD-4A56-8DE2-A4ADD06C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7108FD-2354-4709-8E9A-06458033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6A1CF4-6CBA-4AD5-8FFF-BC3118C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B97AC1-2E90-4006-84C7-4DF5535E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638862-C3E5-4F1B-9DDE-1765434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A93816-E985-405E-838C-6096B43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EDB444-D756-4FCD-9A19-7307BA5A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C68767E-9F96-45CF-891E-2E44BE73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AD1883-1FD1-494A-8735-87B4B523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BA0F2-5BAA-4900-8D68-E69A992A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63C548-77FA-45DF-A4E9-CE84CBB1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941205-2710-4E49-BFCA-87433ECF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0EADA8-3CA0-4FD3-AC60-E687442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441804-E174-4AEC-B880-00A37147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8B43F3-431A-46A4-897A-59B67F3D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C0420B-19D1-4246-82D4-58896366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B3AEBE-FB66-4870-9397-2A9D8872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E7F42C-1B36-4E46-8F6A-04BDA72B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317258-AA66-496A-9F09-15E7C547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A6CFD5-C7D8-4909-B7C7-514CFC621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7E26E-9144-4534-B0CB-BAF552C2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0FD3AA-C035-4208-8C46-0737A5FE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8836A1-9063-4CD2-87FC-F675C160C30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88ECEBC-32AE-4665-87FA-164E9D86417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AC9755-F2D4-4A6A-887C-469ABBB9EA1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663ED18-5F6F-484F-B6A9-F479DFD3C96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987EAA-D3C8-4C24-A55D-575DFE55748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079CFB-C5E5-4DD0-B2ED-BD4B58388F1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23C325-775C-467D-8B55-CD68BF96B62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A6355B-68A8-4B3F-9FB9-AA52BBA6315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D34122-9B79-48DB-8AC5-F99895BFC1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0B5ED-8C3C-49AC-9887-174C6BA6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BE40513-B369-4E7B-8ABB-8D2E5AC58C1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ADD87E-BE6B-4958-90B2-673B6D939D1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748590-C285-4EB4-A11E-9AD1B4BB287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E5CD2-A727-4C7A-A64C-AC652DFA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EDAC6-079D-4FCF-93C5-96F5C7E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0933FD-05A7-4ED4-8D64-0ED6BB58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96FB44-2491-4715-B86E-1FC39FBD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C9D89C-B791-4F3D-B137-A9215E37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7D0CEB-640A-4532-9F18-1AC2E27B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ADC31E-CA75-4BB8-8B7A-E4DEC275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B64C2-C747-4ADA-84E1-0C382A77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AC1FF3-F97D-4739-85B3-BFA93B78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4F8AB3-0B73-447F-94F2-AFA71AD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787B44-51B0-4D5F-BE6E-67DE1DB5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7CC84C-C8D3-464E-A3DA-D83B7029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E6C826-DDEF-4B5B-AFAC-B54C4BE9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96C012-CB8F-446E-9863-C2406D13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739438-84F0-4BE0-806C-495DA809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F61FBF4-9FA3-4660-8656-2CA4ECB9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A2EF47-4F8C-49D1-B861-4157B2E4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92A406-5B00-4453-8D24-602B248C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0943C-1106-422A-9F8B-5F36BF4C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5D8358-4BB9-4F8B-B5E5-A3678528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683B8B3-47B7-4CCB-9388-9334215C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D81B444-A3F0-4542-9A8E-29EC4DFD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1630E5D-791F-458E-8B8C-A9306C27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A98A9D-3347-483E-BA5F-D7549A8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7E5A50F-5669-448B-975B-637998F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D5A084-17A3-4ADB-97CF-2340A2D7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C1323A-B111-4379-91EB-A76190E0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2C30FA-2729-4348-A9A3-F6B14E2A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C102EE-E18C-4C4F-AC3A-C395D12D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17015-2E0E-4CDF-8BF9-6B04A925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CBD685-B016-4FF2-AC10-6D4AE9A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EBCDD4-00E9-4D7E-947F-3ABEE1D6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9DD07E-240A-4820-81A7-56DEFF30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17205D-7413-448D-BB8E-81BE48F1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493EAB-CA2C-49BC-A2B0-B32A9D15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494301-8CCF-4BF7-8109-0937FD56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2C2CA0B-8AFF-4FCB-86DE-1DADFF16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734CB1-41BA-4ED4-962F-868877B1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D3306A-BA17-463D-966F-C0304E22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EA435E-F99D-4392-9131-078DB692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E86FB-0FA2-41F1-B41C-64B44590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0D2536-D9D6-4D52-B45E-998AF4A2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C79249-E7A9-477F-A2B1-BAB2F947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A3D056C-017F-4AFC-A503-48242EBF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461E988-3869-480D-9213-FE69251F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0E9FF31-5953-4A32-BFBD-77576410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0DC10B-1275-47D1-9482-613985FD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080257-E559-46BE-970A-A05FE550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6D07CD-4366-40D6-95BC-26A58C66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63EC28-38E6-471D-B0C8-0E9E2D62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5EB23F-11CC-4C5E-B258-B1F9B6C3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30C2B-6A46-47C7-BB66-C509144D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B35B190-4D38-4D5E-951D-2AC25215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6665D9-C635-4054-95A9-1B1BDAA8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9AE9344-BE89-4B52-B90F-18A2CDF0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0F43C6-3800-412F-A5E5-054FE216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D51D0B-E0E3-4A48-B1CF-BC66EE32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1128FAD-0DCD-4505-B98F-873E5A8B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826EF20-5179-4195-BE48-EEE12387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47EBBC-A0B2-4B72-BE92-F341A8AC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A110254-805C-48EE-82F2-EFB6565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C1F2453-9E13-48AF-99D6-7FA7624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47A9A-8F79-4B2B-B273-3128CCB6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056223C-9E22-42C9-9197-8739F98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7A60AF9-65F7-4E0D-911B-C0BB0A2B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050D04-D0B7-424E-ACAD-F8BDB1A1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2704AA7-694D-40C2-98D4-5FEC8F45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94BE2D-E5DF-4F8F-86C5-56125663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FF6511D-1DC7-4CEE-953F-0218844B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F4F20A-1F60-4352-AB58-32B5E693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32E10D-41DE-4AF9-9EA8-47B721DC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39C9347-3CC7-41F2-A40C-57DA5F34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09C5DC5-7196-4FCA-8EDD-CB8CC7C0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45B3D-9BA9-47AE-A6DB-8879F9C4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B885A11-F06E-46CA-B7D6-46EF5338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B4A2BD0-A876-4839-8749-81E4AB52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E38DE7-20E1-456B-BAC5-B35688F7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E086C3-FF07-42C0-ABEC-EE0CC7D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37F815-6F9A-4CEA-B77E-E8339E66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D20C8F6-E22D-4C59-AF15-D7FEC5E0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F37653E-BBEB-473E-A32B-C4D9D789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7C99044-86B8-4C13-8616-CD3013F5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C20F18-7F4E-44EC-A0C3-CCDE7016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54B14CE-F41E-480B-AC28-8DCE41AD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DCF59-E927-458E-922A-9AFAC4C5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BDADE2F-060E-4938-B5F7-7E0195DA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B778E5-7DBB-4FB2-83DD-395136F8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F11663C-A491-4E3E-A6FB-4F54B9AC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835FF47-48B5-42C3-A7F7-04FA61D6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11213EA-4BD4-4D39-AD0A-86F9CC6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20C0F1F-C9AC-4C70-8907-BA73D648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187D991-6737-4365-945C-9AEC5399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F9A3170-B12C-451A-A228-C6F0106C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52DCB1-791E-4AB9-86C1-0F9D7408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905425F-4037-4DB8-8008-90B620E8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1E700-80C4-45EC-A665-A0616FBE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4A199E0-DB62-47D9-8FFF-6E27688B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4DDBEE7-E6B0-4D9B-A1B9-A8463856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8566A2-AE60-4739-AC54-1CA7290B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551E6A1-05AB-4456-B01B-DA1AF52D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FFA5D7-C54E-48F4-BF57-92851113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5B2748-602F-4DB2-B793-40FE361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CE5DD06-617C-4971-9C60-E30690D3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CBA6C0D-7F6F-4125-8AC4-507CA2A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0DCB3A4-A747-44AB-9249-A2198FBA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7E21E33-ADC5-41C0-ADC9-442D5554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A87E-7065-4665-9079-94A98ADA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C8BB1-F60E-481E-9F9A-161C7DF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D06CF68-24C3-46BE-A7FD-8EA8820D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FF31933-F974-4E88-9051-6D92A0B2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B11AB08-FFA8-44FA-A088-82B4D5A4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C47740B-B7A2-46C1-BE2D-DD594D7A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CC894A4-1F42-4FB8-944A-3A5D07CA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F4488B1-7FC8-457D-8A53-A2EDE766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0F34B4B-803E-40D9-AB34-7FE9EC31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E6D935D-B7E5-4FD2-A0E1-6225E520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F8C9B2D-4981-47DD-90C3-CF222F1E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82703CE-C141-44D0-A2BF-627BD89F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8FE60-2D4B-40E0-A762-7A5E300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AB6768-0D57-47AD-A0EB-DA609465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C79D85-CCA7-4AFA-8319-9D6E2444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05B703-62E4-438B-B440-DF3F8DB0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1A92A52-BE1F-4D15-B764-BBCF649A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327D279-0635-4C75-94AC-E7848001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707ADC1-8EC5-41F6-AA38-183688F7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64191B4-F78F-4B34-901D-34B09E70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FB1DA9-E413-44FD-87ED-02BE383E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1D02995-B006-4E25-84B7-6FD6A176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8D8A420-6589-4EC0-9AD2-2448932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AFB72-1E18-4724-944A-7D771EA3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0B3594-DA4E-4E4F-9811-64B0B24C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B265824-5A8A-4B6C-B624-F0A1068F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53B00B9-E6DB-4014-8EC6-5A5DDA1E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D94C26F-85FC-4B68-B5EA-CC909494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A0EA51A-B62B-460B-8FC6-2245A7B1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8F200F-7956-42C9-948A-2A1EF23C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8F0AB0-73D8-4E9B-A48C-7ED3EDCF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1E2026-C7BD-496B-AC54-4C0319F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D04330-1A89-49F5-855B-CBC71AB4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F9920D-C569-4F58-B30C-D8ED7D1E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B0A58-B04E-433C-BF0E-CF9598F1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FFA124-8E3A-4A6F-9C96-602BE867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9BE3B7-9638-4DC1-A1C8-59BC538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BA0888-F884-4049-B64F-3C157DD9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508F18-2883-4BEA-AC05-012938FE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5E7F37-094F-4A94-8A8F-086DD627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EE5955-84B2-46B7-9844-6E6E4E71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FB1F30-C272-42C6-B3ED-871C8BBE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ADB8423-2CA2-4CEE-AD68-EC8B9763051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ED45954-26D5-4168-A5EB-E058E003450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50A2115-B217-4D10-A7BA-C28AE531C3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138D3-6F5B-4BE8-9763-6848086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1A7CD9D-BB58-4FCF-9969-50A70A3E466B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5209F2A-C339-47A2-92E3-68ACFC5B9B5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A53CBC6-E76F-42E5-8640-70922A162691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45F8B71-226C-44AA-86B6-1518012D760D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21EAA00-04EE-4D7D-B56F-4FEDAF1DFB3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DFCF364-325E-436C-85B1-4B2AA76A0F4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503EBB9-ACFE-4BD9-B927-1202F2DD08EA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B32A8D8-4B93-483A-898F-56911F03FFB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09E3C4E-E2E7-4494-AD33-4BB2CE553D6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D580B-685D-4F90-8935-D7C128C6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C54B7-CD69-4FCE-80E8-F8AC5667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81EE-C2BB-402B-B367-A3050BC7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24A27F-3BA6-4150-9B13-573C406C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D229-F007-4D26-A09F-A703F23E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C3676A-1D29-44C2-8BEA-6763F4BA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45687-BFE9-4E8E-A5CF-BEE5C6BD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4DB8BC-570A-450B-B361-D711521A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E4D876-7F6C-406C-AA61-4A689418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29407-0F77-4BAF-B6D0-7A78B4DC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70622E-66BB-46B2-85A2-3057D7FA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002830-1522-4831-A7F1-5BDB144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44BCFF-520A-44F8-BC66-0A7728BF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952107-F783-4D79-AC8E-0405C367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5E4B7E-E2D5-4230-A81E-DF20045B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1D07-8719-4E31-A58D-F5B733CF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1A7BD3-BD60-40B0-8FEA-5285C691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0CC4B-D8EF-45EF-9B81-FF6B0C9B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71F563-D059-4F52-8000-D85C0ACE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84154A-FB65-4C93-8182-58846D90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6ADAB-D108-4DAD-B9AF-968ACFAE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E23650-C50D-4C14-B4B5-CC0D183C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DB3B58-C930-4278-A32E-B3379AD6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8985A4-A3BD-49E4-9D47-4A0B7230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4492A1-0A7E-4F73-93F2-98ACE3DB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23F94-E4E6-4E0B-A18D-D47EE80D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602F-C106-4618-88B4-76E474D0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0FD7C8-FE2D-43C9-BFF0-C0BD4DEF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721EF3-D258-4C2E-BA22-0353A47C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EB68E1-4643-4DB3-A590-FD44B15F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38885E-09D8-484C-B423-5EBD0AB6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A7F16E-B150-41A5-8BFF-084BEB6E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595B2D-833B-447A-B018-765BDB17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260F4-F163-4446-9167-DB0ECFB8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1FA1C8-FDD8-4C46-BDF6-BA5EABAB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EDE0C1-3A9C-4CCC-84D6-9D1C9E7F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762A7E-82F1-48D1-91E8-4D26C00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07E1-8982-4249-8F02-441A432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AEAEBF-A78B-4517-B1C4-0D37EE06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E55AE8-CDE7-4C1E-8A8A-17235361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5ED46F-F361-4062-B6B9-FE160F37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241B55-B8C7-4254-AE8A-FFBBE6AF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25A02D-DD11-4CA2-87B5-F972EE7E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CAA67B-074F-4101-8DE9-D9CB2891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3125FD-D4F3-437D-A425-9BD44A0E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F0A932-4830-4B06-AB51-3C60CEFA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5E477E-BE3D-463D-92D7-5D337760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44B7F-4E90-4925-9AC6-800829B0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3DF9-2CF1-426E-9F96-0116367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11120" y="-228600"/>
            <a:ext cx="804384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ED39D6-2075-457E-B284-41FABC7D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C7E6B8-8D81-4BD9-A473-DF25C3EF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234C73-93DD-462B-9E50-D7EA4F9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951273-9E63-4183-9CD3-B1E5C378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71280" y="3786120"/>
            <a:ext cx="748332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84BB48-892E-44FA-A612-1369E20F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06000" y="126828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7128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06000" y="3786120"/>
            <a:ext cx="365184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A822DD-A274-4FF0-B2A9-93A2BB44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172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31800" y="126828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7128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0172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31800" y="3786120"/>
            <a:ext cx="240948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D3CCA0-47DF-44A9-AEEB-2E2F6B47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3CC00-3890-4276-830E-309C1523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C3DCB8-B114-4F67-81DD-90FABEF6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5301F-F060-41D0-BE64-01CDB4B6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Force GARR ICT4University - idem@garr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A3806-9BFF-4250-BD69-4DE9E09E0CCB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7.09.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7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8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ABEE4C-5E4C-4569-8DB6-1358F312C76A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dt" idx="29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ftr" idx="30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31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C5B0F2-4FA8-477E-B434-038B6F12E039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dt" idx="32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33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4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F72918-DD83-4101-8C8E-C2B2AC14E0BA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dt" idx="35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36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sldNum" idx="37"/>
          </p:nvPr>
        </p:nvSpPr>
        <p:spPr>
          <a:xfrm>
            <a:off x="1476000" y="63072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025229-316B-463A-BA36-84F20DEA9C83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dt" idx="38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39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40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DC0BAB-8A32-4574-B738-CC5B9599C19C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dt" idx="41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3"/>
          </p:nvPr>
        </p:nvSpPr>
        <p:spPr>
          <a:xfrm>
            <a:off x="3124080" y="6242040"/>
            <a:ext cx="2887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56F642-03EA-46F6-B143-1CC68A9AF9E7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45"/>
          </p:nvPr>
        </p:nvSpPr>
        <p:spPr>
          <a:xfrm>
            <a:off x="4211640" y="6476760"/>
            <a:ext cx="4844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46"/>
          </p:nvPr>
        </p:nvSpPr>
        <p:spPr>
          <a:xfrm>
            <a:off x="6919560" y="61214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922CFC-723C-4B1E-AFFF-C2A0C211FD7E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14000" y="5689440"/>
            <a:ext cx="762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414360" y="5267160"/>
            <a:ext cx="755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49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50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27FEB56-719E-41CE-B1EC-73D475EFF0DF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dt" idx="51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52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53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DF0E26-161C-4B4E-AB40-AF7FC9E9AD13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dt" idx="54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CC1540-394E-4D79-B120-1DE25B23ED3F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ftr" idx="55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sldNum" idx="56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E36B09-2892-470E-A491-1E6180B852E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dt" idx="57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58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59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BBC222D-2595-4549-ADD4-F40FBE81E367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dt" idx="60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6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6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B32E68-F984-441B-97D8-F5A09937193F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dt" idx="6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6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6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9C1361-1C45-4B86-9BD1-47A65099886B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dt" idx="6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67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68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9C212E-7186-4EBF-BAC7-BC07D44FA423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dt" idx="69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70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71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AB5D8A-F353-4D1D-9334-A2424D581844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dt" idx="72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ftr" idx="73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sldNum" idx="74"/>
          </p:nvPr>
        </p:nvSpPr>
        <p:spPr>
          <a:xfrm>
            <a:off x="1476000" y="630720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148D27-8F25-4333-8FED-9A118BB8266E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dt" idx="75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ftr" idx="76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sldNum" idx="77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D45B5C-EF2D-4DB1-8F39-724EFD9372E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dt" idx="78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595109-96A7-4681-95A7-A841CC97AB6A}" type="slidenum">
              <a:rPr b="0" lang="it-IT" sz="14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ftr" idx="82"/>
          </p:nvPr>
        </p:nvSpPr>
        <p:spPr>
          <a:xfrm>
            <a:off x="4211640" y="6476760"/>
            <a:ext cx="48448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marialaura.mantovani@gar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sldNum" idx="83"/>
          </p:nvPr>
        </p:nvSpPr>
        <p:spPr>
          <a:xfrm>
            <a:off x="6919560" y="612144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E0E574-06E3-4523-AE74-6A8F111B3697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0760" y="-228600"/>
            <a:ext cx="804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48008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2556000" y="6254280"/>
            <a:ext cx="64166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854400" y="5775480"/>
            <a:ext cx="2125800" cy="4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CFA0A4-FD31-4B5F-A882-D694E16DF01A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1692000" y="6470280"/>
            <a:ext cx="73105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14000" y="5689440"/>
            <a:ext cx="7628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4360" y="5267160"/>
            <a:ext cx="7556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0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2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3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F96793-14BE-46A6-A8CC-17288D91F350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4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5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6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15E6CE-AA5A-434D-B688-E5BF22903CD2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dt" idx="17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8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9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961B01-50E6-4305-A38A-EFA0DD52EA56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dt" idx="20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1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2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2BE4697-64DB-40E4-8189-3C6D57379BE6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dt" idx="23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11120" y="-228600"/>
            <a:ext cx="80438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TOMP_Forgotten Futuris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STOMP_Forgotten Futuris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71280" y="1268280"/>
            <a:ext cx="7483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24"/>
          </p:nvPr>
        </p:nvSpPr>
        <p:spPr>
          <a:xfrm>
            <a:off x="2555640" y="6254640"/>
            <a:ext cx="641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  <a:ea typeface="Lucida Sans Unicode"/>
              </a:rPr>
              <a:t>Task Force GARR ICT4University - idem@garr.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5"/>
          </p:nvPr>
        </p:nvSpPr>
        <p:spPr>
          <a:xfrm>
            <a:off x="6854760" y="5775120"/>
            <a:ext cx="2129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ABBE248-6B9A-426E-9C83-E5AFD4A75537}" type="slidenum">
              <a:rPr b="0" lang="it-IT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dt" idx="26"/>
          </p:nvPr>
        </p:nvSpPr>
        <p:spPr>
          <a:xfrm>
            <a:off x="1692000" y="6470640"/>
            <a:ext cx="7313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  <a:ea typeface="Lucida Sans Unicode"/>
              </a:rPr>
              <a:t>07.09.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s://refeds.terena.org/index.php/Federations" TargetMode="External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idem.garr.it/index.php/it/chi-siamo/assemblea" TargetMode="External"/><Relationship Id="rId3" Type="http://schemas.openxmlformats.org/officeDocument/2006/relationships/hyperlink" Target="https://www.idem.garr.it/index.php/it/chi-siamo/comitato-di-indirizzo" TargetMode="External"/><Relationship Id="rId4" Type="http://schemas.openxmlformats.org/officeDocument/2006/relationships/hyperlink" Target="https://www.idem.garr.it/index.php/it/chi-siamo/comitato-tecnico-scientifico" TargetMode="External"/><Relationship Id="rId5" Type="http://schemas.openxmlformats.org/officeDocument/2006/relationships/hyperlink" Target="https://www.idem.garr.it/index.php/it/chi-siamo/servizio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dem.garr.it/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dem-help@garr.it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417600" y="1677960"/>
            <a:ext cx="77724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it-IT" sz="2800" spc="-1" strike="noStrike" u="sng">
                <a:solidFill>
                  <a:srgbClr val="ccccff"/>
                </a:solidFill>
                <a:uFillTx/>
                <a:latin typeface="STOMP_Forgotten Futurist"/>
                <a:hlinkClick r:id="rId2"/>
              </a:rPr>
              <a:t>www.idem.garr.it</a:t>
            </a: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 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14360" y="311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990000"/>
                </a:solidFill>
                <a:latin typeface="Tahoma"/>
              </a:rPr>
              <a:t>Presentazione realizzata per workshop “ICT4UNIVERSITY”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990000"/>
                </a:solidFill>
                <a:latin typeface="Tahoma"/>
              </a:rPr>
              <a:t>12 Novembre 2010 Napo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14360" y="5689440"/>
            <a:ext cx="763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Tahoma"/>
              </a:rPr>
              <a:t>Ing. Angelo Sacc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414360" y="5267160"/>
            <a:ext cx="756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0135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6AABD-C13B-4D42-9145-F1F6148F590E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148360" y="1979640"/>
            <a:ext cx="18716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411120" y="1079640"/>
            <a:ext cx="8229600" cy="54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niziative analoghe a IDEM sul piano naziona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CAR (Interoperabilità e Cooperazione Applicativa fra le Regioni) è l’azione interregionale finalizzata al coordinamento dello sviluppo in tutti i territori regionali della cooperazione applicativa secondo le specifiche SPCoop. L’azione è stata avviata in forma di progetto iniziato nel 2006 e concluso nel 2009 e ha definito e implementato un modello condiviso di infrastruttura territoriale e lo ha sperimentato in 7 ambiti applicativi. Dal 1 luglio 2009 è in corso l’attività di manutenzione e sviluppo dell’infrastruttura e di nuovi applicativi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ahoma"/>
              </a:rPr>
              <a:t>Gestione identità federat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ono 18 (una in più dello scorso anno) le Regioni che intendono realizzare la Gestione delle Identità Digitali Federate, in 10 casi attraverso l’adozione della realizzazione ICAR. Il sistema è già realizzato in Emilia Romagna e Toscana, in corso di aggiornamento presso la Regione Campania, in corso di realizzazione presso la Provincia Autonoma di Trento e la Regione Valle D’Aosta. FedERa è il progetto che in Emilia Romagna si pone l’obiettivo di garantire la circolarità dell’autenticazione tra gli enti, permettendo a cittadini ed operatori della CN-ER di utilizzare una sola credenziale per accedere ai servizi on line disponibili sul territorio. Il progetto ARPA, sull’infrastruttura CART e a servizio della RTRT, costruisce l’identità federata sul territorio della Regione Toscana, federando le identità tra i diversi soggetti che offrono servizi. In Campania è il progetto SPICCA che ha consentito di individuare la soluzione per creare la federazione degli enti al fine di erogare in sicurezza i servizi presso la comunità regiona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niziative loca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lcune amministrazioni comunali hanno stipulato accordi con gli enti locali (Università, biblioteche) per consentire l'accesso ad internet con identità federate (Modena-Carpi-ReggioEmilia, Trento, Ferrara, 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0FB8A-6384-4F57-B488-C8DCE1467D8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3"/>
          <a:stretch/>
        </p:blipFill>
        <p:spPr>
          <a:xfrm>
            <a:off x="42840" y="-304920"/>
            <a:ext cx="9186840" cy="76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-39600"/>
            <a:ext cx="8265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Le Federazioni AAI in Europa e non so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0013C-B3D6-4ED4-BA47-D5A5416AA0FA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1835280" y="871560"/>
            <a:ext cx="5973480" cy="5530680"/>
          </a:xfrm>
          <a:prstGeom prst="rect">
            <a:avLst/>
          </a:prstGeom>
          <a:ln w="0">
            <a:noFill/>
          </a:ln>
        </p:spPr>
      </p:pic>
      <p:sp>
        <p:nvSpPr>
          <p:cNvPr id="1255" name=""/>
          <p:cNvSpPr/>
          <p:nvPr/>
        </p:nvSpPr>
        <p:spPr>
          <a:xfrm>
            <a:off x="250920" y="270828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Verso 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Confeder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528480" y="2095560"/>
            <a:ext cx="43308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untry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T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COnet-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U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ustralian Access Federation A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Canadian Access Federation CA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WITCH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Z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duID.c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FN-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K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WAY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Hak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Fédération Éducation-Recher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G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G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6600"/>
                <a:tab algn="l" pos="1077588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HR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AI@EduH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F063E-C497-43B4-BD94-BB6F5B0DB658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4859280" y="2160720"/>
            <a:ext cx="36003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uID.hu (HREF Federa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dug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JP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P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V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RF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E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CTSa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WAM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K Federation for Education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d Researc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Comm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GT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55640" y="141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iziative analoghe a IDEM sul piano internazio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s://refeds.terena.org/index.php/Fed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979640" y="5172120"/>
            <a:ext cx="648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in corso l'iniziativa EduGAIN per l'interoperabilità delle Federazioni nazional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he eduGAIN service simplifies access to resources and content on a Pan‑European scale for participating Research &amp; Education Institu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S Gothic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MS Gothic"/>
              </a:rPr>
              <a:t>Vantaggi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MS Gothic"/>
              </a:rPr>
              <a:t>per il sistema universitario e della Ricerca scientifica italiano apportati da ID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efficienz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sicurezz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aggregazione di risor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riuso di serviz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flessibilità delle soluzi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nteroperabilità (fra gli utenti della Federazione ed, in futuro, fra utenti delle Confederazion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nnov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Standardizzazione “dal basso” indotta da identità e servizi federa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8DB29-A9AC-40DD-9C11-5C6DDE49761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S Gothic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La federazione IDEM og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Il sito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Tahoma"/>
                <a:ea typeface="MS Gothic"/>
                <a:hlinkClick r:id="rId2"/>
              </a:rPr>
              <a:t>www.idem.garr.i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 come primo e completo riferimento per sap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hi c'è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e partecipare alla federazi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Modulistic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ome ed a chi chiedere suppor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Quali servizi sono già disponibil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Aggiungere un servizio-risorsa alla federazion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Chi e come si decid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S Gothic"/>
              </a:rPr>
              <a:t>Ma ...non solo web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2147B-152F-4A01-987B-23B93984C9F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417600" y="1440000"/>
            <a:ext cx="78627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Prossimo appuntamento: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IDEM DAY si svolgerà a Roma, il 2 e 3 dicembre 2010, presso la sede del Ministero dell’Istruzione, dell’Università e della Ricerca, in piazza Kennedy, 20.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L'IDEM DAY rappresenta un’importante occasione di formazione rivolta al personale tecnico delle organizzazioni che partecipano o che hanno programmato di partecipare alla Federazione IDEM.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Prenotazioni ed informazioni: www.idem.garr.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14360" y="31161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4360" y="5267160"/>
            <a:ext cx="756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01352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4480C-07A6-4919-A0EC-9DBDCD0012AC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2"/>
          <a:stretch/>
        </p:blipFill>
        <p:spPr>
          <a:xfrm>
            <a:off x="539640" y="5400720"/>
            <a:ext cx="28051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971640" y="1312560"/>
            <a:ext cx="748512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ONTAT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ng. Angelo Saccà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Università degli Studi di Torin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Tel.:   011.670.203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Mail:  angelo.sacca@unito.i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Breve memo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50920" y="836640"/>
            <a:ext cx="87138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getto IDEM (2007-Marzo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derazione IDEM (Aprile 200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Regole e Documentazione per ader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Servizio IDEM GARR A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el 1° anno della federazione siamo arrivati a 14 Membr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Quasi tutti coloro che avevano partecipato al proget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SimSun"/>
              </a:rPr>
              <a:t>Anche qualcuno in pi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9/3/2010 Prima Assemblea dei Membri della Federazione IDEM: eletto il Comitato di Indiriz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31/08/2010 Membri = 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http://www.idem.garr.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4FF0E-9261-49D1-9358-989429F13EEF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6300720" y="115920"/>
            <a:ext cx="1871640" cy="128124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519120" y="968400"/>
            <a:ext cx="755964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IDEM: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Organi della Federazion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membri e partner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utenti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servizi-risors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il support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STOMP_Forgotten Futurist"/>
              </a:rPr>
              <a:t>- le tecn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DF5A5-551C-4C66-B2A1-710ADEB3A52B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684360" y="1197000"/>
            <a:ext cx="822960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Organizzazione ID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Gli organi della Federazione sono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1. l'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Assemblea dei Membri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2.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Comitato d'Indirizzo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3.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Comitato Tecnico-Scientifico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Il Comitato Tecnico-Scientifico opera in stretto raccordo con il </a:t>
            </a:r>
            <a:r>
              <a:rPr b="0" lang="it-IT" sz="17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Servizio IDEM GARR AAI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messo in opera da GARR per fare funzionare la Federazion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L'Assemblea dei Membri è composta dai Referenti Organizzativi (uno per Membro) e dai Referenti Tecnici (uno per Membro) nominati nella richiesta di adesione alla Federazione . Il Referente Organizzativo si esprime con il proprio voto e con parere. Il Referente Tecnico ha funzioni solamente consultiv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1.   I compiti dell'</a:t>
            </a:r>
            <a:r>
              <a:rPr b="1" lang="it-IT" sz="1700" spc="-1" strike="noStrike">
                <a:solidFill>
                  <a:srgbClr val="000000"/>
                </a:solidFill>
                <a:latin typeface="Tahoma"/>
              </a:rPr>
              <a:t>Assemblea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sono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a nomina del Presidente dell’Assemblea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'elezione del Comitato d'Indirizzo e sua eventuale revoca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la proposta di candidature per il Comitato Tecnico-Scientifico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esprimere il parere vincolante sulle proposte di modifica ai documenti costitutivi della Federazione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609480" indent="-6015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1700" spc="-1" strike="noStrike">
                <a:solidFill>
                  <a:srgbClr val="000000"/>
                </a:solidFill>
                <a:latin typeface="Tahoma"/>
              </a:rPr>
              <a:t>* esprimere il parere vincolante riguardo al piano annuale e al piano pluriennale di sviluppo della Federazione proposti dal Comitato di Indirizzo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BAFD0-9DC0-4AC7-8A92-A3D5397C2604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6"/>
          <a:stretch/>
        </p:blipFill>
        <p:spPr>
          <a:xfrm>
            <a:off x="179280" y="115920"/>
            <a:ext cx="18748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Partecipare ad ID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971640" y="1009800"/>
            <a:ext cx="748800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Partecipanti alla Federazione si distinguono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embr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organizzazioni afferenti alla comunità GARR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artn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organizzazioni esterne a GAR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Membri sono gli enti che tipicamente connettono alla federazione il proprio sistema di autenticazione e quindi i proprio utenti al fine di favorire interoperabilità con i servizi-risorse della federazione (alcuni membri connettono anche servizi-risor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Partner generalmente  connettono alla federazione servizi-ris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BEF68-59FD-4505-8A01-2D685AF40C19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411120" y="-142920"/>
            <a:ext cx="80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STOMP_Forgotten Futurist"/>
              </a:rPr>
              <a:t>Utenti e servizi-risor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1268280"/>
            <a:ext cx="748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6156F-224D-4E7A-8EB9-AE6F0EA578F2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014560" y="2824200"/>
            <a:ext cx="52912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vare per credere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it-IT" sz="3600" spc="-1" strike="noStrike" u="sng">
                <a:solidFill>
                  <a:srgbClr val="ccccff"/>
                </a:solidFill>
                <a:uFillTx/>
                <a:latin typeface="Times New Roman"/>
                <a:ea typeface="Lucida Sans Unicode"/>
                <a:hlinkClick r:id="rId2"/>
              </a:rPr>
              <a:t>www.idem.garr.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...tra i servizi anche il wif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590400" y="118908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L SUPPOR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Arial"/>
              </a:rPr>
              <a:t>È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evisto il supporto durante l'installazione di Idp e/o Sp, durante la fase testing o per inviare l'entityDescriptor del componente che si desidera far entrare in federazione scrivere all'indirizzo: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idem-help@garr.it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(Maria Laura Mantovani coordina per Garr il servizio di suppor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l supporto, IDEM GARR AAI,  mette a disposizione della Federazione i seguenti servizi specific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rende disponibili il catalogo e i metadati dei Servizi disponibili: validità, veridicità e tempestivo aggiornamento di tali informazioni sono di esclusiva responsabilità dei Partecipanti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fornisce alle Organizzazioni della Comunità GARR il know-how per la realizzazione dei Servizi attraverso attività di help-desk, formazione e aggiornamento; · fornisce ai potenziali Partner la documentazione e il supporto necessario all'interoperabilità delle Risorse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mette a disposizione il Discovery Service (WAYF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gestisce e mantiene il sito web ufficiale della Federazione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* effettua attività di monitoraggio e audit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556000" y="6254640"/>
            <a:ext cx="6424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854760" y="57754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5B04E-F9AB-4E4D-A314-7D669729CD01}" type="slidenum">
              <a:rPr b="0" lang="it-IT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692360" y="6470640"/>
            <a:ext cx="731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Tahoma"/>
              </a:rPr>
              <a:t>07.09.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62108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>
            <a:off x="250920" y="-95400"/>
            <a:ext cx="8388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STOMP_Forgotten Futurist"/>
              </a:rPr>
              <a:t>Membri e partner in IDEM (28) </a:t>
            </a:r>
            <a:r>
              <a:rPr b="1" lang="it-IT" sz="2000" spc="-1" strike="noStrike">
                <a:solidFill>
                  <a:srgbClr val="000000"/>
                </a:solidFill>
                <a:latin typeface="STOMP_Forgotten Futurist"/>
              </a:rPr>
              <a:t>agosto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250920" y="907920"/>
          <a:ext cx="8353440" cy="5437440"/>
        </p:xfrm>
        <a:graphic>
          <a:graphicData uri="http://schemas.openxmlformats.org/drawingml/2006/table">
            <a:tbl>
              <a:tblPr/>
              <a:tblGrid>
                <a:gridCol w="3168720"/>
                <a:gridCol w="3528720"/>
                <a:gridCol w="1656000"/>
              </a:tblGrid>
              <a:tr h="38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Università (1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Enti vigilati MIUR (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Altri 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olitecnico di Mil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Area della Ricerca di BARI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ASPU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Ca' Foscari Venez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Area della Ricerca di BOLOG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ILE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Bari "Aldo Moro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CERIS (Istituto di Ricerca sull’impresa e lo sviluppo)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R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Cagliar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FC (Istituto di Fisiologia Clinica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IST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Ferrar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VV (Istituto di Virologia Vegetale)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Milano-Bicocc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IT (Istituto di Informatica e Telematica) Pis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Modena e Reggio Emil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ILC (Istituto di Linguistica Computazionale) Pis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Pado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NR (Amministrazione Centrale) Rom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Parm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Tori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Urbino "Carlo Bo"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egli Studi “Roma Tre”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egli Studi di Pav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di Bologn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IUAV di Venez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Università Politecnica delle March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6" name=""/>
          <p:cNvSpPr/>
          <p:nvPr/>
        </p:nvSpPr>
        <p:spPr>
          <a:xfrm>
            <a:off x="4211640" y="6477120"/>
            <a:ext cx="48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919920" y="6121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E7619-0D17-496C-AD4C-32C1B6F0389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18716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250920" y="123840"/>
            <a:ext cx="7283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Risorse (SP) in Federazione e </a:t>
            </a:r>
            <a:r>
              <a:rPr b="1" lang="it-IT" sz="3200" spc="-1" strike="noStrike">
                <a:solidFill>
                  <a:srgbClr val="2136ff"/>
                </a:solidFill>
                <a:latin typeface="STOMP_Forgotten Futurist"/>
              </a:rPr>
              <a:t>in Test</a:t>
            </a: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 (17+</a:t>
            </a:r>
            <a:r>
              <a:rPr b="1" lang="it-IT" sz="3200" spc="-1" strike="noStrike">
                <a:solidFill>
                  <a:srgbClr val="2136ff"/>
                </a:solidFill>
                <a:latin typeface="STOMP_Forgotten Futurist"/>
              </a:rPr>
              <a:t>10</a:t>
            </a:r>
            <a:r>
              <a:rPr b="1" lang="it-IT" sz="3200" spc="-1" strike="noStrike">
                <a:solidFill>
                  <a:srgbClr val="000000"/>
                </a:solidFill>
                <a:latin typeface="STOMP_Forgotten Futurist"/>
              </a:rPr>
              <a:t>) al 31/08/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179280" y="1197000"/>
          <a:ext cx="8785440" cy="5075280"/>
        </p:xfrm>
        <a:graphic>
          <a:graphicData uri="http://schemas.openxmlformats.org/drawingml/2006/table">
            <a:tbl>
              <a:tblPr/>
              <a:tblGrid>
                <a:gridCol w="3095640"/>
                <a:gridCol w="3240360"/>
                <a:gridCol w="2449440"/>
              </a:tblGrid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Biblioteche (8+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Collaborazione/e-learning (4+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fd2b01"/>
                          </a:solidFill>
                          <a:latin typeface="Trebuchet MS"/>
                          <a:ea typeface="Arial"/>
                        </a:rPr>
                        <a:t>Altro (5+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CILEA Digital Library (CILE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AAI WIKI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P di Prova (GAR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Nilde Utenti (BiblioAreaCNR-B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GARR VCONF (GARR/CINEC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UniT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Pathology Atlases (Masaryk University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Moodle-Shib (UniMOR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UniF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cienceDirect (Elsevi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YouBlog (UniT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copus (Elsevi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ALMA ARC (INA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iFi (CNR Torin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SpringerLink (Spring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DEM AUTH JOOMLA (GAR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ff"/>
                          </a:solidFill>
                          <a:latin typeface="Trebuchet MS"/>
                          <a:ea typeface="Arial"/>
                        </a:rPr>
                        <a:t>Richiesta certificati Personal/eScience (GARR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Web Of Knowledge (ThomsonReu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Foodle (Uninet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BestPractice (BMJ Grou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nternet2 wiki (Internet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Emeroteca Virtuale (CASPU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EndNoteWeb (ThomsonReu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IEEE Xplore (IEE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Refwor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2136ff"/>
                          </a:solidFill>
                          <a:latin typeface="Trebuchet MS"/>
                          <a:ea typeface="Arial"/>
                        </a:rPr>
                        <a:t>gLibrary (INF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1" name=""/>
          <p:cNvSpPr/>
          <p:nvPr/>
        </p:nvSpPr>
        <p:spPr>
          <a:xfrm>
            <a:off x="4211640" y="6477120"/>
            <a:ext cx="48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ahoma"/>
              </a:rPr>
              <a:t>Task Force GARR ICT4University - idem@garr.i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919920" y="6121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B2D4A-74FF-43F0-9A50-3AB94CF5AC13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6840360" y="4659480"/>
            <a:ext cx="1872000" cy="128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9:38:38Z</dcterms:created>
  <dc:creator>sprotopa</dc:creator>
  <dc:description/>
  <dc:language>en-US</dc:language>
  <cp:lastModifiedBy>manto</cp:lastModifiedBy>
  <dcterms:modified xsi:type="dcterms:W3CDTF">2010-09-07T15:39:13Z</dcterms:modified>
  <cp:revision>84</cp:revision>
  <dc:subject/>
  <dc:title>Diapositiva 1</dc:title>
</cp:coreProperties>
</file>