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51C-6608-47E7-8100-35BD79C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672-3E44-434E-988E-4B9DBF4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57D-BC88-4886-A150-1D262E0E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2E6-15D8-4FCC-8CCE-E10C867F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D40C-FB36-44D6-AFD1-BC00426F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75D7-FFF8-4750-8603-AD0A678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389-4154-447F-AABB-2989A5B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AF9-5FED-4E3B-9BD7-E1B6E45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355-CD89-448B-996D-FCF8C568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C36-BE83-4C8C-882A-3F6656FE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E3C-3FAC-43C6-A9F4-5D62750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D15-B78B-4AA5-93EE-F11CD1B6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7C5-B4F2-4A16-B337-369F692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D71-8779-486B-A178-C6A1CD5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FBB1-18AF-4DE4-B493-086E5B1C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3A4-EFDE-4BE4-9A8B-56E18DF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69E5-7A54-49D9-81BA-2FDB941A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8C8-0D0B-44BB-AA9E-B937189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AB6-0EC3-4E92-B3DF-4C20CC88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B93-E993-4425-9D44-179DEF2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2D1-20E2-422E-BC26-CB55F80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AB2-0999-4BBC-9146-BDD52C5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A2-6E26-4D8A-AC15-313264C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6F3-6786-46FA-859E-7FCBFC1E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73256D7B-1F7E-48C6-B224-F683785FF865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11280" y="1219320"/>
            <a:ext cx="7923240" cy="2496960"/>
          </a:xfrm>
          <a:prstGeom prst="pie">
            <a:avLst/>
          </a:pr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497400" y="5289480"/>
            <a:ext cx="221904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879-E32A-4449-A1F8-5C29344A0E62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5032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a verbalizzazione degli esami: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inee guida per l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dematerializzazione del process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54240" y="4140000"/>
            <a:ext cx="4896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5" descr="logoICT4University"/>
          <p:cNvPicPr/>
          <p:nvPr/>
        </p:nvPicPr>
        <p:blipFill>
          <a:blip r:embed="rId1"/>
          <a:stretch/>
        </p:blipFill>
        <p:spPr>
          <a:xfrm>
            <a:off x="507960" y="3990960"/>
            <a:ext cx="2324160" cy="118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348240" y="3887640"/>
            <a:ext cx="2482920" cy="13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4449383F-6114-4E72-976A-BB4C8849A6E9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7) Firma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verbale attesta esito e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può essere redatto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irmato anche non contestual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o svolgimento della pro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È lecito individuare un unico responsabile del procedimento amministrativo nella figura del docente verbalizzante che fir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richiede la firma dello stud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4F24F78B-5BAC-4C59-ADCC-6C772664721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8) Consultazione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 deve poter verificare 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gruità tra l’esito comunic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l docente e quanto effettiv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zzato e inseri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deve fornire un servizio autorevole di consultazione del voto per gli studenti (mediante il portal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dell’annullamento (o modifica) di un verb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F78E1257-2F24-4F16-8B66-E9013419C76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Autenticazione docenti/studenti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stud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Aft>
                <a:spcPts val="1001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doc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P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certificato di autent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ttenzione: usabilità e costi organizz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FA34D3D4-351A-4D1F-AC2F-89D93848A14F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Redazione del verbale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765080"/>
            <a:ext cx="8424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verbali richiedono conservazione peren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 redatti in formati appropriati per gestione e conservazione (suggerito PDF/A1). Attenzione ai metada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sistema deve precompilare il verbale, per minimizzare informazioni che docente deve immettere (usabilità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FFB6C74-5A35-47DE-85BB-A4DDBD14219A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</a:t>
            </a:r>
            <a:r>
              <a:rPr b="1" lang="it-IT" sz="2400" spc="-1" strike="noStrike">
                <a:solidFill>
                  <a:srgbClr val="006633"/>
                </a:solidFill>
                <a:latin typeface="Verdana"/>
              </a:rPr>
              <a:t>Tecnologia di Firma per il verbale</a:t>
            </a: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396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firmato digital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ertificati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rma limitati a specifiche attiv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unzionali (es. firma verbali) o a determinati contesti (es. ambito universitari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cnologie di fir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con dispositivi personali (alti costi organizzativi per impatto su Client di tutti i doc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“remota” con dispositivi Hardware Security Module - HSM (Server centralizzato che ospita tutti i certificati di firma dei docenti) [dpcm 30 marzo 2009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a firma richiesto anche uso di OTP e/o S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97E7C4BF-2F7C-45ED-8A35-839840B7552A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I costi della verbalizzazione con </a:t>
            </a:r>
            <a:br>
              <a:rPr sz="2600"/>
            </a:b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firma digitale remota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20168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neca ha fornito una prima stima dei costi per la verbalizzazione digitale per il prodotto ESSE3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del motore di firma digitale per i verbali (circa il 10% del valore del canone di ESSE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manutenzione del motore di firma digitale (ancora da defini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certificati per firma digitale remota (da 11 a 13 euro/anno per cert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dei certificati (rinnovi, scadenze, etc) (5 euro/anno per certif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ervazione sostitutiva (3.500 euro di attivazione e 3.500 euro per conservare 500.000 verbali per 10 ann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A49DE04A-5B45-4B6F-BACE-FE2F60BA2FCB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Conclu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linee guida sono il frutto di un confronto tra le 26 università del tavolo tecnico con il MIUR e il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tandardizzazione del processo è fondamental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ttimizzare i costi di realizz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gli applicativi per la gestione e conserv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7720" y="4152960"/>
            <a:ext cx="48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ta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E4F07CA7-0AAA-47C9-8929-7C8B1FCB7CF6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Premessa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e linee guida sono il frutto di un ampio confronto all’interno del Tavolo Tecnico ICT4University – Università Digitale, con MIUR e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siderazioni general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è fondamentale standardizzare il processo di verbalizzazione esami prima di informatizzar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i nuove tecnologie per autenticazione e fi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33939B27-51C7-4A66-8B00-0932F8755D35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orkflow processo di verbalizz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53125 -0.25648 E">
                                      <p:cBhvr>
                                        <p:cTn id="6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1000" y="5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7924D39F-AF6F-43F9-839F-23D57CFF723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1) Definizione appelli e commis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te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offer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mat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impatto sui doc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evitare error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controlli a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1)Def.appelli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CE951915-F967-4EF5-BF1D-5D0A7E7DEB89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2) Gestione liste di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liste per doc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scrizione appelli per studen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chied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te 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licativi di gestione carri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, con possibilità di eventua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trolli bloccanti (es. propedeuticità o pagamento tas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F1CC4A6-CEAC-4F91-AF3F-C18826FB55F8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3) Svolgimento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7643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volgimento esame, scritto e/o ora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che con prove multi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stema deve supportare efficacemente tutte le possibili modalità di esa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6065993A-4E5A-49E4-86E4-F7AC050F4D4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4) Voto e comunicazione allo studen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zione del voto e inser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el siste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o studente prende visione del voto                       sul portale, verrà avvisato dell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   pubblicazione voto attraver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ail istituzi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noti che la presa visione non lascia traccia document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EFF1F70-8467-4B53-A50B-52DC7235051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5) Accettazione/rifiuto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se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op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erché il vo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trebbe essere impost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è prassi generale (a vol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ta in regolamenti intern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re la possibilità di “rifiutare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vo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blemi legati alla (mancata) “presa visione” nel caso di esami non in presenza: definizione di una finestra temporale (per esempio 5 giorni) trascorsa la quale inserire il vo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300720" y="907920"/>
            <a:ext cx="2664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10AD3DB7-155C-43AC-9469-A4584BC6941B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6) Redazione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87240"/>
            <a:ext cx="69645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ali informazioni nel verba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obbligatori: denomin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, membri commissio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docente verbalizzan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studente, voto esam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: appello, esame, verbal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addizionali: argomenti di esame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wifiUPUAS</cp:lastModifiedBy>
  <dcterms:modified xsi:type="dcterms:W3CDTF">2010-11-12T09:08:14Z</dcterms:modified>
  <cp:revision>2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