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A815-E778-4CBC-BA04-81DD07FE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1FC-4D77-465E-AD65-579E5B75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B18-4B4C-46F4-9D10-80A0E4BE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B392-020A-410A-88AC-55E2AE5B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C8D4-1C95-49BF-894B-35802651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2781-1137-47F6-89FE-BCDF0CA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A49D-9602-4091-A485-68999967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27B0-64D6-48D4-9062-9F01E9CE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4022-061A-47D6-B06F-532B4AB0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4638-2C9D-41C8-9105-B3BF2A7A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831-0CE9-4C66-9EF5-2427DB9F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D36-F4CD-4C47-BFEE-9180249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EF8F-1E71-4F5B-9ACA-FF4AF442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D6BD-7025-467A-AFCA-048765A1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EE82-4E7B-437C-BCC3-608EFEA8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6F17-CC3D-4C40-9FB6-9863102D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4E6D-D12E-4DEB-9CDC-904C9F98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DF4-CC77-4160-8D2C-C8B0DB44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DBCF-F2FF-4A7A-B565-D999AADB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D010-9C4A-43D4-9C48-D884306C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F71-CB6F-4FF3-9881-197D158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517-35A8-4013-A025-0F9CE4A8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6852-43E6-4831-AA50-C146274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3AF-836B-4148-9A43-113CDA47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3350013B-C9AF-4B4A-B065-E3DD6D4DF9E3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CD16-BE6C-4EA5-98DF-A7E72BDE461A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tenticazione fede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 l’accesso a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7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ente deve essere informa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finalità e delle modalità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rattamento dei propri dat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ersonali eventualmente richies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ei serviz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delle federazioni e delle confederazioni a cui le credenziali danno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denti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oggetto che fornisce il servizi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e dell’identità del soggetto che opera la validazione delle credenziali all’atto dell’autenticazione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tra OdA e FdS ai fini della fornitura del serviz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dizioni di utilizz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ervizio di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modalità di interruzione dell’access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ogou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8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sen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ima di effettuare l’accesso l’utente deve acconsentire, caso per caso o una tantu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llo scambio di inform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 eventualmente necessarie ai fini della fornitura del serviz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9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utente deve avere controllo della durata della connessione ad Internet e deve poterne verificare in ogni momento la sussistenza o la cess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mplementazioni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llegati tecnici alle linee guida</a:t>
            </a:r>
            <a:br>
              <a:rPr sz="2800"/>
            </a:b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RO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La licenza per il WiF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A decorrere […] 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fino al 31 dicembre 2007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iunque intende aprire un pubblico esercizio o un circolo privato di qualsiasi specie, nel quale sono posti a disposizione del pubblico, dei clienti o dei soci apparecchi terminali utilizzabili per le comunicazioni, anche telematiche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ve chiederne la licenza al questo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Per coloro che già esercitano le attività di cui al comma 1, la licenza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La licenza si intende rilasciata trascorsi […]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estano ferme le dispos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i cui al decreto legislativo 1° agosto 2003, n. 259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nonche' le attribuzioni degli enti locali in mater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nitoraggio e identific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Con decreto […] sono stabilite le misure che il titolare o il gestore di un esercizio in cui si svolgono le attività di cui al comma 1, e' tenuto ad osservare per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nitoraggi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lle operazioni dell'utente e l'archiviazione dei relativi dat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 nonche' le misure d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eventiva acquisizione di dati anagrafic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riportati su un documento di identità dei soggetti che utilizzano postazioni pubbliche non vigilate per comunicazioni telematiche ovvero punti di accesso ad Internet utilizzando tecnologia senza fil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[…]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ull'osservanza del decreto di cui al comma 4 e l'accesso ai relativi dati sono effettuati dall'organo del Ministero dell'interno preposto ai servizi di polizia postale e delle comunicazion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l Consiglio dei Ministr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Consiglio dei Ministri n. 113 del 05/11/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La Presidenza del Consiglio dei Ministri comunic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Il Consiglio dei Ministri ha approvato un </a:t>
            </a: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decreto legge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, su proposta del Presidente del Consiglio, Silvio Berlusconi, e del Ministro dell’interno, Roberto Maroni, che contiene diverse disposizioni in materia di sicurezza pubblica […] il Governo ha varato, tra le altre, le seguenti misu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intervento del Governo in materia di sicurezza pubblica è stato completato e rafforzato da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approvato su proposta del Ministro Maroni, che, fra l’al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in materia di accesso alla rete Wi.Fi: prevede il superamento delle restrizioni al libero accesso alla rete contenute nel cosiddetto “decreto Pisanu”, mantenendo tuttavia adeguati standard di sicurezz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Il testo del disegno di legge non è ancora disponib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Le dichiarazioni 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i del Minis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al primo gennaio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peramento delle restr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mposte dal decreto di cinque anni fa, che ora sono stat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ltrepassate dall'evoluzione tecnolog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dei collegamenti Wi Fi attraverso gli smartphone o attraverso altri collegamenti offli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enza bisogn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ome succede oggi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 preventivamente registrarsi con la fotocopia del documento d’ident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emperamento delle esigenz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ella libera diffusione del collegamento WiFi con quelle legate alla sicurezza e alle misure antiterror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e del Procuratore Antimafia Gras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redo che ci si debba rendere conto ch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etro questi internet point e queste reti wi-fi ci si possa nascondere benissim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nella massa degli utenti non più identificabili. Si possono trovare anche terroristi, pedofili e mafio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sa aspettars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sservaz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i tratta di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e a quanto mi risulta non ha ancora iniziato l’iter parlament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a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imo gennaio 201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lascia intendere che non si tratti di un’abrogazione dell’articolo 7, che potrebbe avere decorrenza da qualsiasi momento, ma del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ancata proroga del comma 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’unico ad avere un riferimento tempora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abrogazione in toto dell’Art. 7 del decreto Pisanu creerebbe un vuoto normativo che mal si concilia con il “mantenimento di adeguati standard di sicurezza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di Maroni all’evoluzione tecnologica che permetterebbe di superare il vincolo alla registrazione di un documento di identità, sembra alludere a soluzioni molto vicine alle linee guida del tavolo tecnico, che sono già ammesse dal ministero dell’intern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clus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on mi aspetto significative ricadute per le univers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termine liberalizzazione credo vada riferito alla mancata proroga dell’obbligo di licenza (comma 1 art. 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enz’altro liberalizzazione non significa quello che l’opinione pubblica si aspetta: wifi gratis per tut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so d’us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L'utente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, registrato presso un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per accedere ad Internet attraverso le risorse di rete di un secondo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gist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registrazione adottata dall’OdA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ssegnare e/o abilitare le credenzia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l’utente deve garantire 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servat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e credenziali e 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 cer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 nel rispetto della normativa vigente in materia di antiterrorismo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 (continua)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diret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dirett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e visu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attraverso l’acquisizione dei dati di un documento di identità pers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es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ei dati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arta di credi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IM card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lasciata in Itali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in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37692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i token o la verifica d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redenziali precedentemente rilasciati dalla Od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tessa con modalità di tipo a) o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2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estione dell’identità digit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deve garantire il trattamento dei dati e delle credenziali dell’utente nel rispetto della normativa vigente in materia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icurezza informatic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, nel caso in cui l’identità digitale comprenda username e password, l’OdA deve mettere a disposizione dell’utente procedure sicur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modificare o reimpostare la propria passwo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3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enticazi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cedura di autenticazione deve prevedere l’utilizzo di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ali sicu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 la trasmissione delle credenziali 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tare di esporre le credenziali al Fornitore di servizio o a ter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4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es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accesso deve prevedere 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amb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l’OdA e il FdS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dei dati minimi indispensabi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permette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l’utente presso l’Od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erif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possesso de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quisi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access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ro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servizio nel rispetto della normativa vigente e delle usage policies della rete del FdS e della rete (ad esempio NREN) a cui questo è connes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5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collaborare ai fini del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el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, nel rispetto della normativa vigente in materia di antiterrorismo, di privacy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tal fine l’OdA e il FdS devon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dividere riferimenti univoc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ssociati alle tracce mantenute dal FdS e all’identità dell’utente mantenuta dall’Od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6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duc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darsi garanzie reciproche di rispetto delle condizioni espresse ai precedenti punti 1), 2), 3), 4) e 5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garanzie possono essere formalizzate da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ordo bilat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, o dalla adesione dell’OdA e del FdS ad un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ede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 confederazione che preveda il rispetto delle suddette condi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10:43:28Z</dcterms:modified>
  <cp:revision>4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