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64B6-3600-4BA8-B365-56A6C97B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511-9586-4465-8EB3-8D69E76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1A3-5FA8-4A9A-93D0-82CE690C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237-F908-4A78-84DB-B5FA3147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67D-55BA-4485-9D33-C0E19B6E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2B7-A920-4DFF-90D8-C71A9954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649-AAE0-424E-B821-B2FB5F6C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5CA-BE32-4F21-8875-6B69089D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86A-5DAF-46D0-A7F7-99E79588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B57-4C98-479A-AB7E-E667D90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FFE2-B686-41D3-A6A2-E3E20C27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711-D132-4F7A-97C2-017E44B9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D6FBE-671E-44FF-B377-9352538B2CF5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006BF-57F8-49C4-ABE0-D23B9DB0F8F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o 12"/>
          <p:cNvGrpSpPr/>
          <p:nvPr/>
        </p:nvGrpSpPr>
        <p:grpSpPr>
          <a:xfrm>
            <a:off x="666000" y="1427040"/>
            <a:ext cx="7863840" cy="3706920"/>
            <a:chOff x="666000" y="1427040"/>
            <a:chExt cx="7863840" cy="3706920"/>
          </a:xfrm>
        </p:grpSpPr>
        <p:sp>
          <p:nvSpPr>
            <p:cNvPr id="42" name="Triangolo isoscele 3"/>
            <p:cNvSpPr/>
            <p:nvPr/>
          </p:nvSpPr>
          <p:spPr>
            <a:xfrm>
              <a:off x="3122640" y="2168640"/>
              <a:ext cx="3329640" cy="23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Calibri"/>
                </a:rPr>
                <a:t>Demateria-lizz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CasellaDiTesto 4"/>
            <p:cNvSpPr/>
            <p:nvPr/>
          </p:nvSpPr>
          <p:spPr>
            <a:xfrm>
              <a:off x="2713320" y="142704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rocess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CasellaDiTesto 5"/>
            <p:cNvSpPr/>
            <p:nvPr/>
          </p:nvSpPr>
          <p:spPr>
            <a:xfrm>
              <a:off x="5285880" y="4552560"/>
              <a:ext cx="32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Standardizzazi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CasellaDiTesto 6"/>
            <p:cNvSpPr/>
            <p:nvPr/>
          </p:nvSpPr>
          <p:spPr>
            <a:xfrm>
              <a:off x="666000" y="4552560"/>
              <a:ext cx="434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iattaform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e 9"/>
            <p:cNvSpPr/>
            <p:nvPr/>
          </p:nvSpPr>
          <p:spPr>
            <a:xfrm>
              <a:off x="4673520" y="20116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e 10"/>
            <p:cNvSpPr/>
            <p:nvPr/>
          </p:nvSpPr>
          <p:spPr>
            <a:xfrm>
              <a:off x="301572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e 11"/>
            <p:cNvSpPr/>
            <p:nvPr/>
          </p:nvSpPr>
          <p:spPr>
            <a:xfrm>
              <a:off x="634536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32:19Z</dcterms:created>
  <dc:creator>Luca Mainetti</dc:creator>
  <dc:description/>
  <dc:language>en-US</dc:language>
  <cp:lastModifiedBy>Luca Mainetti</cp:lastModifiedBy>
  <dcterms:modified xsi:type="dcterms:W3CDTF">2010-11-12T11:42:02Z</dcterms:modified>
  <cp:revision>2</cp:revision>
  <dc:subject/>
  <dc:title>Diapositiva 1</dc:title>
</cp:coreProperties>
</file>