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587D-E83D-46AC-9D49-CBACE300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6499-B45E-409D-B578-F8E2B192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78C2-DC26-408F-A9FC-D93EB399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257B-7CF7-4463-BD61-AAE94E11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B2C9-7197-4EB5-9277-106E9AB6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C469-2536-4C1E-B769-BF44A16C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274D-E08F-4D57-B625-9FBD1135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78CD-CD36-428B-A935-E0961E71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7C5B-D397-4B4B-821D-724314FD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8F82-B135-473A-9464-8928C095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8132-2345-4B39-9E6E-6FE1F7BB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A332-8048-44F1-93BE-942E9B5B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DD5F-474A-453C-91D6-9FFACE20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DEAA-44DA-4EB4-A1F0-009AB0AA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88BF-08F7-4F78-8106-0DCFC7E2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55C5-741D-4038-9ABD-4095C862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537B-2A32-4AA5-8138-F9552C84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DC3-DA8C-4E19-8A19-00E5451B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7DA4-537A-4366-9517-0A287A13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39D-52B8-4708-9F3F-CCF65CC1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3890-4F7A-4905-87C1-05B9BA1D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1984-9B4D-460F-BB66-D77C95B9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2B05-0774-417F-B3B7-42B212D6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1ACF-358C-45BC-91EA-CC3A70D7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32DF-7F3D-4A5F-8ED9-8F3C083E1EDC}" type="datetime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C389-1A7C-4123-9981-8FBBBF53BF04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7" descr=""/>
          <p:cNvPicPr/>
          <p:nvPr/>
        </p:nvPicPr>
        <p:blipFill>
          <a:blip r:embed="rId2"/>
          <a:stretch/>
        </p:blipFill>
        <p:spPr>
          <a:xfrm>
            <a:off x="2895480" y="5334120"/>
            <a:ext cx="1308240" cy="612720"/>
          </a:xfrm>
          <a:prstGeom prst="rect">
            <a:avLst/>
          </a:prstGeom>
          <a:ln w="0">
            <a:noFill/>
          </a:ln>
        </p:spPr>
      </p:pic>
      <p:pic>
        <p:nvPicPr>
          <p:cNvPr id="42" name="Immagine 2" descr="unisalento"/>
          <p:cNvPicPr/>
          <p:nvPr/>
        </p:nvPicPr>
        <p:blipFill>
          <a:blip r:embed="rId3"/>
          <a:srcRect l="0" t="0" r="66857" b="0"/>
          <a:stretch/>
        </p:blipFill>
        <p:spPr>
          <a:xfrm>
            <a:off x="5334120" y="5334120"/>
            <a:ext cx="674640" cy="649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AF49-5166-48DA-8704-FB90098F774A}" type="datetime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CE74-918E-4728-81D1-C88C0F812EB1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l tavolo tecnico Università Digitale e le linee guida prodot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uca.Mainetti@Unisalento.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apoli, 12 novembre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 composizione del tavolo tecn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Politecnico di TORIN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Politecnico di MILAN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CATAN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FERRAR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URBIN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el SALENT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Politecnico di BAR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BAR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FOGG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BOLOGN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TRENT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VERON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NAPOLI "Federico II”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"G. d'Annunzio" CHIETI– PESCAR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MACER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TORIN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IUAV di VENEZ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"Cà Foscari" di VENEZ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PAV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BERGAM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FIRENZ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MILANO-BICOCC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INSUBRIA VA-C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ROMA "Tor Vergata"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ROMA "La Sapienza"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"ROMA TRE"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ell'AQUIL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Ministero P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MiU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Espert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magine 5" descr=""/>
          <p:cNvPicPr/>
          <p:nvPr/>
        </p:nvPicPr>
        <p:blipFill>
          <a:blip r:embed="rId1"/>
          <a:stretch/>
        </p:blipFill>
        <p:spPr>
          <a:xfrm>
            <a:off x="7597800" y="5288040"/>
            <a:ext cx="154620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i obiettivi del tavolo tecn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cutere e condividere le soluzioni tecnologiche ed organizzative adottate dai progetti di Università Digitale che abbiano rilevanza trasversa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dividuare modelli di processi condivisi che, superando anche eventuali ostacoli normativi, possano favorire la digitalizzazione e la cooperazione nel sistema universitar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laborare linee guida riguardanti specifiche tematiche e innovazion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magine 3" descr=""/>
          <p:cNvPicPr/>
          <p:nvPr/>
        </p:nvPicPr>
        <p:blipFill>
          <a:blip r:embed="rId1"/>
          <a:stretch/>
        </p:blipFill>
        <p:spPr>
          <a:xfrm>
            <a:off x="7839000" y="5029200"/>
            <a:ext cx="1305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organizzazione dei lav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contri collegiali con cadenza mens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contri su tematiche specifi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Mailing list gener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Malining list temati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www.ict4university.gov.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unidig-wiki.unich.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magine 7" descr=""/>
          <p:cNvPicPr/>
          <p:nvPr/>
        </p:nvPicPr>
        <p:blipFill>
          <a:blip r:embed="rId1"/>
          <a:stretch/>
        </p:blipFill>
        <p:spPr>
          <a:xfrm>
            <a:off x="4605480" y="1295280"/>
            <a:ext cx="3929040" cy="3116520"/>
          </a:xfrm>
          <a:prstGeom prst="rect">
            <a:avLst/>
          </a:prstGeom>
          <a:ln w="0">
            <a:noFill/>
          </a:ln>
        </p:spPr>
      </p:pic>
      <p:pic>
        <p:nvPicPr>
          <p:cNvPr id="96" name="Immagine 6" descr=""/>
          <p:cNvPicPr/>
          <p:nvPr/>
        </p:nvPicPr>
        <p:blipFill>
          <a:blip r:embed="rId2"/>
          <a:stretch/>
        </p:blipFill>
        <p:spPr>
          <a:xfrm>
            <a:off x="5062680" y="3581280"/>
            <a:ext cx="392904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olo 1" descr=""/>
          <p:cNvPicPr/>
          <p:nvPr/>
        </p:nvPicPr>
        <p:blipFill>
          <a:blip r:embed="rId1"/>
          <a:stretch/>
        </p:blipFill>
        <p:spPr>
          <a:xfrm>
            <a:off x="225360" y="835200"/>
            <a:ext cx="1609920" cy="5267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09680" y="114480"/>
            <a:ext cx="64515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avori in cor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Estrazione di indicatori di performance (KPI) e collaborazione alla raccolta dei dati per l’analisi dell’impatto della dematerializzazio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Supporto alla introduzione operativa delle linee guida negli atene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Elaborazione di nuove linee gui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Gestione document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agamenti on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lassificazione della ricer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Multimedialit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Workflow e Business Process Reengine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Immagine 3" descr=""/>
          <p:cNvPicPr/>
          <p:nvPr/>
        </p:nvPicPr>
        <p:blipFill>
          <a:blip r:embed="rId1"/>
          <a:stretch/>
        </p:blipFill>
        <p:spPr>
          <a:xfrm>
            <a:off x="7839000" y="5029200"/>
            <a:ext cx="1305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7:58:42Z</dcterms:created>
  <dc:creator>Anna Lisa</dc:creator>
  <dc:description/>
  <dc:language>en-US</dc:language>
  <cp:lastModifiedBy>Luca Mainetti</cp:lastModifiedBy>
  <dcterms:modified xsi:type="dcterms:W3CDTF">2010-11-11T18:29:24Z</dcterms:modified>
  <cp:revision>56</cp:revision>
  <dc:subject/>
  <dc:title>ANS</dc:title>
</cp:coreProperties>
</file>