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4.jpeg" ContentType="image/jpeg"/>
  <Override PartName="/ppt/media/image25.jpeg" ContentType="image/jpeg"/>
  <Override PartName="/ppt/media/image27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1A7-6838-4242-B2DF-E191D9B0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4CF-5F76-4E1B-B531-B695E028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EE4-94EB-40B4-B435-353874DF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7A1-C6C9-4536-A98C-FD0C28B8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5CE-95A5-4FD6-81E7-5FB81A74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5A69-59AF-480D-A87B-FD2E676F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133-80A3-49AC-8749-B3E674F5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08C-FD3F-4E3E-9ED9-7FD2A36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3BB-3997-43B1-8733-D28E66B2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382-0E09-4C07-8B39-EE64E5E1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D73-24D5-4072-BBD2-EC58E2F1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AC9-1304-46F2-9712-BCA74C2B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D06C-5C2A-4968-AC53-BE3E55A1AE57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2800-F238-4EFD-BE10-C0CCED42182B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6" descr="Testata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0160" y="1699920"/>
            <a:ext cx="943272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f497d"/>
                </a:solidFill>
                <a:latin typeface="Calibri"/>
              </a:rPr>
              <a:t>Programma ICT4University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r>
              <a:rPr b="0" lang="it-IT" sz="2200" spc="-1" strike="noStrike">
                <a:solidFill>
                  <a:srgbClr val="1f497d"/>
                </a:solidFill>
                <a:latin typeface="Calibri"/>
              </a:rPr>
              <a:t>- Il piano eGov 2012: obiettivo università –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12 Novembre 2010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28520" y="4952880"/>
            <a:ext cx="68724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Ing. Paolo Donzel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rettor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Generale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Ufficio</a:t>
            </a:r>
            <a:r>
              <a:rPr b="0" i="1" lang="it-IT" sz="1600" spc="-1" strike="noStrike">
                <a:solidFill>
                  <a:srgbClr val="345a88"/>
                </a:solidFill>
                <a:latin typeface="Arial"/>
              </a:rPr>
              <a:t> Studi e progetti per l’innovazione digi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</a:rPr>
              <a:t>Dipartimento per la digitalizzazione della PA e l’innovazione tecnolo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A83-34C7-42D2-BBC6-9251E2742463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50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461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Copertura WiFi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128520" y="1528920"/>
            <a:ext cx="6604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0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EF25-0475-4A9F-80E7-63BE773F9C8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asellaDiTesto 8"/>
          <p:cNvSpPr/>
          <p:nvPr/>
        </p:nvSpPr>
        <p:spPr>
          <a:xfrm>
            <a:off x="6969240" y="2205000"/>
            <a:ext cx="273672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3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9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516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scrizione online per aree geografich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136440" y="1638360"/>
            <a:ext cx="647244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0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9E90-49D2-4E76-AC9E-F67DBA0B9F0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asellaDiTesto 8"/>
          <p:cNvSpPr/>
          <p:nvPr/>
        </p:nvSpPr>
        <p:spPr>
          <a:xfrm>
            <a:off x="6969240" y="2152800"/>
            <a:ext cx="273672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la media degli studenti serviti d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8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al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1.130.000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studenti servi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1800"/>
              </a:spcBef>
              <a:buClr>
                <a:srgbClr val="00cc00"/>
              </a:buClr>
              <a:buSzPct val="130000"/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nel 2010 il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</a:rPr>
              <a:t> 7%</a:t>
            </a:r>
            <a:r>
              <a:rPr b="0" lang="it-IT" sz="1600" spc="-1" strike="noStrike">
                <a:solidFill>
                  <a:srgbClr val="1f497d"/>
                </a:solidFill>
                <a:latin typeface="Arial"/>
              </a:rPr>
              <a:t> dei verbali è firmato digit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776160" y="189000"/>
            <a:ext cx="907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300" spc="-1" strike="noStrike">
                <a:solidFill>
                  <a:srgbClr val="1f497d"/>
                </a:solidFill>
                <a:latin typeface="Calibri"/>
              </a:rPr>
              <a:t>- Verbalizzazione elettronica degli esami per aree geografiche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2"/>
          <a:stretch/>
        </p:blipFill>
        <p:spPr>
          <a:xfrm>
            <a:off x="128520" y="1563840"/>
            <a:ext cx="662472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3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 nuovi servizi: le linee guida di “</a:t>
            </a:r>
            <a:r>
              <a:rPr b="1" i="1" lang="it-IT" sz="3200" spc="-1" strike="noStrike">
                <a:solidFill>
                  <a:srgbClr val="1f497d"/>
                </a:solidFill>
                <a:latin typeface="Calibri"/>
              </a:rPr>
              <a:t>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72880" y="1268280"/>
            <a:ext cx="9091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er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vorire la diffusione dei risultati conseguiti, le 27 università interessate dall’iniziativa </a:t>
            </a:r>
            <a:r>
              <a:rPr b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“</a:t>
            </a:r>
            <a:r>
              <a:rPr b="1" i="1" lang="it-IT" sz="1600" spc="-1" strike="noStrike">
                <a:solidFill>
                  <a:srgbClr val="1f497d"/>
                </a:solidFill>
                <a:latin typeface="Arial"/>
                <a:ea typeface="Arial"/>
              </a:rPr>
              <a:t>Università digitale”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con DDI e MIUR) hanno elaborato delle linee guida per la digitalizzazione e standardizzazione dei principali process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verbale digita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VoIP per studenti e do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ello stud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ematerializzazione scambio document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tabLst>
                <a:tab algn="l" pos="0"/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(tra Università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ts val="2500"/>
              </a:lnSpc>
              <a:spcBef>
                <a:spcPts val="1199"/>
              </a:spcBef>
              <a:spcAft>
                <a:spcPts val="1800"/>
              </a:spcAft>
              <a:buClr>
                <a:srgbClr val="009900"/>
              </a:buClr>
              <a:buFont typeface="Wingdings" charset="2"/>
              <a:buChar char="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Autenticazione feder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ts val="2500"/>
              </a:lnSpc>
              <a:spcBef>
                <a:spcPts val="1800"/>
              </a:spcBef>
              <a:spcAft>
                <a:spcPts val="1800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Disponibili sul sito ICT4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805-277D-4CC0-9AB6-0F4295D135E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2"/>
          <a:srcRect l="35856" t="15374" r="36476" b="12766"/>
          <a:stretch/>
        </p:blipFill>
        <p:spPr>
          <a:xfrm>
            <a:off x="6464160" y="2421000"/>
            <a:ext cx="2592360" cy="378468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146240" y="189000"/>
            <a:ext cx="761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ortale: ICT4University.gov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28520" y="1515960"/>
            <a:ext cx="393228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formazioni e news sulle iniziative in corso e su quelle previs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Presentazione e gestione online dei progetti e della relativa document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ottoscrizione delle  convenzioni e di tutta la documentazione amministrativa con firma digit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inestra sullo stato di avanzamento di ogni singolo progetto (ad oggi 126!) gestita dalla singola univers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buClr>
                <a:srgbClr val="00b05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tudi e ricerche di inter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0" descr=""/>
          <p:cNvPicPr/>
          <p:nvPr/>
        </p:nvPicPr>
        <p:blipFill>
          <a:blip r:embed="rId2"/>
          <a:stretch/>
        </p:blipFill>
        <p:spPr>
          <a:xfrm>
            <a:off x="4448160" y="1628640"/>
            <a:ext cx="51800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gli obietti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19520" y="1485720"/>
            <a:ext cx="4751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0" lang="it-IT" sz="1400" spc="-1" strike="noStrike">
                <a:solidFill>
                  <a:srgbClr val="009a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e477a"/>
                </a:solidFill>
                <a:latin typeface="Calibri"/>
              </a:rPr>
              <a:t>Gli obiettivi settor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: Scuo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2: Universit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3: Giustiz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4: Salu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5: Impr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6: Sicurezza e libertà civ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7: Affari Este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8: Ambien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9: Turismo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0: Beni cultur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1: Gioventù, pari opportunità e affari socia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2: Mobilità mezzi e perso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3: Infrastrutture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e477a"/>
                </a:solidFill>
                <a:latin typeface="Calibri"/>
              </a:rPr>
              <a:t>Obiettivo 14: Agricoltura 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5024520" y="1413000"/>
            <a:ext cx="4881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territor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5:  Anagra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6:  Dati  territo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7:  Carte  dei  servi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8:  Servizi  in  banda  lar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di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19:  Trasparenza  ed  efficienza  della  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0:  Demateri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1:  Sistema  pubblico  di  connet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2:  Rapporto  cittadino‐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3:  Trasferimento  know‐how  dell’innov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4:  Sicurezza  dei  sistemi  informativi  e r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cc66"/>
                </a:solidFill>
                <a:latin typeface="Arial"/>
              </a:rPr>
              <a:t>■</a:t>
            </a: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1f497d"/>
                </a:solidFill>
                <a:latin typeface="Calibri"/>
              </a:rPr>
              <a:t>Gli  obiettivi  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5:  e‐governance  per  lo  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6:  Governance  di  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1f497d"/>
                </a:solidFill>
                <a:latin typeface="Calibri"/>
              </a:rPr>
              <a:t>Obiettivo  27:  Raccordo  con  Uee  OC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112680">
              <a:lnSpc>
                <a:spcPct val="80000"/>
              </a:lnSpc>
              <a:spcBef>
                <a:spcPts val="876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65160" y="1981080"/>
            <a:ext cx="2514600" cy="381240"/>
          </a:xfrm>
          <a:prstGeom prst="ellipse">
            <a:avLst/>
          </a:prstGeom>
          <a:noFill/>
          <a:ln cap="rnd" w="4428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0B7C-F8CE-4046-8C54-ACF676F8820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2720880" y="1413000"/>
            <a:ext cx="935280" cy="53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:\Users\consulente03\Desktop\DITfabio\DDI\Logo\Sanità\certificati di malattia logo def.jpg"/>
          <p:cNvPicPr/>
          <p:nvPr/>
        </p:nvPicPr>
        <p:blipFill>
          <a:blip r:embed="rId3"/>
          <a:stretch/>
        </p:blipFill>
        <p:spPr>
          <a:xfrm>
            <a:off x="3549600" y="2627280"/>
            <a:ext cx="522360" cy="51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consulente03\Desktop\DITfabio\DDI\Logo\Scuola\SCUOLAMIA LOGO\SCUOLA MIA LOGO\logo_subianco.jpg"/>
          <p:cNvPicPr/>
          <p:nvPr/>
        </p:nvPicPr>
        <p:blipFill>
          <a:blip r:embed="rId4"/>
          <a:srcRect l="11114" t="18232" r="0" b="26831"/>
          <a:stretch/>
        </p:blipFill>
        <p:spPr>
          <a:xfrm>
            <a:off x="4089240" y="1359000"/>
            <a:ext cx="115092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liclavoro_PayoffNuovo"/>
          <p:cNvPicPr/>
          <p:nvPr/>
        </p:nvPicPr>
        <p:blipFill>
          <a:blip r:embed="rId5"/>
          <a:stretch/>
        </p:blipFill>
        <p:spPr>
          <a:xfrm>
            <a:off x="3513240" y="3397320"/>
            <a:ext cx="1604880" cy="463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"/>
          <p:cNvPicPr/>
          <p:nvPr/>
        </p:nvPicPr>
        <p:blipFill>
          <a:blip r:embed="rId6"/>
          <a:srcRect l="36719" t="31299" r="46126" b="64769"/>
          <a:stretch/>
        </p:blipFill>
        <p:spPr>
          <a:xfrm>
            <a:off x="3008160" y="4189320"/>
            <a:ext cx="2232000" cy="2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C:\Users\consulente03\Desktop\DITfabio\DDI\Logo\Immagini Barbara\Ict4University500px.jpg"/>
          <p:cNvPicPr/>
          <p:nvPr/>
        </p:nvPicPr>
        <p:blipFill>
          <a:blip r:embed="rId7"/>
          <a:srcRect l="934" t="2786" r="0" b="0"/>
          <a:stretch/>
        </p:blipFill>
        <p:spPr>
          <a:xfrm>
            <a:off x="3368520" y="1916280"/>
            <a:ext cx="11080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980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Piano eGov 2012: Obiettivo Universit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57200" y="1295280"/>
            <a:ext cx="86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l programma ICT4University è finalizza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incrementare efficacia e accessibilità dei sistemi di istr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semplificare le relazioni amministr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43080" algn="just">
              <a:lnSpc>
                <a:spcPct val="110000"/>
              </a:lnSpc>
              <a:spcBef>
                <a:spcPts val="1125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f497d"/>
                </a:solidFill>
                <a:latin typeface="Arial"/>
                <a:ea typeface="宋体"/>
              </a:rPr>
              <a:t>realizzare la piena condivisione dei dati e l’automazione dei flussi amministrativi tra università e tra le università e le altre pubbliche amministrazioni, nel contesto delle regole di cooperazione del sistema pubblico di conne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1143000" y="4724280"/>
            <a:ext cx="7315200" cy="1523880"/>
            <a:chOff x="1143000" y="4724280"/>
            <a:chExt cx="7315200" cy="1523880"/>
          </a:xfrm>
        </p:grpSpPr>
        <p:sp>
          <p:nvSpPr>
            <p:cNvPr id="60" name="Text Box 6"/>
            <p:cNvSpPr/>
            <p:nvPr/>
          </p:nvSpPr>
          <p:spPr>
            <a:xfrm>
              <a:off x="2590920" y="4724280"/>
              <a:ext cx="58672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I progetti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Servizi e reti WiFi per le Universit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spcBef>
                  <a:spcPts val="1125"/>
                </a:spcBef>
                <a:buClr>
                  <a:srgbClr val="0099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 </a:t>
              </a:r>
              <a:r>
                <a:rPr b="0" lang="it-IT" sz="1800" spc="-1" strike="noStrike">
                  <a:solidFill>
                    <a:srgbClr val="1f497d"/>
                  </a:solidFill>
                  <a:latin typeface="Arial"/>
                  <a:ea typeface="宋体"/>
                </a:rPr>
                <a:t>Università digit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794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1143000" y="5257440"/>
              <a:ext cx="1066680" cy="609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8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1ED-F33E-4FBE-8F4B-3B5AEC8B470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C:\Users\consulente03\Desktop\DITfabio\DDI\Logo\Immagini Barbara\Ict4University500px.jpg"/>
          <p:cNvPicPr/>
          <p:nvPr/>
        </p:nvPicPr>
        <p:blipFill>
          <a:blip r:embed="rId3"/>
          <a:srcRect l="932" t="2800" r="0" b="0"/>
          <a:stretch/>
        </p:blipFill>
        <p:spPr>
          <a:xfrm>
            <a:off x="7689960" y="1413000"/>
            <a:ext cx="1800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3" descr="Segue.jpg"/>
          <p:cNvPicPr/>
          <p:nvPr/>
        </p:nvPicPr>
        <p:blipFill>
          <a:blip r:embed="rId1"/>
          <a:stretch/>
        </p:blipFill>
        <p:spPr>
          <a:xfrm>
            <a:off x="0" y="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 “Servizi e reti WiF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8600" y="1371600"/>
            <a:ext cx="9333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8520" y="1413000"/>
            <a:ext cx="5832720" cy="48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ervizi e reti WiFi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ha inteso incrementare la copertura WiFi e favorire l’adozione di servizi on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	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i è articolato nelle iniziati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ampus digit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i tutto il territori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ntroduzione servizi di iscrizione online e verbalizzazione elettronica degli esami (70% dei fondi) – sviluppo WiF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3960" indent="-3682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WiFi S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Rivolta alle università delle regioni del Mezzogi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SzPct val="130000"/>
              <a:buFont typeface="Arial"/>
              <a:buChar char="•"/>
              <a:tabLst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sviluppo WiFi (70% ei fondi) – introduzione servizi di iscrizione online e verbalizzazione elettronica degli esami (30% dei fond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353880" algn="just">
              <a:lnSpc>
                <a:spcPct val="100000"/>
              </a:lnSpc>
              <a:tabLst>
                <a:tab algn="l" pos="0"/>
                <a:tab algn="l" pos="812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 algn="just">
              <a:buClr>
                <a:srgbClr val="009900"/>
              </a:buClr>
              <a:buFont typeface="Calibri"/>
              <a:buChar char="■"/>
              <a:tabLst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si basa sull’esperienza dell’iniziativa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 Cappuccino per un PC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,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he ha finanziato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64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università italiane per la realizzazione di reti Wi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egnaposto numero diapositiva 6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CDEF-5818-4EF5-947A-2CE1231138DA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rcRect l="12367" t="23626" r="33781" b="8446"/>
          <a:stretch/>
        </p:blipFill>
        <p:spPr>
          <a:xfrm>
            <a:off x="6392880" y="1319040"/>
            <a:ext cx="2763720" cy="2614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3"/>
          <a:srcRect l="14139" t="24369" r="33039" b="8259"/>
          <a:stretch/>
        </p:blipFill>
        <p:spPr>
          <a:xfrm>
            <a:off x="6392880" y="3995640"/>
            <a:ext cx="2765520" cy="264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4"/>
          <a:srcRect l="59413" t="56722" r="25093" b="34424"/>
          <a:stretch/>
        </p:blipFill>
        <p:spPr>
          <a:xfrm>
            <a:off x="4773600" y="2060640"/>
            <a:ext cx="1366920" cy="4633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72" name="Picture 10" descr=""/>
          <p:cNvPicPr/>
          <p:nvPr/>
        </p:nvPicPr>
        <p:blipFill>
          <a:blip r:embed="rId5"/>
          <a:stretch/>
        </p:blipFill>
        <p:spPr>
          <a:xfrm>
            <a:off x="4773600" y="3554280"/>
            <a:ext cx="14032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3" descr="Segue.jpg"/>
          <p:cNvPicPr/>
          <p:nvPr/>
        </p:nvPicPr>
        <p:blipFill>
          <a:blip r:embed="rId1"/>
          <a:stretch/>
        </p:blipFill>
        <p:spPr>
          <a:xfrm>
            <a:off x="0" y="324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9154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etto“Università digita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-15840" y="1461960"/>
            <a:ext cx="619272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Il progetto </a:t>
            </a:r>
            <a:r>
              <a:rPr b="1" i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“Università digitale”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 intende accelerare il processo di semplificazione e digitalizzazione dei serviz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telefonia 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OIP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per personale e studen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verbalizzazione elettronica degli esam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completa digitalizzazione del processo (dalla definizione degli appelli, alla redazione e conservazione dei verbal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fascicolo personale digita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raccolta degli eventi universitari dello studente (dall’immatricolazione, ai piani di studio, ai verbali di esame)  in un formato condiviso e in linea con gli standard europe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eliminazione dei flussi cartace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 automazione dei flussi informativi tra gli atenei (es: foglio di congedo) e tra gli atenei e il MIUR (es: anagrafe studenti), per convergere a modelli standard di documenti e razionalizzare le banche dati esistent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Aft>
                <a:spcPts val="601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ompletamento e federazione delle reti WiFi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:</a:t>
            </a:r>
            <a:r>
              <a:rPr b="1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creazione di uno spazio WiFi unico degli atenei per studenti e ricercatori, con aperture al territorio (</a:t>
            </a:r>
            <a:r>
              <a:rPr b="1" lang="it-IT" sz="1600" spc="-1" strike="noStrike" u="sng">
                <a:solidFill>
                  <a:srgbClr val="345a88"/>
                </a:solidFill>
                <a:uFillTx/>
                <a:latin typeface="Arial"/>
                <a:ea typeface="宋体"/>
              </a:rPr>
              <a:t>scuole</a:t>
            </a:r>
            <a:r>
              <a:rPr b="0" lang="it-IT" sz="1600" spc="-1" strike="noStrike">
                <a:solidFill>
                  <a:srgbClr val="345a88"/>
                </a:solidFill>
                <a:latin typeface="Arial"/>
                <a:ea typeface="宋体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F1FF-B123-40C6-AE59-CFAFD83113D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2"/>
          <a:srcRect l="10141" t="22636" r="34490" b="7683"/>
          <a:stretch/>
        </p:blipFill>
        <p:spPr>
          <a:xfrm>
            <a:off x="6465960" y="2817720"/>
            <a:ext cx="3240000" cy="305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3"/>
          <a:stretch/>
        </p:blipFill>
        <p:spPr>
          <a:xfrm>
            <a:off x="6969240" y="1461960"/>
            <a:ext cx="230508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Segue.jpg"/>
          <p:cNvPicPr/>
          <p:nvPr/>
        </p:nvPicPr>
        <p:blipFill>
          <a:blip r:embed="rId1"/>
          <a:stretch/>
        </p:blipFill>
        <p:spPr>
          <a:xfrm>
            <a:off x="0" y="-936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4520" y="1333440"/>
            <a:ext cx="792144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145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progetti finanziati dal Dipart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9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82,14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un’iniziativa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5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61,90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d almen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0720" indent="-354240"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9900"/>
              </a:buClr>
              <a:buFont typeface="Wingdings" charset="2"/>
              <a:buChar char=""/>
              <a:tabLst>
                <a:tab algn="l" pos="2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4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atenei su 84 (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28,57%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)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hanno partecipato a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3 </a:t>
            </a: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iniziative del program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 algn="just">
              <a:lnSpc>
                <a:spcPct val="100000"/>
              </a:lnSpc>
              <a:spcBef>
                <a:spcPts val="1199"/>
              </a:spcBef>
              <a:buClr>
                <a:srgbClr val="009900"/>
              </a:buClr>
              <a:buFont typeface="Calibri"/>
              <a:buChar char="■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Tutti i progetti attivati si concluderanno entro </a:t>
            </a:r>
            <a:r>
              <a:rPr b="1" lang="it-IT" sz="1400" spc="-1" strike="noStrike">
                <a:solidFill>
                  <a:srgbClr val="345a88"/>
                </a:solidFill>
                <a:latin typeface="Arial"/>
                <a:ea typeface="宋体"/>
              </a:rPr>
              <a:t>marzo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9842-6E92-4EF1-AA41-1CA096CF04E0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le 1"/>
          <p:cNvSpPr/>
          <p:nvPr/>
        </p:nvSpPr>
        <p:spPr>
          <a:xfrm>
            <a:off x="762120" y="260280"/>
            <a:ext cx="8915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1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2"/>
          <a:srcRect l="0" t="10526" r="0" b="20475"/>
          <a:stretch/>
        </p:blipFill>
        <p:spPr>
          <a:xfrm>
            <a:off x="1492200" y="3343320"/>
            <a:ext cx="69217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Segue.jpg"/>
          <p:cNvPicPr/>
          <p:nvPr/>
        </p:nvPicPr>
        <p:blipFill>
          <a:blip r:embed="rId1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85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6937-9C85-427F-BBBC-6B8C440A1C9D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6"/>
          <p:cNvSpPr/>
          <p:nvPr/>
        </p:nvSpPr>
        <p:spPr>
          <a:xfrm>
            <a:off x="415800" y="1268280"/>
            <a:ext cx="6266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45a88"/>
                </a:solidFill>
                <a:latin typeface="Arial"/>
                <a:ea typeface="宋体"/>
              </a:rPr>
              <a:t>Finanziamenti crescenti per interventi sempre più mir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76212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l programma ICT4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numeri (2/2)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2"/>
          <a:srcRect l="0" t="0" r="0" b="10808"/>
          <a:stretch/>
        </p:blipFill>
        <p:spPr>
          <a:xfrm>
            <a:off x="446040" y="1916280"/>
            <a:ext cx="90140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ante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176-EA5D-4470-9E90-16F60126417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3"/>
          <a:stretch/>
        </p:blipFill>
        <p:spPr>
          <a:xfrm>
            <a:off x="5681520" y="2154240"/>
            <a:ext cx="29307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"/>
          <p:cNvPicPr/>
          <p:nvPr/>
        </p:nvPicPr>
        <p:blipFill>
          <a:blip r:embed="rId1"/>
          <a:srcRect l="5873" t="5768" r="8631" b="18149"/>
          <a:stretch/>
        </p:blipFill>
        <p:spPr>
          <a:xfrm>
            <a:off x="272880" y="1486080"/>
            <a:ext cx="6588360" cy="439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Segue.jpg"/>
          <p:cNvPicPr/>
          <p:nvPr/>
        </p:nvPicPr>
        <p:blipFill>
          <a:blip r:embed="rId2"/>
          <a:stretch/>
        </p:blipFill>
        <p:spPr>
          <a:xfrm>
            <a:off x="0" y="-71280"/>
            <a:ext cx="9906120" cy="1357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189000"/>
            <a:ext cx="8915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f497d"/>
                </a:solidFill>
                <a:latin typeface="Calibri"/>
              </a:rPr>
              <a:t>Impatto del programma ICT4University</a:t>
            </a:r>
            <a:br>
              <a:rPr sz="3200"/>
            </a:br>
            <a:r>
              <a:rPr b="1" lang="it-IT" sz="2400" spc="-1" strike="noStrike">
                <a:solidFill>
                  <a:srgbClr val="1f497d"/>
                </a:solidFill>
                <a:latin typeface="Calibri"/>
              </a:rPr>
              <a:t>- I principali indicatori (post)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egnaposto numero diapositiva 5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1DD-12BC-4500-BDAA-EE1D073D85B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3"/>
          <a:stretch/>
        </p:blipFill>
        <p:spPr>
          <a:xfrm>
            <a:off x="5673600" y="2146320"/>
            <a:ext cx="403236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42:30Z</dcterms:created>
  <dc:creator>pd</dc:creator>
  <dc:description/>
  <dc:language>en-US</dc:language>
  <cp:lastModifiedBy>Paolo Donzelli</cp:lastModifiedBy>
  <dcterms:modified xsi:type="dcterms:W3CDTF">2010-11-11T12:51:41Z</dcterms:modified>
  <cp:revision>354</cp:revision>
  <dc:subject/>
  <dc:title>eHealth forum milano</dc:title>
</cp:coreProperties>
</file>