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C64-D57B-4FC2-892E-060F6DE9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AE7-B6CF-4D62-9DCB-86304E3F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9B7-D3E0-4A90-B5AA-2B076CBB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B3B-9B62-4019-8476-9741FB765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E9C0-517E-43C3-9C29-81C517E44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9B3A-E731-41EB-9102-EF1E09E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D32-2144-455C-8B20-1402787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4391-44A7-41B1-8B24-39715EAC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430C-CD76-4F68-84CB-AF1C5CB9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46A2-5043-4B68-84EA-6A4A1D0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2E49-5FE0-475C-8ECC-A6273E50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85E-9CA3-4A05-9514-983598CB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6793-18BC-4D1A-9EEC-C4EDCA5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516-8414-48D3-8B29-E6BEE43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92AF-F38F-4D43-A84D-C5DE791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BEBF-6407-4D29-AFE3-AC443C99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77C6-0564-48C5-BD68-C228E9B6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1B4-070B-4B86-A808-9E5A85A5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E9E-29BB-4843-A8E6-11A1AE77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4A0-CF67-41C8-8A5F-B3482A5D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35120" y="26028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B49-AE70-44F6-89F4-DBED691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F286-8AD7-4241-A7EF-CABC9A6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CC4D-FDF1-4526-A0D4-9ECBD03D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224-70E3-4D25-B4A2-ED41860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325440">
              <a:spcBef>
                <a:spcPts val="601"/>
              </a:spcBef>
              <a:buClr>
                <a:srgbClr val="e36928"/>
              </a:buClr>
              <a:buSzPct val="6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51000" indent="-3510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927080" indent="-315720">
              <a:spcBef>
                <a:spcPts val="6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446200" indent="-339480">
              <a:spcBef>
                <a:spcPts val="60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446200" indent="-3394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32000" y="6243480"/>
            <a:ext cx="555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erbalizzazione esami: proposta processo dematerializzato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-  </a:t>
            </a:r>
            <a:fld id="{6013D3E1-EA79-4B53-810F-2E42E3302CC4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165720"/>
            <a:ext cx="822960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882440"/>
            <a:ext cx="76230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900-CBA3-49CC-9F7E-EEE116BD15A2}" type="slidenum">
              <a:rPr b="0" lang="it-IT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219320"/>
            <a:ext cx="7923240" cy="2496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5289480"/>
            <a:ext cx="4352760" cy="0"/>
          </a:xfrm>
          <a:prstGeom prst="line">
            <a:avLst/>
          </a:prstGeom>
          <a:ln w="19080">
            <a:solidFill>
              <a:srgbClr val="e369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3849840"/>
            <a:ext cx="3009960" cy="1666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45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71400" indent="228600" algn="ctr">
              <a:spcBef>
                <a:spcPts val="45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58752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indent="765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 indent="765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4996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Napoli – 12 novembre 2010 </a:t>
            </a:r>
            <a:br>
              <a:rPr sz="1800"/>
            </a:br>
            <a:r>
              <a:rPr b="1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WORKSHOP ICT4UNIVERSITY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tà Federico II, Complesso San Marcellino e Fes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68720" y="4221000"/>
            <a:ext cx="489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 Boglio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niversità di Urb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lessandro.bogliolo@uniurb.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635280" y="2693880"/>
            <a:ext cx="2392560" cy="1220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55640" y="1474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petti normativi delle reti 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 della comunicazione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ollaborazione con AGCOM e FUB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28120" y="1196640"/>
            <a:ext cx="785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COM e FUB hanno siglato un accordo triennale per studi e ricerche nel settore Reti, Editoria, Televisi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GC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è innanzitutto un’autorità di garanzia con il duplice compito di assicurare la competizione degli operatori e di tutelare  … libertà fondamentali dei cittadin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Fondazione Ugo Bordoni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UB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, sottoposta alla vigilanza del Ministero dello Sviluppo Economico, realizza ricerche, studi scientifici e applicativi nelle materie delle comunicazioni elettroniche … al fine di promuovere il progresso scientifico e l'innovazione tecnologica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propone di offrire ad AGCOM e FUB la disponibilità del tavolo tecnico a discutere temi di loro interesse, eventualmente elaborando pareri e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tivazio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7859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icoltà interpretative della normativa vigente rallentano l’introduzione di ICT in Aten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singoli atenei difficilmente hanno la massa critica e la motivazione per risolvere i problemi interpreta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tavolo tecnico ha le caratteristiche giuste per provare a dirimere alcune questioni di interesse del sistema universitario in virt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massa cri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della legittimazione ricevuta da DDI e MI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Modus operand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78598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artire da casi d’uso concreti che evidenzino il problema interpret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nalizzare la normativa con l’aiuto di giuri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edigere linee guida che rappresentino soluzioni adeguate applicate al caso d’u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hiedere il conforto delle autorità competenti sulla legittimità delle soluzioni propos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pprovare e pubblicare 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dottare e implementazione pilota delle linee gu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vorire il riuso delle esperienze pil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9756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Verbalizzazione onlin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sottolinea ch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tema è stato affrontato da un apposito gruppo di lavoro prima della costituzione formale del gruppo di lavoro sugli aspetti norm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s operandi adottato dal tavolo tecnico e il successo nella definizione di linee guida pragmatiche per la verbalizzazione online hanno creato i presupposti per la costituzione di un gruppo di lavoro sugli aspetti normativi trasversale ai gruppi temat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3865680" y="6165720"/>
            <a:ext cx="49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ere favorevole espresso da DigitPA e MI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VoIP nomadico e servizi agli studenti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: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'utente, dotato di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erminale VoIP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collegato su rete IP al centralino dell'istituzione di appartenenza, si presenta sulla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rete telefonica gener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STN) con un numero di telefono del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iano di numerazione naziona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(PNN) assegnato all'istituzione di appartenenz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Uso nomadico di numeri fi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ocalizzazione delle chiam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ervizi VoIP agli stud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llegato alle linee guida sul VoIP che saranno oggetto di uno specific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601160" y="616572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AG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affrontati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Autenticazione federata 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per l’accesso ad Internet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Caso d’us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: L'utente, registrato presso un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rganizzazione di appartenenz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Od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, che gli ha fornito un’identità digitale e le relative credenziali (username e password, o certificato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tilizza le credenziali fornite dall’OdA per accedere ad Internet attraverso le risorse di rete di un secondo soggetto, detto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ornitore di serviz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FdS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e3692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on si forniscono dettagli poiché il tema sarà trattato in un apposito interv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6172200"/>
            <a:ext cx="76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re favorevole espresso da Polizia Postale - Ministero dell’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it-IT" sz="2800" spc="-1" strike="noStrike">
                <a:solidFill>
                  <a:srgbClr val="006633"/>
                </a:solidFill>
                <a:latin typeface="Verdana"/>
              </a:rPr>
              <a:t>Web services per l’accesso ad ANS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28120" y="1413000"/>
            <a:ext cx="78598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ggett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Modello di cooperazione applicativa tra Università e ANS  finalizzato a semplificare il conferimento di dati all’ANS da parte delle Università e fornire supporto alla mobilità nazionale degli studenti universita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smissione  all’ANS dei dati di carrier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i errori sintattici e semantici nei dati e di anomalie di trasmission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e prime immatricolazioni nel sistema universitario italiano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spcBef>
                <a:spcPts val="1001"/>
              </a:spcBef>
              <a:buClr>
                <a:srgbClr val="e3692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ifica dello stato della carriera degli studen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ito predisposto da DDI e MIUR per garante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GSM BOX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8120" y="1197000"/>
            <a:ext cx="78598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ffettuare internamente un 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assaggio fisso-mobil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per poter usufruire delle tariffe più vantaggiose mobile-mobile per mettere in comunicazione i telefoni di rete fissa dell’Ateneo con i cellular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 (UniFE): 8c€ fisso-mobile, 3.5c€ mobile-mobile, con 70% di traffico verso cellulare il risparmio sulla spesa telefonica complessiva sarebbe del 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normativa non sembra vietare l’uso di GSM-BOX, ma gli operatori non lo ammetto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assumerà una posizione collegiale da sottoporre alle autorità competen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2340000" y="61722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perienze di Milano Bicocca (Ministeri) e UniFE (Coreco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Temi sul tavolo:</a:t>
            </a:r>
            <a:br>
              <a:rPr sz="2800"/>
            </a:b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Interconnessione tra reti private</a:t>
            </a:r>
            <a:endParaRPr b="1" lang="en-US" sz="2800" spc="-1" strike="noStrike">
              <a:solidFill>
                <a:srgbClr val="006633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28120" y="1267920"/>
            <a:ext cx="785988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eti degli atenei sono reti “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” soggette a limitazioni di uso e di interconnessione imposte dal codice delle comunicazion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76160" indent="-380880">
              <a:lnSpc>
                <a:spcPct val="90000"/>
              </a:lnSpc>
              <a:spcBef>
                <a:spcPts val="1001"/>
              </a:spcBef>
              <a:buClr>
                <a:srgbClr val="e36928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empio: accordi tra Atenei e Pubbliche amministrazioni per la copertura Wi-Fi di zone metropolitan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emi correlati: misure anti digital divide, NREN, aiuti di sta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l tavolo tecnico intende chiarire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con ‘eventuale aiuto di AGCOM)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 i limiti e le opportunità di utilizzo ed interconnessione delle reti degli Atene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61722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te di Urbino - Interpretazioni dell’Ispettorato dell’Emilia Roma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19:12Z</dcterms:created>
  <dc:creator>Cesare</dc:creator>
  <dc:description/>
  <dc:language>en-US</dc:language>
  <cp:lastModifiedBy>xxx</cp:lastModifiedBy>
  <dcterms:modified xsi:type="dcterms:W3CDTF">2010-11-12T07:55:25Z</dcterms:modified>
  <cp:revision>39</cp:revision>
  <dc:subject/>
  <dc:title>La verbalizzazione degli esami:  proposta di processo dematerializzato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