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CD02-95B9-4D4C-BB9F-6FAAEF4B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1D15-E391-43B5-87E4-5F10A740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7D12-7E19-43ED-AA7E-630B5120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2F9F-8BBF-440A-BDFC-9B9C274B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15AE-A3A2-4DB1-8388-300619C5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4ECC-E7EB-4C35-9832-C7E988EA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91EC-CA5B-4D80-9347-BD4BFBB0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A258-6576-4E2F-905C-3A6BDE7B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914E-36E2-4C01-BB9A-E379DBF2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35120" y="26028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CD83-3DF1-4CC9-BB02-B74505E6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A2EF-6A72-4F38-A12C-5D5A47E4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0B9C-2A1C-47E9-8F40-F066708D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5E2F-2E0D-47F4-B3CE-42D0FF67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5434-5877-4D73-A070-BAD978D1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768A-3BD7-451B-B404-5B9A183C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72AC-2245-4722-AFC4-E7C5E31E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71AE-AE19-42AA-9445-0C93D1F4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CB30-15BA-4804-B837-4B3CFEB9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E661-059E-4256-8238-3E1962A9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FEB2-52F9-4847-A192-06DABBAE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5120" y="26028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089D-1413-4478-AE9F-06899DB5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BA09-5933-4ABA-A7B0-1A978060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F179-2F24-426E-A367-51B804A3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EF6B-8BE0-479D-AA29-F70FE1D0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spcBef>
                <a:spcPts val="6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51000" indent="-351000">
              <a:spcBef>
                <a:spcPts val="601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927080" indent="-31572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446200" indent="-33948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44620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44620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erbalizzazione esami: proposta processo dematerializzato</a:t>
            </a: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-  </a:t>
            </a:r>
            <a:fld id="{767A9C7A-658B-4110-A394-62179EC83749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6165720"/>
            <a:ext cx="8229600" cy="0"/>
          </a:xfrm>
          <a:prstGeom prst="line">
            <a:avLst/>
          </a:prstGeom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882440"/>
            <a:ext cx="76230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8A86-01CC-4294-81E9-1385568D9816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219320"/>
            <a:ext cx="7923240" cy="24969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5289480"/>
            <a:ext cx="4352760" cy="0"/>
          </a:xfrm>
          <a:prstGeom prst="line">
            <a:avLst/>
          </a:prstGeom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3849840"/>
            <a:ext cx="3009960" cy="1666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452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71400" indent="228600" algn="ctr">
              <a:spcBef>
                <a:spcPts val="451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58752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indent="765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 indent="765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 indent="765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04996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Verdana"/>
              </a:rPr>
              <a:t>Napoli – 12 novembre 2010 </a:t>
            </a:r>
            <a:br>
              <a:rPr sz="1800"/>
            </a:br>
            <a:r>
              <a:rPr b="1" lang="it-IT" sz="2000" spc="-1" strike="noStrike">
                <a:solidFill>
                  <a:srgbClr val="000000"/>
                </a:solidFill>
                <a:latin typeface="Verdana"/>
                <a:ea typeface="Verdana"/>
              </a:rPr>
              <a:t>WORKSHOP ICT4UNIVERSITY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Verdana"/>
              </a:rPr>
              <a:t>Università Federico II, Complesso San Marcellino e Festo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068720" y="4221000"/>
            <a:ext cx="4896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lessandro Boglio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niversità di Urbi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lessandro.bogliolo@uniurb.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635280" y="2693880"/>
            <a:ext cx="2392560" cy="1220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5640" y="1474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petti normativi delle reti 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 della comunicazione digi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llaborazione con AGCOM e FUB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28120" y="1196640"/>
            <a:ext cx="78598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COM e FUB hanno siglato un accordo triennale per studi e ricerche nel settore Reti, Editoria, Televisio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GCO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è innanzitutto un’autorità di garanzia con il duplice compito di assicurare la competizione degli operatori e di tutelare  … libertà fondamentali dei cittadini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Fondazione Ugo Bordoni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UB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, sottoposta alla vigilanza del Ministero dello Sviluppo Economico, realizza ricerche, studi scientifici e applicativi nelle materie delle comunicazioni elettroniche … al fine di promuovere il progresso scientifico e l'innovazione tecnologica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propone di offrire ad AGCOM e FUB la disponibilità del tavolo tecnico a discutere temi di loro interesse, eventualmente elaborando pareri e propos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Motivazion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7859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icoltà interpretative della normativa vigente rallentano l’introduzione di ICT in Atene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singoli atenei difficilmente hanno la massa critica e la motivazione per risolvere i problemi interpretati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 tavolo tecnico ha le caratteristiche giuste per provare a dirimere alcune questioni di interesse del sistema universitario in virt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della massa cri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della legittimazione ricevuta da DDI e MI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4597560" y="616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Modus operandi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7859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artire da casi d’uso concreti che evidenzino il problema interpreta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nalizzare la normativa con l’aiuto di giuri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Redigere linee guida che rappresentino soluzioni adeguate applicate al caso d’u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hiedere il conforto delle autorità competenti sulla legittimità delle soluzioni propos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pprovare e pubblicare le linee gu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dottare e implementazione pilota delle linee gu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avorire il riuso delle esperienze pilo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4597560" y="616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Temi affrontati: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Verbalizzazione onlin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n si forniscono dettagli poiché il tema sarà trattato in un apposito interv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sottolinea ch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 tema è stato affrontato da un apposito gruppo di lavoro prima della costituzione formale del gruppo di lavoro sugli aspetti normativ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 modus operandi adottato dal tavolo tecnico e il successo nella definizione di linee guida pragmatiche per la verbalizzazione online hanno creato i presupposti per la costituzione di un gruppo di lavoro sugli aspetti normativi trasversale ai gruppi tematic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3865680" y="6165720"/>
            <a:ext cx="49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rere favorevole espresso da DigitPA e MI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Temi affrontati:</a:t>
            </a:r>
            <a:br>
              <a:rPr sz="2800"/>
            </a:b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VoIP nomadico e servizi agli studenti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Caso d’uso: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'utente, dotato di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terminale VoIP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collegato su rete IP al centralino dell'istituzione di appartenenza, si presenta sulla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rete telefonica general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(PSTN) con un numero di telefono del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piano di numerazione nazional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(PNN) assegnato all'istituzione di appartenenz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1001"/>
              </a:spcBef>
              <a:buClr>
                <a:srgbClr val="e36928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so nomadico di numeri fis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1001"/>
              </a:spcBef>
              <a:buClr>
                <a:srgbClr val="e36928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ocalizzazione delle chiam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1001"/>
              </a:spcBef>
              <a:buClr>
                <a:srgbClr val="e36928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ervizi VoIP agli studen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llegato alle linee guida sul VoIP che saranno oggetto di uno specifico interv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601160" y="616572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re favorevole espresso da AG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Temi affrontati: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Autenticazione federata 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per l’accesso ad Internet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Caso d’us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L'utente, registrato presso un soggetto, detto “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Organizzazione di appartenenz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Od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, che gli ha fornito un’identità digitale e le relative credenziali (username e password, o certificato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tilizza le credenziali fornite dall’OdA per accedere ad Internet attraverso le risorse di rete di un secondo soggetto, detto “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Fornitore di servizi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FdS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Non si forniscono dettagli poiché il tema sarà trattato in un apposito interv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6172200"/>
            <a:ext cx="76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re favorevole espresso da Polizia Postale - Ministero dell’In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Temi sul tavolo:</a:t>
            </a:r>
            <a:br>
              <a:rPr sz="2800"/>
            </a:b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Web services per l’accesso ad ANS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28120" y="1413000"/>
            <a:ext cx="7859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ggett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Modello di cooperazione applicativa tra Università e ANS  finalizzato a semplificare il conferimento di dati all’ANS da parte delle Università e fornire supporto alla mobilità nazionale degli studenti universitar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smissione  all’ANS dei dati di carrier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ifica di errori sintattici e semantici nei dati e di anomalie di trasmission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ifica delle prime immatricolazioni nel sistema universitario italian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ifica dello stato della carriera degli student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617220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ito predisposto da DDI e MIUR per garante 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Temi sul tavolo: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GSM BOX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28120" y="1197000"/>
            <a:ext cx="78598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ffettuare internamente un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passaggio fisso-mobil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per poter usufruire delle tariffe più vantaggiose mobile-mobile per mettere in comunicazione i telefoni di rete fissa dell’Ateneo con i cellular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1001"/>
              </a:spcBef>
              <a:buClr>
                <a:srgbClr val="e36928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sempio (UniFE): 8c€ fisso-mobile, 3.5c€ mobile-mobile, con 70% di traffico verso cellulare il risparmio sulla spesa telefonica complessiva sarebbe del 4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normativa non sembra vietare l’uso di GSM-BOX, ma gli operatori non lo ammetton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l tavolo tecnico assumerà una posizione collegiale da sottoporre alle autorità competent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2340000" y="617220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perienze di Milano Bicocca (Ministeri) e UniFE (Coreco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Temi sul tavolo: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Interconnessione tra reti privat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28120" y="1267920"/>
            <a:ext cx="785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e reti degli atenei sono reti “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” soggette a limitazioni di uso e di interconnessione imposte dal codice delle comunicazio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1001"/>
              </a:spcBef>
              <a:buClr>
                <a:srgbClr val="e36928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sempio: accordi tra Atenei e Pubbliche amministrazioni per la copertura Wi-Fi di zone metropolitane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emi correlati: misure anti digital divide, NREN, aiuti di sta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l tavolo tecnico intende chiarire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con ‘eventuale aiuto di AGCOM)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 i limiti e le opportunità di utilizzo ed interconnessione delle reti degli Atene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61722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te di Urbino - Interpretazioni dell’Ispettorato dell’Emilia Roma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1:19:12Z</dcterms:created>
  <dc:creator>Cesare</dc:creator>
  <dc:description/>
  <dc:language>en-US</dc:language>
  <cp:lastModifiedBy>xxx</cp:lastModifiedBy>
  <dcterms:modified xsi:type="dcterms:W3CDTF">2010-11-12T07:55:25Z</dcterms:modified>
  <cp:revision>39</cp:revision>
  <dc:subject/>
  <dc:title>La verbalizzazione degli esami:  proposta di processo dematerializzato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