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7562-23A8-4254-A337-77FEF260F7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DBB2-E1D5-4059-A91A-B0087C05374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DB65-1F18-4F3F-A334-9331A0C24EE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D05BC-4EFE-4236-8467-395F2F04C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6D45A-7B05-43AC-BBF0-566EE5B99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AC4B3-9D35-43AA-832E-758F5D349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B50A3-FFD8-4033-8CC8-5F5692EEE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F2A42-DE42-4125-B97B-A2FA926DF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90ECD-6941-4466-A44F-1D1F419EB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76AC9-526F-46CC-8153-3349C9F4F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75102-FEDC-4365-BE3A-701FD310E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C9E0D-91C6-4341-A55B-EB16B3AEF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29CF1-4667-4070-8791-2F69F262E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E5A9E-85DD-4BBF-B156-6090444C3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28190-0A64-4A50-9AA2-629448128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2117-7FEE-425D-BA4D-2741F414E14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549360"/>
            <a:ext cx="7416720" cy="5381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enticazione Federata – L’approccio “Università Digitale”</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Cogliere l’opportunità</a:t>
            </a:r>
            <a:r>
              <a:rPr b="0" lang="it-IT" sz="1400" spc="-1" strike="noStrike">
                <a:solidFill>
                  <a:srgbClr val="000000"/>
                </a:solidFill>
                <a:latin typeface="Arial"/>
              </a:rPr>
              <a:t>: razionalizzare e unificare la gestione degli utenti, condividere le strategie di sicurezza, attuare meccanismi scalabili (sia per le applicazioni interne agli Atenei, sia per la comunicazione applicativa Interateneo, sia per l’accesso alle risorse di rete), controllare i costi, fare massa critica nei confronti dei fornitori di servizio (alla Federazione e non al singolo Ateneo), stabilire best pratices e accumulare dati effettivi che consentano una rilettura pragmatica delle attuali normative.</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Pragmatismo e sostenibilità</a:t>
            </a:r>
            <a:r>
              <a:rPr b="0" lang="it-IT" sz="1400" spc="-1" strike="noStrike">
                <a:solidFill>
                  <a:srgbClr val="000000"/>
                </a:solidFill>
                <a:latin typeface="Arial"/>
              </a:rPr>
              <a:t>: la proposta UniDIGI consiste nella realizzazione iniziale di un insieme </a:t>
            </a:r>
            <a:r>
              <a:rPr b="1" lang="it-IT" sz="1400" spc="-1" strike="noStrike" u="sng">
                <a:solidFill>
                  <a:srgbClr val="000000"/>
                </a:solidFill>
                <a:uFillTx/>
                <a:latin typeface="Arial"/>
              </a:rPr>
              <a:t>minimo</a:t>
            </a:r>
            <a:r>
              <a:rPr b="0" lang="it-IT" sz="1400" spc="-1" strike="noStrike">
                <a:solidFill>
                  <a:srgbClr val="000000"/>
                </a:solidFill>
                <a:latin typeface="Arial"/>
              </a:rPr>
              <a:t>, </a:t>
            </a:r>
            <a:r>
              <a:rPr b="1" lang="it-IT" sz="1400" spc="-1" strike="noStrike" u="sng">
                <a:solidFill>
                  <a:srgbClr val="000000"/>
                </a:solidFill>
                <a:uFillTx/>
                <a:latin typeface="Arial"/>
              </a:rPr>
              <a:t>omogeneo</a:t>
            </a:r>
            <a:r>
              <a:rPr b="0" lang="it-IT" sz="1400" spc="-1" strike="noStrike">
                <a:solidFill>
                  <a:srgbClr val="000000"/>
                </a:solidFill>
                <a:latin typeface="Arial"/>
              </a:rPr>
              <a:t> e </a:t>
            </a:r>
            <a:r>
              <a:rPr b="1" lang="it-IT" sz="1400" spc="-1" strike="noStrike" u="sng">
                <a:solidFill>
                  <a:srgbClr val="000000"/>
                </a:solidFill>
                <a:uFillTx/>
                <a:latin typeface="Arial"/>
              </a:rPr>
              <a:t>garantito</a:t>
            </a:r>
            <a:r>
              <a:rPr b="0" lang="it-IT" sz="1400" spc="-1" strike="noStrike">
                <a:solidFill>
                  <a:srgbClr val="000000"/>
                </a:solidFill>
                <a:latin typeface="Arial"/>
              </a:rPr>
              <a:t> di </a:t>
            </a:r>
            <a:r>
              <a:rPr b="0" i="1" lang="it-IT" sz="1400" spc="-1" strike="noStrike">
                <a:solidFill>
                  <a:srgbClr val="000000"/>
                </a:solidFill>
                <a:latin typeface="Arial"/>
              </a:rPr>
              <a:t>servizi</a:t>
            </a:r>
            <a:r>
              <a:rPr b="0" lang="it-IT" sz="1400" spc="-1" strike="noStrike">
                <a:solidFill>
                  <a:srgbClr val="000000"/>
                </a:solidFill>
                <a:latin typeface="Arial"/>
              </a:rPr>
              <a:t> di accesso, in modo tale da avviare su basi concrete la realizzazione della Federazione e senza instaurare fin dall’inizio vincoli che potrebbero precludere opportunità di fruizione e realizzazione di servizi a valore aggiunto</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In pratica</a:t>
            </a:r>
            <a:r>
              <a:rPr b="0" lang="it-IT" sz="1400" spc="-1" strike="noStrike">
                <a:solidFill>
                  <a:srgbClr val="000000"/>
                </a:solidFill>
                <a:latin typeface="Arial"/>
              </a:rPr>
              <a:t>: Le Università partecipanti adotteranno le soluzioni tecnico–organizzative necessarie a garantire almeno i seguenti servizi federati: 1) Accesso in roaming alla rete Internet attraverso la propria struttura tecnologica Wi-Fi, esteso ad una o più zone e consentito agli utenti accreditati presso le organizzazioni afferenti alla Federazione Italiana Eduroam, secondo le modalità tecnico–operative stabilite dalla Federazione stessa; 2) Accesso alla rete Internet mediato da Captive Portal (o soluzione funzionalmente equivalente) consentito agli utenti accreditati presso le organizzazioni afferenti alla Federazione IDEM, secondo le modalità tecnico–operative stabilite dalla Federazione stessa.</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755640" y="333360"/>
            <a:ext cx="6840720" cy="5865840"/>
          </a:xfrm>
          <a:prstGeom prst="rect">
            <a:avLst/>
          </a:prstGeom>
          <a:ln w="0">
            <a:noFill/>
          </a:ln>
        </p:spPr>
      </p:pic>
      <p:sp>
        <p:nvSpPr>
          <p:cNvPr id="50" name="Text Box 5"/>
          <p:cNvSpPr/>
          <p:nvPr/>
        </p:nvSpPr>
        <p:spPr>
          <a:xfrm>
            <a:off x="4572000" y="115920"/>
            <a:ext cx="4105440" cy="2022840"/>
          </a:xfrm>
          <a:prstGeom prst="rect">
            <a:avLst/>
          </a:prstGeom>
          <a:solidFill>
            <a:srgbClr val="bbe0e3">
              <a:alpha val="59000"/>
            </a:srgbClr>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rPr>
              <a:t>La soluzione tecnica UniDIG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atteggia un sistema UMS (User Management System) in ogni Ateneo nell’ottica dell’economicità e affidabilità dei processi di user provisioning e di gestione localizzata della legac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ggerisce l’integrazione tra le infrastrutture di IAM (Identity &amp; Access Management) e FIAM (Federated IA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mpiega per quanto possibile OSS (Open Source Software) nei componenti infrastrutturali.</a:t>
            </a:r>
            <a:endParaRPr b="0" lang="en-US" sz="1200" spc="-1" strike="noStrike">
              <a:solidFill>
                <a:srgbClr val="000000"/>
              </a:solidFill>
              <a:latin typeface="Arial"/>
            </a:endParaRPr>
          </a:p>
        </p:txBody>
      </p:sp>
      <p:sp>
        <p:nvSpPr>
          <p:cNvPr id="51" name="Text Box 6"/>
          <p:cNvSpPr/>
          <p:nvPr/>
        </p:nvSpPr>
        <p:spPr>
          <a:xfrm>
            <a:off x="1835280" y="9079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duroam</a:t>
            </a:r>
            <a:endParaRPr b="0" lang="en-US" sz="1800" spc="-1" strike="noStrike">
              <a:solidFill>
                <a:srgbClr val="000000"/>
              </a:solidFill>
              <a:latin typeface="Arial"/>
            </a:endParaRPr>
          </a:p>
        </p:txBody>
      </p:sp>
      <p:sp>
        <p:nvSpPr>
          <p:cNvPr id="52" name="Text Box 7"/>
          <p:cNvSpPr/>
          <p:nvPr/>
        </p:nvSpPr>
        <p:spPr>
          <a:xfrm>
            <a:off x="7128000" y="2421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EM</a:t>
            </a:r>
            <a:endParaRPr b="0" lang="en-US" sz="1800" spc="-1" strike="noStrike">
              <a:solidFill>
                <a:srgbClr val="000000"/>
              </a:solidFill>
              <a:latin typeface="Arial"/>
            </a:endParaRPr>
          </a:p>
        </p:txBody>
      </p:sp>
      <p:sp>
        <p:nvSpPr>
          <p:cNvPr id="53" name="Text Box 8"/>
          <p:cNvSpPr/>
          <p:nvPr/>
        </p:nvSpPr>
        <p:spPr>
          <a:xfrm>
            <a:off x="5076720" y="278136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P</a:t>
            </a:r>
            <a:endParaRPr b="0" lang="en-US" sz="1800" spc="-1" strike="noStrike">
              <a:solidFill>
                <a:srgbClr val="000000"/>
              </a:solidFill>
              <a:latin typeface="Arial"/>
            </a:endParaRPr>
          </a:p>
        </p:txBody>
      </p:sp>
      <p:sp>
        <p:nvSpPr>
          <p:cNvPr id="54" name="Text Box 9"/>
          <p:cNvSpPr/>
          <p:nvPr/>
        </p:nvSpPr>
        <p:spPr>
          <a:xfrm rot="16200000">
            <a:off x="-156600" y="434124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eneo</a:t>
            </a:r>
            <a:endParaRPr b="0" lang="en-US" sz="1600" spc="-1" strike="noStrike">
              <a:solidFill>
                <a:srgbClr val="000000"/>
              </a:solidFill>
              <a:latin typeface="Arial"/>
            </a:endParaRPr>
          </a:p>
        </p:txBody>
      </p:sp>
      <p:sp>
        <p:nvSpPr>
          <p:cNvPr id="55" name="Line 10"/>
          <p:cNvSpPr/>
          <p:nvPr/>
        </p:nvSpPr>
        <p:spPr>
          <a:xfrm>
            <a:off x="1042920" y="692280"/>
            <a:ext cx="0" cy="3024000"/>
          </a:xfrm>
          <a:prstGeom prst="line">
            <a:avLst/>
          </a:prstGeom>
          <a:ln w="57240">
            <a:solidFill>
              <a:srgbClr val="99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1"/>
          <p:cNvSpPr/>
          <p:nvPr/>
        </p:nvSpPr>
        <p:spPr>
          <a:xfrm>
            <a:off x="684360" y="2637000"/>
            <a:ext cx="0" cy="3024000"/>
          </a:xfrm>
          <a:prstGeom prst="line">
            <a:avLst/>
          </a:prstGeom>
          <a:ln w="57240">
            <a:solidFill>
              <a:srgbClr val="0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3"/>
          <p:cNvSpPr/>
          <p:nvPr/>
        </p:nvSpPr>
        <p:spPr>
          <a:xfrm>
            <a:off x="1403280" y="6021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M.S.</a:t>
            </a:r>
            <a:endParaRPr b="0" lang="en-US" sz="1800" spc="-1" strike="noStrike">
              <a:solidFill>
                <a:srgbClr val="000000"/>
              </a:solidFill>
              <a:latin typeface="Arial"/>
            </a:endParaRPr>
          </a:p>
        </p:txBody>
      </p:sp>
      <p:sp>
        <p:nvSpPr>
          <p:cNvPr id="58" name="Text Box 14"/>
          <p:cNvSpPr/>
          <p:nvPr/>
        </p:nvSpPr>
        <p:spPr>
          <a:xfrm rot="16200000">
            <a:off x="203760" y="145980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te</a:t>
            </a:r>
            <a:endParaRPr b="0" lang="en-US" sz="1600" spc="-1" strike="noStrike">
              <a:solidFill>
                <a:srgbClr val="000000"/>
              </a:solidFill>
              <a:latin typeface="Arial"/>
            </a:endParaRPr>
          </a:p>
        </p:txBody>
      </p:sp>
      <p:sp>
        <p:nvSpPr>
          <p:cNvPr id="59" name="Text Box 15"/>
          <p:cNvSpPr/>
          <p:nvPr/>
        </p:nvSpPr>
        <p:spPr>
          <a:xfrm rot="16200000">
            <a:off x="81360" y="287928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ederazione</a:t>
            </a:r>
            <a:endParaRPr b="0" lang="en-US" sz="1400" spc="-1" strike="noStrike">
              <a:solidFill>
                <a:srgbClr val="000000"/>
              </a:solidFill>
              <a:latin typeface="Arial"/>
            </a:endParaRPr>
          </a:p>
        </p:txBody>
      </p:sp>
      <p:sp>
        <p:nvSpPr>
          <p:cNvPr id="60" name="Text Box 16"/>
          <p:cNvSpPr/>
          <p:nvPr/>
        </p:nvSpPr>
        <p:spPr>
          <a:xfrm>
            <a:off x="6012000" y="5516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INECA</a:t>
            </a:r>
            <a:endParaRPr b="0" lang="en-US" sz="1800" spc="-1" strike="noStrike">
              <a:solidFill>
                <a:srgbClr val="000000"/>
              </a:solidFill>
              <a:latin typeface="Arial"/>
            </a:endParaRPr>
          </a:p>
        </p:txBody>
      </p:sp>
      <p:sp>
        <p:nvSpPr>
          <p:cNvPr id="61" name="Freeform 17"/>
          <p:cNvSpPr/>
          <p:nvPr/>
        </p:nvSpPr>
        <p:spPr>
          <a:xfrm>
            <a:off x="4056120" y="3429000"/>
            <a:ext cx="4044960" cy="3035160"/>
          </a:xfrm>
          <a:custGeom>
            <a:avLst/>
            <a:gdLst>
              <a:gd name="textAreaLeft" fmla="*/ 0 w 4044960"/>
              <a:gd name="textAreaRight" fmla="*/ 4045320 w 4044960"/>
              <a:gd name="textAreaTop" fmla="*/ 0 h 3035160"/>
              <a:gd name="textAreaBottom" fmla="*/ 3035520 h 3035160"/>
            </a:gdLst>
            <a:ahLst/>
            <a:rect l="textAreaLeft" t="textAreaTop" r="textAreaRight" b="textAreaBottom"/>
            <a:pathLst>
              <a:path w="2548" h="1912">
                <a:moveTo>
                  <a:pt x="2548" y="181"/>
                </a:moveTo>
                <a:cubicBezTo>
                  <a:pt x="2392" y="124"/>
                  <a:pt x="2237" y="68"/>
                  <a:pt x="2139" y="45"/>
                </a:cubicBezTo>
                <a:cubicBezTo>
                  <a:pt x="2041" y="22"/>
                  <a:pt x="2071" y="52"/>
                  <a:pt x="1958" y="45"/>
                </a:cubicBezTo>
                <a:cubicBezTo>
                  <a:pt x="1845" y="38"/>
                  <a:pt x="1603" y="0"/>
                  <a:pt x="1459" y="0"/>
                </a:cubicBezTo>
                <a:cubicBezTo>
                  <a:pt x="1315" y="0"/>
                  <a:pt x="1224" y="38"/>
                  <a:pt x="1096" y="45"/>
                </a:cubicBezTo>
                <a:cubicBezTo>
                  <a:pt x="968" y="52"/>
                  <a:pt x="824" y="45"/>
                  <a:pt x="688" y="45"/>
                </a:cubicBezTo>
                <a:cubicBezTo>
                  <a:pt x="552" y="45"/>
                  <a:pt x="386" y="7"/>
                  <a:pt x="280" y="45"/>
                </a:cubicBezTo>
                <a:cubicBezTo>
                  <a:pt x="174" y="83"/>
                  <a:pt x="99" y="181"/>
                  <a:pt x="53" y="272"/>
                </a:cubicBezTo>
                <a:cubicBezTo>
                  <a:pt x="7" y="363"/>
                  <a:pt x="0" y="446"/>
                  <a:pt x="7" y="590"/>
                </a:cubicBezTo>
                <a:cubicBezTo>
                  <a:pt x="14" y="734"/>
                  <a:pt x="53" y="975"/>
                  <a:pt x="98" y="1134"/>
                </a:cubicBezTo>
                <a:cubicBezTo>
                  <a:pt x="143" y="1293"/>
                  <a:pt x="204" y="1444"/>
                  <a:pt x="280" y="1542"/>
                </a:cubicBezTo>
                <a:cubicBezTo>
                  <a:pt x="356" y="1640"/>
                  <a:pt x="431" y="1671"/>
                  <a:pt x="552" y="1724"/>
                </a:cubicBezTo>
                <a:cubicBezTo>
                  <a:pt x="673" y="1777"/>
                  <a:pt x="862" y="1830"/>
                  <a:pt x="1005" y="1860"/>
                </a:cubicBezTo>
                <a:cubicBezTo>
                  <a:pt x="1148" y="1890"/>
                  <a:pt x="1338" y="1898"/>
                  <a:pt x="1414" y="1905"/>
                </a:cubicBezTo>
                <a:cubicBezTo>
                  <a:pt x="1490" y="1912"/>
                  <a:pt x="1452" y="1898"/>
                  <a:pt x="1459" y="1905"/>
                </a:cubicBezTo>
              </a:path>
            </a:pathLst>
          </a:custGeom>
          <a:noFill/>
          <a:ln w="47520">
            <a:solidFill>
              <a:srgbClr val="99cc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18"/>
          <p:cNvSpPr/>
          <p:nvPr/>
        </p:nvSpPr>
        <p:spPr>
          <a:xfrm>
            <a:off x="6372360" y="458136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cc00"/>
                </a:solidFill>
                <a:latin typeface="Arial"/>
              </a:rPr>
              <a:t>Application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08:41:21Z</dcterms:created>
  <dc:creator>Ciro Palermo</dc:creator>
  <dc:description/>
  <dc:language>en-US</dc:language>
  <cp:lastModifiedBy>peleadmin</cp:lastModifiedBy>
  <dcterms:modified xsi:type="dcterms:W3CDTF">2010-11-12T09:10:38Z</dcterms:modified>
  <cp:revision>5</cp:revision>
  <dc:subject/>
  <dc:title>Diapositiva 1</dc:title>
</cp:coreProperties>
</file>