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302-9EE5-47CD-B681-F10C5151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0E8-5E8E-4325-88F8-E69DD7B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467-F7C3-4EC8-8C79-33201790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BE8-9303-4B79-824A-B6995749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3310-1342-4C14-9A0D-F1C072D2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C9A8-C56E-424D-80F5-CDB912F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6866-5C49-4016-93F2-C8AF88C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B162-8DD8-41D7-8E91-5D1EC28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A11B-F755-4722-B084-E4DDA20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762D-375A-4C4C-A8B4-0A232DED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B1C-A43F-4355-8E8B-5F44DE9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50C-6BCA-46C8-8980-BFEE5DF6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7234-91AD-4549-8FF0-0389EE62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1214-526C-4776-9390-F71F52F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85B-D311-4885-8FD8-F28AAAC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D49F-6912-46E2-910D-6C7B7329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4EB6-6601-4A55-A473-58461505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1DB-C56F-4469-AA37-67266C6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066-EEF2-4A1C-896F-4D9469A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A9E-8CBF-40C4-B75F-D033335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DCB-8CAD-48F6-9F34-E6F8CC00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892-7C73-421B-8FF9-C6EE852F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2DA-4C7B-41F0-B6AC-718666C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A9A-E920-4404-8BEF-A5321FF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DCA5-FA0D-497B-8F59-878464B2E961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7FC-1709-4D62-A6F4-FB0FE08147D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1308240" cy="61272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2" descr="unisalento"/>
          <p:cNvPicPr/>
          <p:nvPr/>
        </p:nvPicPr>
        <p:blipFill>
          <a:blip r:embed="rId3"/>
          <a:srcRect l="0" t="0" r="66857" b="0"/>
          <a:stretch/>
        </p:blipFill>
        <p:spPr>
          <a:xfrm>
            <a:off x="5334120" y="5334120"/>
            <a:ext cx="67464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58A-ED08-4091-95A0-67D05DE0A65C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CB4-A64C-4029-B469-89593947940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tavolo tecnico Università Digitale e le linee guida prod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uca.Mainetti@Unisalento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poli, 12 novembre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omposizione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MIL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CATAN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ERR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URB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 SAL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OGG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OLOG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R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VERO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NAPOLI "Federico II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G. d'Annunzio" CHIETI– PESC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ACER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IUAV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"Cà Foscari"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PAV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ERG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IREN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ILANO-BICOC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INSUBRIA VA-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Tor Vergat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La Sapienz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ROMA TRE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l'AQU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nistero P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U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sper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7597800" y="5288040"/>
            <a:ext cx="15462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i obiettivi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tere e condividere le soluzioni tecnologiche ed organizzative adottate dai progetti di Università Digitale che abbiano rilevanza trasver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re modelli di processi condivisi che, superando anche eventuali ostacoli normativi, possano favorire la digitalizzazione e la cooperazione nel sistema universi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aborare linee guida riguardanti specifiche tematiche e innovazio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organizzazione dei lav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collegiali con cadenza men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su tematiche specif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iling list gener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lining list temat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ict4university.gov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idig-wiki.unich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magine 7" descr=""/>
          <p:cNvPicPr/>
          <p:nvPr/>
        </p:nvPicPr>
        <p:blipFill>
          <a:blip r:embed="rId1"/>
          <a:stretch/>
        </p:blipFill>
        <p:spPr>
          <a:xfrm>
            <a:off x="4605480" y="1295280"/>
            <a:ext cx="3929040" cy="311652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6" descr=""/>
          <p:cNvPicPr/>
          <p:nvPr/>
        </p:nvPicPr>
        <p:blipFill>
          <a:blip r:embed="rId2"/>
          <a:stretch/>
        </p:blipFill>
        <p:spPr>
          <a:xfrm>
            <a:off x="5062680" y="3581280"/>
            <a:ext cx="392904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olo 1" descr=""/>
          <p:cNvPicPr/>
          <p:nvPr/>
        </p:nvPicPr>
        <p:blipFill>
          <a:blip r:embed="rId1"/>
          <a:stretch/>
        </p:blipFill>
        <p:spPr>
          <a:xfrm>
            <a:off x="225360" y="835200"/>
            <a:ext cx="1609920" cy="526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09680" y="114480"/>
            <a:ext cx="6451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avori in co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strazione di indicatori di performance (KPI) e collaborazione alla raccolta dei dati per l’analisi dell’impatto della dematerializzazi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pporto alla introduzione operativa delle linee guida negli atene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laborazione di nuove linee gui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estione documen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gamenti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lassificazione della rice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ultimedi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orkflow e Business Process Re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58:42Z</dcterms:created>
  <dc:creator>Anna Lisa</dc:creator>
  <dc:description/>
  <dc:language>en-US</dc:language>
  <cp:lastModifiedBy>Luca Mainetti</cp:lastModifiedBy>
  <dcterms:modified xsi:type="dcterms:W3CDTF">2010-11-11T18:29:24Z</dcterms:modified>
  <cp:revision>56</cp:revision>
  <dc:subject/>
  <dc:title>ANS</dc:title>
</cp:coreProperties>
</file>