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C3F-510D-4B91-8E44-A70AB47D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AE9-DC7E-4B37-B4CF-547102AF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799-0BE1-4913-87E2-E6574858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6D5-BA72-446E-A512-AB48EED0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677D-7771-41DD-BC52-638AC8A4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1820-6974-4D32-ADC4-51AB0AC1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B51C-DCFC-42A1-A48C-15D6BC06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DF91-8323-4D23-BFBC-F885958D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EF09-0355-4AE2-AA89-455591CC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C4A1-2EE0-4493-B2EF-38B2DEAD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BBA0-A024-45F7-90CA-E95263B7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3A6-8A12-4C81-B96F-DC6DE348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AE9B-607F-44FF-91C6-4DE24E15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E07D-75A1-446E-A15A-97384280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8131-6857-441A-9DC5-B8FFA03D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DA0C-2E60-4A67-8AED-8E77DCF4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39F7-662C-431E-8919-A3E083C7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73F-A543-46A5-8109-D6B0993B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DBC-EC69-4BC3-8380-ED1FC45E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DB0-902D-4F96-B5CA-68E45F07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119-7A74-43E5-B75E-6D506B55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C8A-4434-4978-9466-403C108A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7025-C00E-447F-963A-83360863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0969-7F73-489B-BC6E-739D5CAF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8885-492C-4148-A522-EF3836824DF9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D13A-FD08-4FAE-9C16-6993B75F8F71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2911320"/>
            <a:ext cx="77724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Fascicolo dello studen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Linee G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Dr. Flavio Ferli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Dr.ssa Cristina Mugn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1e2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543800" cy="909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886200" cy="60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828800" y="1676520"/>
            <a:ext cx="533412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824A-0F26-4769-B106-07B69126C7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6699"/>
                </a:solidFill>
                <a:uFillTx/>
                <a:latin typeface="Arial"/>
              </a:rPr>
              <a:t>Modello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l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istema di gestione documental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deve esporr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ervizi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 grado di trattare  i principali eventi relativi al ciclo di vita del fascicolo dello studente: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apertura, chiusura, inserimento e consult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istemi di gestione delle carriere studenti, i servizi web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ed eventuali altri sistemi gestionali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devono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essere in grado di integrar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all’interno delle loro funzioni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i servizi offerti dal sistema di gestione documental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27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EFB-46DE-4135-B69B-05F8569D66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778040"/>
            <a:ext cx="7010280" cy="4317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01840" y="45720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480" y="18288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</a:rPr>
              <a:t>Modello di riferi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D7C-C4E0-492E-8602-2E348F853F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81e2"/>
                </a:solidFill>
                <a:latin typeface="Arial"/>
              </a:rPr>
              <a:t>	</a:t>
            </a:r>
            <a:r>
              <a:rPr b="1" lang="it-IT" sz="1600" spc="-1" strike="noStrike" u="sng">
                <a:solidFill>
                  <a:srgbClr val="336699"/>
                </a:solidFill>
                <a:uFillTx/>
                <a:latin typeface="Arial"/>
              </a:rPr>
              <a:t>Obiettivo dell’art. 2, comma 1, lettera d) dell’avviso Università Digitale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 :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introdurre il fascicolo personale dello studente, nonché ulteriori servizi finalizzati a reingegnerizzare ed automatizzare i processi interni ad elevato costo di risorse umane e strument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it-IT" sz="1600" spc="-1" strike="noStrike" u="sng">
                <a:solidFill>
                  <a:srgbClr val="336699"/>
                </a:solidFill>
                <a:uFillTx/>
                <a:latin typeface="Arial"/>
              </a:rPr>
              <a:t>Obiettivo progetti ammessi al finanziamento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:</a:t>
            </a:r>
            <a:r>
              <a:rPr b="1" lang="it-IT" sz="1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realizzare l’integrazione tra i sistemi di gestione documentale ed i sistemi gestionali in uso presso gli atenei, a partire dal sistema di gestione delle carriere stud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it-IT" sz="1600" spc="-1" strike="noStrike" u="sng">
                <a:solidFill>
                  <a:srgbClr val="336699"/>
                </a:solidFill>
                <a:uFillTx/>
                <a:latin typeface="Arial"/>
              </a:rPr>
              <a:t>Obiettivo finale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reingegnerizzare ed automatizzare tutti i processi interni agli atenei relativi al ciclo di vita dello studente per una completa dematerializzazione del fascico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egnaposto piè di pagina 4"/>
          <p:cNvSpPr/>
          <p:nvPr/>
        </p:nvSpPr>
        <p:spPr>
          <a:xfrm>
            <a:off x="3124080" y="6324480"/>
            <a:ext cx="289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90680" y="304920"/>
            <a:ext cx="6362640" cy="909360"/>
          </a:xfrm>
          <a:prstGeom prst="rect">
            <a:avLst/>
          </a:prstGeom>
          <a:ln w="0">
            <a:noFill/>
          </a:ln>
        </p:spPr>
      </p:pic>
      <p:sp>
        <p:nvSpPr>
          <p:cNvPr id="93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8954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44956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D51-99A8-4797-A82B-7A3B5B86DD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336699"/>
                </a:solidFill>
                <a:uFillTx/>
                <a:latin typeface="Arial"/>
              </a:rPr>
              <a:t>Benefici at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Semplificare l’apertura del fascicolo studente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 nel sistema di gestione documentale, rendendo automatica l’at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Ridurre il carico di lavoro del personale amministrativo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 consentendo l’inserimento automatico nel fascicolo dei documenti più rilev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Possibilità di 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rendere disponibile </a:t>
            </a:r>
            <a:r>
              <a:rPr b="1" i="1" lang="it-IT" sz="2000" spc="-1" strike="noStrike">
                <a:solidFill>
                  <a:srgbClr val="336699"/>
                </a:solidFill>
                <a:latin typeface="Arial"/>
              </a:rPr>
              <a:t>online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 allo studente il proprio fascicolo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 ai fini della trasparenza am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98" name="Segnaposto piè di pagina 4"/>
          <p:cNvSpPr/>
          <p:nvPr/>
        </p:nvSpPr>
        <p:spPr>
          <a:xfrm>
            <a:off x="0" y="6280200"/>
            <a:ext cx="28954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2AA-F955-49E4-8029-E5DF83C45C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Arial"/>
              </a:rPr>
              <a:t>Approccio adottato per giungere alla formulazione delle linee g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4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ndivisione ed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rmonizzazione del lingu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4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icerca dei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iferimenti norm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4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ilevazione dei modelli organizzativi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gli Aten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4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finizione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di u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odello di rifer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02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DEE-86D6-4976-8F8B-AF1A490399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</a:rPr>
              <a:t>Terminologia e principali riferimenti normativi</a:t>
            </a: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Documento informatico – artt. 1 e 20 del C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Procedimento e fascicolo informatico – art. 41, c. 2 del 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Sistema di gestione dei flussi documentali – art. 64 DPR 445/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Gestione informatica dei documenti – art. 1, c. 1 , lettera u) del 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Non esistono al momento norme o linee guida che definiscano il contenuto del fascicolo studente e le regole di conservazione dei documenti in esso contenuti (scarto). La materia è oggetto di studio da parte di progetti nazionali ed internazionali (es. Cartes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06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495680"/>
            <a:ext cx="0" cy="137160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0C5-5FEF-4F85-82DC-C6EDCC53E8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</a:rPr>
              <a:t>Rilevazione dei modelli organizzativi negli atenei ed uso del fasci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I modelli organizzativi adottati dagli atenei per la gestione dei processi che riguardano la vita dello studente sono profondamente diversi tra loro – Elemento di norma comune: la segreteria studenti, una per ciascuna facol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Non esiste una 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</a:rPr>
              <a:t>policy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uniforme e condivisa per la formazione del fascicolo stu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È sempre più diffusa la tendenza a sostituire le istanze cartacee con servizi web autentic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Il sistema di archiviazione documentale di norma non è integrato con il sistema di gestione delle carriere stud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Esiste quasi sempre un insieme di documenti/atti (es. decreti, delibere), spesso di natura collettiva, che sono ancora in forma cartac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11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5B5-560C-4474-A471-56F11F1CD7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</a:rPr>
              <a:t>Linee guida</a:t>
            </a: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  (prima pa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I progetti devono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mirare alla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semplificazione del processo di apertura e chiusura del fascicolo studente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nei sistemi di gestione documentale in uso mediante la realizzazione di opportuni servizi automatizzati che supportino l’interoperabilità tra il sistema di gestione delle carriere studenti e quello document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Analogamente,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 anche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l’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inserimento di documenti nel fascicolo deve essere semplific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L’inserimento nel fascicolo informatico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dello studente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delle istanze presentate tramite servizi </a:t>
            </a:r>
            <a:r>
              <a:rPr b="1" i="1" lang="it-IT" sz="1600" spc="-1" strike="noStrike">
                <a:solidFill>
                  <a:srgbClr val="336699"/>
                </a:solidFill>
                <a:latin typeface="Arial"/>
              </a:rPr>
              <a:t>web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 autenticati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e dei documenti informatici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 deve essere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 limitato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a quelli di legge ed a quelli che si riferiscono ad eventi che hanno effetto sulla carriera dello stud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15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1B9-8532-48D5-8F02-03C7390573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</a:rPr>
              <a:t>Linee guida</a:t>
            </a: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  (seconda pa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Tutti i documenti informatici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dovranno essere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generati in formati standard aperti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(es. PDF/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Le istanze presentate tramite un servizio web autenticato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da parte di soggetti (studenti) la cui identità sia stata accertata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(es. all’atto dell’immatricolazione)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sono equivalenti alle istanze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e alle dichiarazioni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sottoscritte con firma autografa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(art. 65, c. 1, lettera c, del CA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Quindi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le credenziali non possono essere quelle di un soggetto autoregistrato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. In questi casi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non è necessario richiedere anche la presentazione dell’istanza cartac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Una istanza singolarmente identificabile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(es. mediante un numero univoco)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può essere esclusa dalla registrazione di protocollo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(art. 53, c. 5, del DPR 445/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19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E6B-FD92-48A0-A3D9-E2B1509737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6699"/>
                </a:solidFill>
                <a:uFillTx/>
                <a:latin typeface="Arial"/>
              </a:rPr>
              <a:t>Linee guida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(ultima pa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Ai fini della trasparenza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è auspicabile che lo studente possa consultare il contenuto del proprio fascicolo informatico tramite un servizio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Nella fase transitoria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, in cui vi sono ancora processi manuali, sarà cura del personale dell’U.O. che ha in carico il procedimento inserire nel fascicolo informatico dello studente, se necessario, i relativi documenti cartacei, avvalendosi dei servizi offerti dal proprio sistema documentale (es. caricamento documento acquisito tramite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23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E3F-5C1F-4DF9-B522-E9E14F4D8C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gnai </cp:lastModifiedBy>
  <dcterms:modified xsi:type="dcterms:W3CDTF">2010-11-11T22:17:21Z</dcterms:modified>
  <cp:revision>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