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AEAB-0BAF-4757-AE95-DA4CD30A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3AF-3A83-4BAF-A51E-D0760924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149-D6C9-453F-8884-68A0748A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0D5-27AF-4A25-A6B2-3AD5DAF1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9504-D3AC-409D-96E5-93BAC045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E7B8-FF13-4E98-924B-741CD935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0EA7-0EE1-4D5D-AF67-0A09382F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C5F0-CD67-478E-B628-AD264F10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1660-63C0-43E0-B1E2-E459EB75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C90C-59B5-49A7-BA67-9079862B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DD3B-760A-43F7-B8A0-B50BF23A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DA98-C48E-4EB2-8415-77C48DC6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0ACB-A8ED-4880-B6ED-088E6040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FE20-63FE-4F50-B902-8C629C69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2A86-5BE0-46C7-9249-AAE755AF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37AB-438A-4395-93AA-90C57DE8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F5C8-0FBD-4649-B30A-BCE26AB2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9D61-9882-4983-B4BD-2860BB65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36E7-7CFE-40FF-90F5-EC29973E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AD64-0DED-4411-8E7B-D30B41CB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817-D890-434C-836F-3DC8C6F9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068F-C3D8-4563-8B7E-C8467CA9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199-0408-46A1-B7FB-F3C24726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2DC-94BF-47FE-A977-B73BD9C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4F9A-97CB-489D-ADF8-B8EF6B05312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logo DIT"/>
          <p:cNvPicPr/>
          <p:nvPr/>
        </p:nvPicPr>
        <p:blipFill>
          <a:blip r:embed="rId2"/>
          <a:stretch/>
        </p:blipFill>
        <p:spPr>
          <a:xfrm>
            <a:off x="2668680" y="166680"/>
            <a:ext cx="2475000" cy="752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9" descr=""/>
          <p:cNvPicPr/>
          <p:nvPr/>
        </p:nvPicPr>
        <p:blipFill>
          <a:blip r:embed="rId3"/>
          <a:stretch/>
        </p:blipFill>
        <p:spPr>
          <a:xfrm>
            <a:off x="5786280" y="214200"/>
            <a:ext cx="257652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5C3D-95C5-4AAF-AEED-A583D396E5CE}" type="slidenum">
              <a:rPr b="0" lang="it-IT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468360" y="1773360"/>
            <a:ext cx="835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PER GLI STUDENTI UNIVERSIT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O STATO DELL’INFORMATIZZAZIONE DEI SERVIZI NELLE UNIVERSITA’ ITALI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vembre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llaborazione col DDI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opoldo Milano &amp; Guido Ru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partimento di Scienze Fis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iversità Federico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ap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>
            <a:off x="900000" y="5373720"/>
            <a:ext cx="72723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nota immediatamente che i servizi informativi:Web-TV/Radio su can. temat.,Newsletter studenti o non sono  presenti o c’è poca propensione alla loro attivazione se non finanziati con risorse esterne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2"/>
          <p:cNvGrpSpPr/>
          <p:nvPr/>
        </p:nvGrpSpPr>
        <p:grpSpPr>
          <a:xfrm>
            <a:off x="539640" y="1052640"/>
            <a:ext cx="3888000" cy="4178160"/>
            <a:chOff x="539640" y="1052640"/>
            <a:chExt cx="3888000" cy="4178160"/>
          </a:xfrm>
        </p:grpSpPr>
        <p:pic>
          <p:nvPicPr>
            <p:cNvPr id="104" name="Picture 4" descr=""/>
            <p:cNvPicPr/>
            <p:nvPr/>
          </p:nvPicPr>
          <p:blipFill>
            <a:blip r:embed="rId1"/>
            <a:stretch/>
          </p:blipFill>
          <p:spPr>
            <a:xfrm>
              <a:off x="539640" y="1052640"/>
              <a:ext cx="3888000" cy="41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Line 10"/>
            <p:cNvSpPr/>
            <p:nvPr/>
          </p:nvSpPr>
          <p:spPr>
            <a:xfrm flipH="1">
              <a:off x="3419280" y="1268280"/>
              <a:ext cx="21564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1"/>
            <p:cNvSpPr/>
            <p:nvPr/>
          </p:nvSpPr>
          <p:spPr>
            <a:xfrm>
              <a:off x="3708360" y="1341360"/>
              <a:ext cx="1429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4570560" y="1125360"/>
            <a:ext cx="4178160" cy="3961080"/>
            <a:chOff x="4570560" y="1125360"/>
            <a:chExt cx="4178160" cy="3961080"/>
          </a:xfrm>
        </p:grpSpPr>
        <p:pic>
          <p:nvPicPr>
            <p:cNvPr id="108" name="Picture 5" descr=""/>
            <p:cNvPicPr/>
            <p:nvPr/>
          </p:nvPicPr>
          <p:blipFill>
            <a:blip r:embed="rId2"/>
            <a:stretch/>
          </p:blipFill>
          <p:spPr>
            <a:xfrm>
              <a:off x="4570560" y="1125360"/>
              <a:ext cx="417816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Line 13"/>
            <p:cNvSpPr/>
            <p:nvPr/>
          </p:nvSpPr>
          <p:spPr>
            <a:xfrm flipH="1">
              <a:off x="7667640" y="1197000"/>
              <a:ext cx="50472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8244000" y="1197000"/>
              <a:ext cx="0" cy="43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6"/>
          <p:cNvSpPr/>
          <p:nvPr/>
        </p:nvSpPr>
        <p:spPr>
          <a:xfrm>
            <a:off x="0" y="146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87280" y="1461960"/>
            <a:ext cx="4211640" cy="4052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4684680" y="1341360"/>
            <a:ext cx="4135320" cy="4175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179280" y="5722920"/>
            <a:ext cx="8748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i servizi amministrativi si nota che: Certificazioni, Moduli pagamenti,Pagamenti online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ch./Ril.cert.integr “Diploma Supplement” sono non presenti o si intendono attivare con mezzi propri o con finanziamenti ester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776400" cy="4448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251240" y="968400"/>
            <a:ext cx="3992760" cy="4330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Amministrativi : Sportello amministrativo virtuale,Studentcard elettronica,Prenotazione del posto in segreteria,Registrazione elettronica degli esam,immissione domande tesi di Laurea non sono presenti on line e si intendono attivare prevalentemente con finanziamenti ester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467240" y="1052640"/>
            <a:ext cx="3560760" cy="417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71280" y="981000"/>
            <a:ext cx="428472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Didattici : Web-streaming di materiali didattici,Podcasting,Did. online e attiv. di tutoring (E-learning),Esami a distanza,Consult. Riv. online / fonti bibl. non sono presenti on line e si intendono attivare prevalentemente con finanziamenti esterni o non ne è prevista la atti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723960" y="903240"/>
            <a:ext cx="3560760" cy="391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4467240" y="981000"/>
            <a:ext cx="4208400" cy="3960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6"/>
          <p:cNvSpPr/>
          <p:nvPr/>
        </p:nvSpPr>
        <p:spPr>
          <a:xfrm>
            <a:off x="395280" y="5468760"/>
            <a:ext cx="8209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servizi Generali :  Servizi VoIP, Sportello per divers.abili,Auto-prest. e contr. acces. bibl. tecn. RFID, Suggerimenti / Reclami non sono prevalentemente  presenti on line e si intendono attivare per la maggior parte con finanziamenti esterni o non ne è prevista la atti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121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2916000" cy="28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3203640" y="119700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3"/>
          <a:stretch/>
        </p:blipFill>
        <p:spPr>
          <a:xfrm>
            <a:off x="6029280" y="1268280"/>
            <a:ext cx="3114720" cy="331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26920" y="4089240"/>
            <a:ext cx="2973600" cy="2768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67280" y="4568760"/>
            <a:ext cx="4932360" cy="17398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quanto concern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livello di utilizzo dei vari serviz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, sulla bas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dichiarazioni delle Università rispond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situazione che emerge è che il livello di utilizzo è alto nel  42% dei casi, medio nel 38% dei casi e basso nel 20% dei ca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4284720"/>
            <a:ext cx="68040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gnificativa è anche la statistica su uno specifico servizio tra quelli amministrativi, cioè il “diploma supplement”, un documento previsto dalla normativa europea finalizzato alla descrizione delle abilità e conoscenze acquisite, ai fini della mobilità. La realizzazione di questo documento, a partire dagli esami sostenuti e dal relativo programma, ha trovato tutti gli Atenei italiani, o per lo meno la stragrande maggioranza, non all’altezza della situazi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2036880" cy="2001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0" y="907920"/>
            <a:ext cx="6697800" cy="3254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 quali sono i servizi generali sui quali l’informatizzazione è più indietro ? Innanzitutto quelli riguardanti la gestione delle biblioteche : non tanto per quel che riguarda le riviste on-line, per le quali la situazione è quasi ottimale, ma piuttosto per quel che riguarda le funzioni di auto-prestito e di controllo dei testi tramite RFID: meno del 20% ha realizzato il servizio, ed il 42% non ha fatto nulla in merito; una percentuale analoga, del 40% lo ha in progetto ed attende i fondi per realizzarlo. Il 20% è poi distribuito quasi esclusivamente nel nord Italia, specie nella parte orient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6732720" y="1268280"/>
            <a:ext cx="20746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431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22400" y="112500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lo studio effettuato emerge  un quadro in cui si evidenzia, come spesso accade, che vi è innanzitutto uno sbilanciamento tra nord e sud, a sfavore del sud. Inoltre  la digitalizzazione dei servizi degli Atenei, è un po’ a macchia di leopardo vi sono punte di eccellenza, ma vi sono anche processi che potrebbero e dovrebbero essere informatizzati e non lo sono.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Quanto di questa situazione è attribuibile a scarsi finanziamenti?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versi di questi servizi sono stati implementati o in fase di implementazione in molti Atenei Italiani, nell’ambito del programma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CT4UNIVERSI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anche con risorse aggiuntive ritenend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e alla fine la informatizzazione dei servizi sia un valore aggiunto che dovrebb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ntrare a far parte del sistema di valutazione degli atenei italian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anch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i fini del miglioramento del ranking internazionale degli Atenei del nostro pa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Dipartimento per la Digitalizzazione della Pubblica Amministrazione e l’Innovazione Tecnologic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la Presidenza del Consiglio dei Ministri ha inviato, nell’autunno 2009, </a:t>
            </a:r>
            <a:r>
              <a:rPr b="1" i="1" lang="it-IT" sz="3200" spc="-1" strike="noStrike">
                <a:solidFill>
                  <a:srgbClr val="000000"/>
                </a:solidFill>
                <a:latin typeface="Arial"/>
              </a:rPr>
              <a:t>nell’ambito del programma ICT4University,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un questionario a tutti gli Atenei italiani (esclusi quelli telematici), per un “censimento” dello stato di informatizzazione dei servizi universitar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79280" y="1125360"/>
            <a:ext cx="882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questionario prevedeva quesiti sui principali servizi, suddivisi in quattro categorie 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informativ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,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amministrativ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idattic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rvizi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genera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95280" y="2924280"/>
            <a:ext cx="280836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inform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-7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708360" y="2924280"/>
            <a:ext cx="3384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amministra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8-22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68360" y="457992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idat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23-29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851280" y="4581360"/>
            <a:ext cx="2808360" cy="100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rvizi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gene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30-34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Quesiti p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74920" y="1773360"/>
          <a:ext cx="5976720" cy="3402000"/>
        </p:xfrm>
        <a:graphic>
          <a:graphicData uri="http://schemas.openxmlformats.org/drawingml/2006/table">
            <a:tbl>
              <a:tblPr/>
              <a:tblGrid>
                <a:gridCol w="315720"/>
                <a:gridCol w="5661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INFORMA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ferta Form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ient. didat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st.Borse stu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rient.lavoro e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enz. tiroci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vvisi e scaden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eb-TV/Radio su canali tema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wsletter stud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488880"/>
          <a:ext cx="8075520" cy="6340680"/>
        </p:xfrm>
        <a:graphic>
          <a:graphicData uri="http://schemas.openxmlformats.org/drawingml/2006/table">
            <a:tbl>
              <a:tblPr/>
              <a:tblGrid>
                <a:gridCol w="585720"/>
                <a:gridCol w="748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AMMINISTRAT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formazioni amminist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matricol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crizione anni successi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asse iscriz./Calc.IS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rtificazio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oduli pagam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agamenti on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ich./Ril.cert.integr “Diploma Supplemen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ortello amministrativo virtu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udentcard 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notazione del posto in segrete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gistrazione elettronica degli es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mmissione domande tesi di Lau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stione dei Dottorati di Ricer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tazione dei Dottorati di Ricer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907920"/>
          <a:ext cx="4038480" cy="5811840"/>
        </p:xfrm>
        <a:graphic>
          <a:graphicData uri="http://schemas.openxmlformats.org/drawingml/2006/table">
            <a:tbl>
              <a:tblPr/>
              <a:tblGrid>
                <a:gridCol w="576000"/>
                <a:gridCol w="3462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MR10"/>
                          <a:ea typeface="CMR10"/>
                        </a:rPr>
                        <a:t>SERVIZI DIDAT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form. sulla didattica / Bach elett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eriale didattico on 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Web-streaming di materiali didatt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odca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id. online e attiv. di tutoring (E-lear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sami a dist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sult. Riv. online / fonti bib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427640" y="1197000"/>
          <a:ext cx="4716360" cy="3597120"/>
        </p:xfrm>
        <a:graphic>
          <a:graphicData uri="http://schemas.openxmlformats.org/drawingml/2006/table">
            <a:tbl>
              <a:tblPr/>
              <a:tblGrid>
                <a:gridCol w="725400"/>
                <a:gridCol w="399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RVIZI GENER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asella di posta 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rvizi Vo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ortello per diversamente abi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uto-prest. e contr. acces. bibl. tecn. RF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ggerimenti / Recl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27"/>
          <p:cNvSpPr/>
          <p:nvPr/>
        </p:nvSpPr>
        <p:spPr>
          <a:xfrm>
            <a:off x="108000" y="1341360"/>
            <a:ext cx="882000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servizio, il questionario richiedeva semplici risposte qualitative, ovv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servizio è presente in modalità on l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talmente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zialmente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pres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non totalmente presente, e' prevista l’attivazione (o il completamento) del servizio in modalità on l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o nell’eventualità di appositi finanziamenti esterni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resente (anche solo parzialmente), indicare il livello di utilizz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o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dio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so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l è la piattaforma software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risposte possibili: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ustom;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ii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ck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nalisi Ris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questionari ricevuti sono stati 65 su 84 Atenei interpellati, pari a circa il 77% dei questionari inviati; tale percentuale costituisce sicuramente un campione significativo ed è rappresentativo del sistema universitario, comprendendo atenei di ogni tipo e di ogni collocazione geogra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39640" y="3284640"/>
            <a:ext cx="8229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nanzitutto sono state calcolate le percentuali corrispondenti alle risposte fornite per tutto il camp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39640" y="4221000"/>
            <a:ext cx="7777440" cy="215316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sono suddivise le risposte degli Atenei in cinque zone geografiche;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Nord-Occident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Nord-Orient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Centr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Meridional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tenei dell’Italia Insul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5364000" y="5013360"/>
            <a:ext cx="2880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Le medie zonali s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onfrontate con la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taliana</a:t>
            </a:r>
            <a:r>
              <a:rPr b="1" lang="it-IT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nalisi scar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395280" y="1197000"/>
            <a:ext cx="8209080" cy="478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le figure riportate di seguito ci sono le statistiche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arz. OnLi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tutti i servizi forniti dagli atenei italiani, confrontati con quelli forniti dai 5 raggruppamenti per aree geografiche. Da questi istogrammi è immediato estrarre le informazioni cercate per i vari servizi e per le varie aree geografiche, con i criteri seguen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queste rappresentazioni il verde indica servizi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totalmente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il giallo indica servizi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arzialmente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s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n pres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 è utilizzato il ro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4:28:07Z</dcterms:created>
  <dc:creator>Leopoldo Milano</dc:creator>
  <dc:description/>
  <dc:language>en-US</dc:language>
  <cp:lastModifiedBy>wifiUPUAS</cp:lastModifiedBy>
  <dcterms:modified xsi:type="dcterms:W3CDTF">2010-11-12T07:45:23Z</dcterms:modified>
  <cp:revision>39</cp:revision>
  <dc:subject/>
  <dc:title>Diapositiva 1</dc:title>
</cp:coreProperties>
</file>