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19C3-908F-41BD-A694-1FA53EFB3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7369-5DF6-4E64-9B81-93D124B3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92D3-30E0-403C-ABDA-AD49E2BF4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072C-85D2-4861-9403-7082B1FDD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8153-8DEF-45D5-9D91-45C8CBA3C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A7A9-EA59-4252-BFEF-AB3F68F0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8E77-35FE-471A-BB99-B9760A13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A06C-EE42-41A9-A9C9-C8C122B7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C049-A26C-4865-869B-F823E091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1BACF-0FD7-4D30-A4EE-4672FC55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2B58-8329-432E-8033-03BB137A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C207-8647-4438-A419-5EED90DB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B6C0-3B36-47E9-B6B3-47AFBF91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F040-047F-4D39-B372-55FEB8C3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0AA9-E984-49DE-B7C1-4AD46994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9411-0B60-484F-887A-44052317D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7209-5A3C-4C94-B9A8-DED8CDBA5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8205-4313-4335-BE05-CC74D9A6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48BF-8F7E-4926-8DB7-6DDF8E0E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7488-B38C-4944-8527-329660AA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363F-2C23-45CF-B1F9-9D6CA280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1B59-E7F3-418E-828A-89AB9E4F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29D4-10EA-4BA0-AEF6-99676D6E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ECD6-F59B-467B-983B-85C5F61D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4130-296A-4040-A3D8-57BD447E300A}" type="slidenum">
              <a:rPr b="0" lang="it-I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DEF4-AF1D-4891-B900-444972E2D41A}" type="slidenum">
              <a:rPr b="0" lang="it-I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09480" y="2911320"/>
            <a:ext cx="7772400" cy="33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6699"/>
                </a:solidFill>
                <a:latin typeface="Arial"/>
              </a:rPr>
              <a:t>“</a:t>
            </a:r>
            <a:r>
              <a:rPr b="1" lang="it-IT" sz="3200" spc="-1" strike="noStrike">
                <a:solidFill>
                  <a:srgbClr val="336699"/>
                </a:solidFill>
                <a:latin typeface="Arial"/>
              </a:rPr>
              <a:t>Fascicolo dello studen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6699"/>
                </a:solidFill>
                <a:latin typeface="Arial"/>
              </a:rPr>
              <a:t>Linee Gu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Arial"/>
              </a:rPr>
              <a:t>Dr. Flavio Ferli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6699"/>
                </a:solidFill>
                <a:latin typeface="Arial"/>
              </a:rPr>
              <a:t>Dr.ssa Cristina Mugn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81e2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543800" cy="909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80880" y="6172200"/>
            <a:ext cx="3886200" cy="609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828800" y="1676520"/>
            <a:ext cx="5334120" cy="83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F607-E43F-44BE-84A7-63687555232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61760" y="17524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6699"/>
                </a:solidFill>
                <a:uFillTx/>
                <a:latin typeface="Arial"/>
              </a:rPr>
              <a:t>Modello di rifer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Il 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sistema di gestione documentale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deve esporre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servizi 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in grado di trattare  i principali eventi relativi al ciclo di vita del fascicolo dello studente: 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apertura, chiusura, inserimento e consultazi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I 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sistemi di gestione delle carriere studenti, i servizi web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ed eventuali altri sistemi gestionali 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devono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essere in grado di integrare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all’interno delle loro funzioni 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i servizi offerti dal sistema di gestione documentale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390680" y="392040"/>
            <a:ext cx="6362640" cy="909720"/>
          </a:xfrm>
          <a:prstGeom prst="rect">
            <a:avLst/>
          </a:prstGeom>
          <a:ln w="0">
            <a:noFill/>
          </a:ln>
        </p:spPr>
      </p:pic>
      <p:sp>
        <p:nvSpPr>
          <p:cNvPr id="127" name="Segnaposto piè di pagina 4"/>
          <p:cNvSpPr/>
          <p:nvPr/>
        </p:nvSpPr>
        <p:spPr>
          <a:xfrm>
            <a:off x="0" y="6324480"/>
            <a:ext cx="2895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Napoli,12/11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egnaposto piè di pagina 4"/>
          <p:cNvSpPr/>
          <p:nvPr/>
        </p:nvSpPr>
        <p:spPr>
          <a:xfrm>
            <a:off x="3124080" y="6280200"/>
            <a:ext cx="289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Progetto Uni5Net4Stu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57DB-ACB7-47E4-90A2-50BBB84E8A6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14400" y="1778040"/>
            <a:ext cx="7010280" cy="43178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401840" y="457200"/>
            <a:ext cx="6362640" cy="909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09480" y="182880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6699"/>
                </a:solidFill>
                <a:uFillTx/>
                <a:latin typeface="Arial"/>
                <a:ea typeface="Arial"/>
              </a:rPr>
              <a:t>Modello di riferim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egnaposto piè di pagina 4"/>
          <p:cNvSpPr/>
          <p:nvPr/>
        </p:nvSpPr>
        <p:spPr>
          <a:xfrm>
            <a:off x="3124080" y="6280200"/>
            <a:ext cx="289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Progetto Uni5Net4Stu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egnaposto piè di pagina 4"/>
          <p:cNvSpPr/>
          <p:nvPr/>
        </p:nvSpPr>
        <p:spPr>
          <a:xfrm>
            <a:off x="0" y="6324480"/>
            <a:ext cx="2895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Napoli,12/11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EDE0-DC29-4E1D-A2DD-F55DBFF1EA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81e2"/>
                </a:solidFill>
                <a:latin typeface="Arial"/>
              </a:rPr>
              <a:t>	</a:t>
            </a:r>
            <a:r>
              <a:rPr b="1" lang="it-IT" sz="1600" spc="-1" strike="noStrike" u="sng">
                <a:solidFill>
                  <a:srgbClr val="336699"/>
                </a:solidFill>
                <a:uFillTx/>
                <a:latin typeface="Arial"/>
              </a:rPr>
              <a:t>Obiettivo dell’art. 2, comma 1, lettera d) dell’avviso Università Digitale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 : 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introdurre il fascicolo personale dello studente, nonché ulteriori servizi finalizzati a reingegnerizzare ed automatizzare i processi interni ad elevato costo di risorse umane e strument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     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it-IT" sz="1600" spc="-1" strike="noStrike" u="sng">
                <a:solidFill>
                  <a:srgbClr val="336699"/>
                </a:solidFill>
                <a:uFillTx/>
                <a:latin typeface="Arial"/>
              </a:rPr>
              <a:t>Obiettivo progetti ammessi al finanziamento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:</a:t>
            </a:r>
            <a:r>
              <a:rPr b="1" lang="it-IT" sz="1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realizzare l’integrazione tra i sistemi di gestione documentale ed i sistemi gestionali in uso presso gli atenei, a partire dal sistema di gestione delle carriere stude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it-IT" sz="1600" spc="-1" strike="noStrike" u="sng">
                <a:solidFill>
                  <a:srgbClr val="336699"/>
                </a:solidFill>
                <a:uFillTx/>
                <a:latin typeface="Arial"/>
              </a:rPr>
              <a:t>Obiettivo finale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: 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reingegnerizzare ed automatizzare tutti i processi interni agli atenei relativi al ciclo di vita dello studente per una completa dematerializzazione del fascico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egnaposto piè di pagina 4"/>
          <p:cNvSpPr/>
          <p:nvPr/>
        </p:nvSpPr>
        <p:spPr>
          <a:xfrm>
            <a:off x="3124080" y="6324480"/>
            <a:ext cx="289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Progetto Uni5Net4Stu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390680" y="304920"/>
            <a:ext cx="6362640" cy="909360"/>
          </a:xfrm>
          <a:prstGeom prst="rect">
            <a:avLst/>
          </a:prstGeom>
          <a:ln w="0">
            <a:noFill/>
          </a:ln>
        </p:spPr>
      </p:pic>
      <p:sp>
        <p:nvSpPr>
          <p:cNvPr id="93" name="Segnaposto piè di pagina 4"/>
          <p:cNvSpPr/>
          <p:nvPr/>
        </p:nvSpPr>
        <p:spPr>
          <a:xfrm>
            <a:off x="0" y="6324480"/>
            <a:ext cx="2895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Napoli,12/11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895480"/>
            <a:ext cx="60948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91120" y="4495680"/>
            <a:ext cx="60948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6418-D865-4B63-AA97-23C2350D7C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6840" y="16765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336699"/>
                </a:solidFill>
                <a:uFillTx/>
                <a:latin typeface="Arial"/>
              </a:rPr>
              <a:t>Benefici atte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Arial"/>
              </a:rPr>
              <a:t>Semplificare l’apertura del fascicolo studente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</a:rPr>
              <a:t> nel sistema di gestione documentale, rendendo automatica l’attiv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99"/>
                </a:solidFill>
                <a:latin typeface="Arial"/>
              </a:rPr>
              <a:t>Ridurre il carico di lavoro del personale amministrativo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</a:rPr>
              <a:t> consentendo l’inserimento automatico nel fascicolo dei documenti più rilev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6699"/>
                </a:solidFill>
                <a:latin typeface="Arial"/>
              </a:rPr>
              <a:t>Possibilità di </a:t>
            </a:r>
            <a:r>
              <a:rPr b="1" lang="it-IT" sz="2000" spc="-1" strike="noStrike">
                <a:solidFill>
                  <a:srgbClr val="336699"/>
                </a:solidFill>
                <a:latin typeface="Arial"/>
              </a:rPr>
              <a:t>rendere disponibile </a:t>
            </a:r>
            <a:r>
              <a:rPr b="1" i="1" lang="it-IT" sz="2000" spc="-1" strike="noStrike">
                <a:solidFill>
                  <a:srgbClr val="336699"/>
                </a:solidFill>
                <a:latin typeface="Arial"/>
              </a:rPr>
              <a:t>online</a:t>
            </a:r>
            <a:r>
              <a:rPr b="1" lang="it-IT" sz="2000" spc="-1" strike="noStrike">
                <a:solidFill>
                  <a:srgbClr val="336699"/>
                </a:solidFill>
                <a:latin typeface="Arial"/>
              </a:rPr>
              <a:t> allo studente il proprio fascicolo</a:t>
            </a:r>
            <a:r>
              <a:rPr b="0" lang="it-IT" sz="2000" spc="-1" strike="noStrike">
                <a:solidFill>
                  <a:srgbClr val="336699"/>
                </a:solidFill>
                <a:latin typeface="Arial"/>
              </a:rPr>
              <a:t> ai fini della trasparenza amministr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90680" y="392040"/>
            <a:ext cx="6362640" cy="909720"/>
          </a:xfrm>
          <a:prstGeom prst="rect">
            <a:avLst/>
          </a:prstGeom>
          <a:ln w="0">
            <a:noFill/>
          </a:ln>
        </p:spPr>
      </p:pic>
      <p:sp>
        <p:nvSpPr>
          <p:cNvPr id="98" name="Segnaposto piè di pagina 4"/>
          <p:cNvSpPr/>
          <p:nvPr/>
        </p:nvSpPr>
        <p:spPr>
          <a:xfrm>
            <a:off x="0" y="6280200"/>
            <a:ext cx="28954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Napoli,12/11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egnaposto piè di pagina 4"/>
          <p:cNvSpPr/>
          <p:nvPr/>
        </p:nvSpPr>
        <p:spPr>
          <a:xfrm>
            <a:off x="3124080" y="6280200"/>
            <a:ext cx="289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Progetto Uni5Net4Stu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DC71-7E1D-4350-8336-D6AAF4DCDE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22093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6699"/>
                </a:solidFill>
                <a:uFillTx/>
                <a:latin typeface="Arial"/>
              </a:rPr>
              <a:t>Approccio adottato per giungere alla formulazione delle linee gu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40000"/>
              </a:lnSpc>
              <a:spcBef>
                <a:spcPts val="499"/>
              </a:spcBef>
              <a:buClr>
                <a:srgbClr val="ff66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ondivisione ed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armonizzazione del linguagg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40000"/>
              </a:lnSpc>
              <a:spcBef>
                <a:spcPts val="499"/>
              </a:spcBef>
              <a:buClr>
                <a:srgbClr val="ff66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icerca dei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riferimenti normat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40000"/>
              </a:lnSpc>
              <a:spcBef>
                <a:spcPts val="499"/>
              </a:spcBef>
              <a:buClr>
                <a:srgbClr val="ff66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Rilevazione dei modelli organizzativi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negli Aten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40000"/>
              </a:lnSpc>
              <a:spcBef>
                <a:spcPts val="499"/>
              </a:spcBef>
              <a:buClr>
                <a:srgbClr val="ff66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Definizione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di un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modello di rifer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390680" y="392040"/>
            <a:ext cx="6362640" cy="909720"/>
          </a:xfrm>
          <a:prstGeom prst="rect">
            <a:avLst/>
          </a:prstGeom>
          <a:ln w="0">
            <a:noFill/>
          </a:ln>
        </p:spPr>
      </p:pic>
      <p:sp>
        <p:nvSpPr>
          <p:cNvPr id="102" name="Segnaposto piè di pagina 4"/>
          <p:cNvSpPr/>
          <p:nvPr/>
        </p:nvSpPr>
        <p:spPr>
          <a:xfrm>
            <a:off x="0" y="6324480"/>
            <a:ext cx="2895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Napoli,12/11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egnaposto piè di pagina 4"/>
          <p:cNvSpPr/>
          <p:nvPr/>
        </p:nvSpPr>
        <p:spPr>
          <a:xfrm>
            <a:off x="3124080" y="6280200"/>
            <a:ext cx="289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Progetto Uni5Net4Stu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0ADE-2A0F-43CE-A540-CC1BD632E1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6699"/>
                </a:solidFill>
                <a:uFillTx/>
                <a:latin typeface="Arial"/>
              </a:rPr>
              <a:t>Terminologia e principali riferimenti normativi</a:t>
            </a:r>
            <a:r>
              <a:rPr b="1" lang="it-IT" sz="1800" spc="-1" strike="noStrike">
                <a:solidFill>
                  <a:srgbClr val="3366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6699"/>
                </a:solidFill>
                <a:latin typeface="Arial"/>
              </a:rPr>
              <a:t>Documento informatico – artt. 1 e 20 del C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6699"/>
                </a:solidFill>
                <a:latin typeface="Arial"/>
              </a:rPr>
              <a:t>Procedimento e fascicolo informatico – art. 41, c. 2 del C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6699"/>
                </a:solidFill>
                <a:latin typeface="Arial"/>
              </a:rPr>
              <a:t>Sistema di gestione dei flussi documentali – art. 64 DPR 445/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6699"/>
                </a:solidFill>
                <a:latin typeface="Arial"/>
              </a:rPr>
              <a:t>Gestione informatica dei documenti – art. 1, c. 1 , lettera u) del C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336699"/>
                </a:solidFill>
                <a:latin typeface="Arial"/>
              </a:rPr>
              <a:t>Non esistono al momento norme o linee guida che definiscano il contenuto del fascicolo studente e le regole di conservazione dei documenti in esso contenuti (scarto). La materia è oggetto di studio da parte di progetti nazionali ed internazionali (es. Cartes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390680" y="392040"/>
            <a:ext cx="6362640" cy="909720"/>
          </a:xfrm>
          <a:prstGeom prst="rect">
            <a:avLst/>
          </a:prstGeom>
          <a:ln w="0">
            <a:noFill/>
          </a:ln>
        </p:spPr>
      </p:pic>
      <p:sp>
        <p:nvSpPr>
          <p:cNvPr id="106" name="Segnaposto piè di pagina 4"/>
          <p:cNvSpPr/>
          <p:nvPr/>
        </p:nvSpPr>
        <p:spPr>
          <a:xfrm>
            <a:off x="0" y="6324480"/>
            <a:ext cx="2895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Napoli,12/11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egnaposto piè di pagina 4"/>
          <p:cNvSpPr/>
          <p:nvPr/>
        </p:nvSpPr>
        <p:spPr>
          <a:xfrm>
            <a:off x="3124080" y="6280200"/>
            <a:ext cx="289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Progetto Uni5Net4Stu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4495680"/>
            <a:ext cx="0" cy="137160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657A-A99E-452A-AEFF-2A14107162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6699"/>
                </a:solidFill>
                <a:uFillTx/>
                <a:latin typeface="Arial"/>
              </a:rPr>
              <a:t>Rilevazione dei modelli organizzativi negli atenei ed uso del fascico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I modelli organizzativi adottati dagli atenei per la gestione dei processi che riguardano la vita dello studente sono profondamente diversi tra loro – Elemento di norma comune: la segreteria studenti, una per ciascuna facolt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Non esiste una </a:t>
            </a:r>
            <a:r>
              <a:rPr b="0" i="1" lang="it-IT" sz="1600" spc="-1" strike="noStrike">
                <a:solidFill>
                  <a:srgbClr val="336699"/>
                </a:solidFill>
                <a:latin typeface="Arial"/>
              </a:rPr>
              <a:t>policy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 uniforme e condivisa per la formazione del fascicolo stud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È sempre più diffusa la tendenza a sostituire le istanze cartacee con servizi web autentic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Il sistema di archiviazione documentale di norma non è integrato con il sistema di gestione delle carriere stude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ff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Esiste quasi sempre un insieme di documenti/atti (es. decreti, delibere), spesso di natura collettiva, che sono ancora in forma cartac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390680" y="392040"/>
            <a:ext cx="6362640" cy="909720"/>
          </a:xfrm>
          <a:prstGeom prst="rect">
            <a:avLst/>
          </a:prstGeom>
          <a:ln w="0">
            <a:noFill/>
          </a:ln>
        </p:spPr>
      </p:pic>
      <p:sp>
        <p:nvSpPr>
          <p:cNvPr id="111" name="Segnaposto piè di pagina 4"/>
          <p:cNvSpPr/>
          <p:nvPr/>
        </p:nvSpPr>
        <p:spPr>
          <a:xfrm>
            <a:off x="0" y="6324480"/>
            <a:ext cx="2895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Napoli,12/11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egnaposto piè di pagina 4"/>
          <p:cNvSpPr/>
          <p:nvPr/>
        </p:nvSpPr>
        <p:spPr>
          <a:xfrm>
            <a:off x="3124080" y="6280200"/>
            <a:ext cx="289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Progetto Uni5Net4Stu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DE82-F313-4D20-A88F-E1480A88AA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6699"/>
                </a:solidFill>
                <a:uFillTx/>
                <a:latin typeface="Arial"/>
              </a:rPr>
              <a:t>Linee guida</a:t>
            </a:r>
            <a:r>
              <a:rPr b="1" lang="it-IT" sz="1800" spc="-1" strike="noStrike">
                <a:solidFill>
                  <a:srgbClr val="336699"/>
                </a:solidFill>
                <a:latin typeface="Arial"/>
              </a:rPr>
              <a:t>  (prima par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ff66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I progetti devono 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mirare alla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semplificazione del processo di apertura e chiusura del fascicolo studente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 nei sistemi di gestione documentale in uso mediante la realizzazione di opportuni servizi automatizzati che supportino l’interoperabilità tra il sistema di gestione delle carriere studenti e quello documenta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Analogamente,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 anche 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l’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inserimento di documenti nel fascicolo deve essere semplifica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ff6600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L’inserimento nel fascicolo informatico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 dello studente 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delle istanze presentate tramite servizi </a:t>
            </a:r>
            <a:r>
              <a:rPr b="1" i="1" lang="it-IT" sz="1600" spc="-1" strike="noStrike">
                <a:solidFill>
                  <a:srgbClr val="336699"/>
                </a:solidFill>
                <a:latin typeface="Arial"/>
              </a:rPr>
              <a:t>web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 autenticati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e dei documenti informatici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  deve essere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 limitato 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a quelli di legge ed a quelli che si riferiscono ad eventi che hanno effetto sulla carriera dello stud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90680" y="392040"/>
            <a:ext cx="6362640" cy="909720"/>
          </a:xfrm>
          <a:prstGeom prst="rect">
            <a:avLst/>
          </a:prstGeom>
          <a:ln w="0">
            <a:noFill/>
          </a:ln>
        </p:spPr>
      </p:pic>
      <p:sp>
        <p:nvSpPr>
          <p:cNvPr id="115" name="Segnaposto piè di pagina 4"/>
          <p:cNvSpPr/>
          <p:nvPr/>
        </p:nvSpPr>
        <p:spPr>
          <a:xfrm>
            <a:off x="0" y="6324480"/>
            <a:ext cx="2895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Napoli,12/11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egnaposto piè di pagina 4"/>
          <p:cNvSpPr/>
          <p:nvPr/>
        </p:nvSpPr>
        <p:spPr>
          <a:xfrm>
            <a:off x="3124080" y="6280200"/>
            <a:ext cx="289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Progetto Uni5Net4Stu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1CA5-AE7A-4B98-BE11-0F563A92DF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14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6699"/>
                </a:solidFill>
                <a:uFillTx/>
                <a:latin typeface="Arial"/>
              </a:rPr>
              <a:t>Linee guida</a:t>
            </a:r>
            <a:r>
              <a:rPr b="1" lang="it-IT" sz="1800" spc="-1" strike="noStrike">
                <a:solidFill>
                  <a:srgbClr val="336699"/>
                </a:solidFill>
                <a:latin typeface="Arial"/>
              </a:rPr>
              <a:t>  (seconda par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40000"/>
              </a:lnSpc>
              <a:spcBef>
                <a:spcPts val="400"/>
              </a:spcBef>
              <a:buClr>
                <a:srgbClr val="ff6600"/>
              </a:buClr>
              <a:buSzPct val="6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Tutti i documenti informatici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 dovranno essere 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generati in formati standard aperti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 (es. PDF/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40000"/>
              </a:lnSpc>
              <a:spcBef>
                <a:spcPts val="400"/>
              </a:spcBef>
              <a:buClr>
                <a:srgbClr val="ff6600"/>
              </a:buClr>
              <a:buSzPct val="6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Le istanze presentate tramite un servizio web autenticato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da parte di soggetti (studenti) la cui identità sia stata accertata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 (es. all’atto dell’immatricolazione) 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sono equivalenti alle istanze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 e alle dichiarazioni 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sottoscritte con firma autografa 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(art. 65, c. 1, lettera c, del CA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Quindi 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le credenziali non possono essere quelle di un soggetto autoregistrato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. In questi casi 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non è necessario richiedere anche la presentazione dell’istanza cartac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40000"/>
              </a:lnSpc>
              <a:spcBef>
                <a:spcPts val="400"/>
              </a:spcBef>
              <a:buClr>
                <a:srgbClr val="ff6600"/>
              </a:buClr>
              <a:buSzPct val="6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Una istanza singolarmente identificabile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 (es. mediante un numero univoco) </a:t>
            </a:r>
            <a:r>
              <a:rPr b="1" lang="it-IT" sz="1600" spc="-1" strike="noStrike">
                <a:solidFill>
                  <a:srgbClr val="336699"/>
                </a:solidFill>
                <a:latin typeface="Arial"/>
              </a:rPr>
              <a:t>può essere esclusa dalla registrazione di protocollo </a:t>
            </a:r>
            <a:r>
              <a:rPr b="0" lang="it-IT" sz="1600" spc="-1" strike="noStrike">
                <a:solidFill>
                  <a:srgbClr val="336699"/>
                </a:solidFill>
                <a:latin typeface="Arial"/>
              </a:rPr>
              <a:t>(art. 53, c. 5, del DPR 445/2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90680" y="392040"/>
            <a:ext cx="6362640" cy="909720"/>
          </a:xfrm>
          <a:prstGeom prst="rect">
            <a:avLst/>
          </a:prstGeom>
          <a:ln w="0">
            <a:noFill/>
          </a:ln>
        </p:spPr>
      </p:pic>
      <p:sp>
        <p:nvSpPr>
          <p:cNvPr id="119" name="Segnaposto piè di pagina 4"/>
          <p:cNvSpPr/>
          <p:nvPr/>
        </p:nvSpPr>
        <p:spPr>
          <a:xfrm>
            <a:off x="0" y="6324480"/>
            <a:ext cx="2895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Napoli,12/11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egnaposto piè di pagina 4"/>
          <p:cNvSpPr/>
          <p:nvPr/>
        </p:nvSpPr>
        <p:spPr>
          <a:xfrm>
            <a:off x="3124080" y="6280200"/>
            <a:ext cx="289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Progetto Uni5Net4Stu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4F44-7274-40D5-9E1E-6E127F7AE1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3520" y="1752120"/>
            <a:ext cx="80769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14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6699"/>
                </a:solidFill>
                <a:uFillTx/>
                <a:latin typeface="Arial"/>
              </a:rPr>
              <a:t>Linee guida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  (ultima par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40000"/>
              </a:lnSpc>
              <a:spcBef>
                <a:spcPts val="400"/>
              </a:spcBef>
              <a:buClr>
                <a:srgbClr val="ff6600"/>
              </a:buClr>
              <a:buSzPct val="6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Ai fini della trasparenza 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è auspicabile che lo studente possa consultare il contenuto del proprio fascicolo informatico tramite un servizio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40000"/>
              </a:lnSpc>
              <a:spcBef>
                <a:spcPts val="400"/>
              </a:spcBef>
              <a:buClr>
                <a:srgbClr val="ff6600"/>
              </a:buClr>
              <a:buSzPct val="65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Arial"/>
              </a:rPr>
              <a:t>Nella fase transitoria</a:t>
            </a: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, in cui vi sono ancora processi manuali, sarà cura del personale dell’U.O. che ha in carico il procedimento inserire nel fascicolo informatico dello studente, se necessario, i relativi documenti cartacei, avvalendosi dei servizi offerti dal proprio sistema documentale (es. caricamento documento acquisito tramite scann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390680" y="392040"/>
            <a:ext cx="6362640" cy="909720"/>
          </a:xfrm>
          <a:prstGeom prst="rect">
            <a:avLst/>
          </a:prstGeom>
          <a:ln w="0">
            <a:noFill/>
          </a:ln>
        </p:spPr>
      </p:pic>
      <p:sp>
        <p:nvSpPr>
          <p:cNvPr id="123" name="Segnaposto piè di pagina 4"/>
          <p:cNvSpPr/>
          <p:nvPr/>
        </p:nvSpPr>
        <p:spPr>
          <a:xfrm>
            <a:off x="0" y="6324480"/>
            <a:ext cx="28954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Napoli,12/11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egnaposto piè di pagina 4"/>
          <p:cNvSpPr/>
          <p:nvPr/>
        </p:nvSpPr>
        <p:spPr>
          <a:xfrm>
            <a:off x="3124080" y="6280200"/>
            <a:ext cx="289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Progetto Uni5Net4Stu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D35A-5E00-4AC3-B2B7-05B4AD4DBE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gnai </cp:lastModifiedBy>
  <dcterms:modified xsi:type="dcterms:W3CDTF">2010-11-11T22:17:21Z</dcterms:modified>
  <cp:revision>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