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5E4-3D9D-4813-93C8-55E8C697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3A6-D394-4BCC-A6E2-A3AEEE3E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CC8-77AE-4191-9C24-A9678C7C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FA8-874D-4320-BE04-15517139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5247-4BE5-426C-8B87-71AFD40F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0959-F6E3-4D1B-9611-0338EA95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47C3-3911-41AA-B066-BF5BCF23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5684-11BB-46B8-9A2E-BBB0321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1FC7-69CD-46C5-AC2A-F9E46C3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0461-D705-4D48-880E-D5A4B6F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3A32-8136-4618-9F45-67E0FA2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B72-383E-4484-8B5D-95C58C0A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EB7-C367-47EE-9633-141CACC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348C-8C9F-459C-ABA1-E82BE4D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CA87-D3FC-4BE1-8451-CC40D49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06F-1343-4580-A704-23B520BB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CBD-760F-44DA-A792-ED6C881B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188-F851-4298-ADCF-BD62B44D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6BC-8870-43C0-A9AC-26039645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B23-C1FA-4F7A-A2D4-4A33C6F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147-2883-48F7-95C9-FDE4315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EDE-0C4E-48A1-9FE4-924EFB9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8BD-68AB-47BB-94A7-45EA28E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C89-35A3-440B-ADBA-CA32EE10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9FA-3BCD-4D2E-A5AC-7D444FED1045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497-4E65-413C-965A-78F092D6A93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7" descr=""/>
          <p:cNvPicPr/>
          <p:nvPr/>
        </p:nvPicPr>
        <p:blipFill>
          <a:blip r:embed="rId2"/>
          <a:stretch/>
        </p:blipFill>
        <p:spPr>
          <a:xfrm>
            <a:off x="2895480" y="5334120"/>
            <a:ext cx="1308240" cy="61272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2" descr="unisalento"/>
          <p:cNvPicPr/>
          <p:nvPr/>
        </p:nvPicPr>
        <p:blipFill>
          <a:blip r:embed="rId3"/>
          <a:srcRect l="0" t="0" r="66857" b="0"/>
          <a:stretch/>
        </p:blipFill>
        <p:spPr>
          <a:xfrm>
            <a:off x="5334120" y="5334120"/>
            <a:ext cx="674640" cy="64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CFAB-5058-4C87-AF66-CCDA29E55153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D15A-60F9-4EEC-B503-A737B09E51A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tavolo tecnico Università Digitale e le linee guida prod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uca.Mainetti@Unisalento.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poli, 12 novembre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omposizione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MIL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CATAN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ERR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URB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 SAL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OGG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OLOG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R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VERO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NAPOLI "Federico II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G. d'Annunzio" CHIETI– PESC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ACER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IUAV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"Cà Foscari"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PAV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ERG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IREN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ILANO-BICOC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INSUBRIA VA-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Tor Vergat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La Sapienz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ROMA TRE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l'AQUIL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nistero P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U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sper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5" descr=""/>
          <p:cNvPicPr/>
          <p:nvPr/>
        </p:nvPicPr>
        <p:blipFill>
          <a:blip r:embed="rId1"/>
          <a:stretch/>
        </p:blipFill>
        <p:spPr>
          <a:xfrm>
            <a:off x="7597800" y="5288040"/>
            <a:ext cx="15462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i obiettivi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tere e condividere le soluzioni tecnologiche ed organizzative adottate dai progetti di Università Digitale che abbiano rilevanza trasver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re modelli di processi condivisi che, superando anche eventuali ostacoli normativi, possano favorire la digitalizzazione e la cooperazione nel sistema universi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aborare linee guida riguardanti specifiche tematiche e innovazio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organizzazione dei lav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collegiali con cadenza men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su tematiche specif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iling list gener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lining list temat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ict4university.gov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idig-wiki.unich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magine 7" descr=""/>
          <p:cNvPicPr/>
          <p:nvPr/>
        </p:nvPicPr>
        <p:blipFill>
          <a:blip r:embed="rId1"/>
          <a:stretch/>
        </p:blipFill>
        <p:spPr>
          <a:xfrm>
            <a:off x="4605480" y="1295280"/>
            <a:ext cx="3929040" cy="311652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6" descr=""/>
          <p:cNvPicPr/>
          <p:nvPr/>
        </p:nvPicPr>
        <p:blipFill>
          <a:blip r:embed="rId2"/>
          <a:stretch/>
        </p:blipFill>
        <p:spPr>
          <a:xfrm>
            <a:off x="5062680" y="3581280"/>
            <a:ext cx="392904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olo 1" descr=""/>
          <p:cNvPicPr/>
          <p:nvPr/>
        </p:nvPicPr>
        <p:blipFill>
          <a:blip r:embed="rId1"/>
          <a:stretch/>
        </p:blipFill>
        <p:spPr>
          <a:xfrm>
            <a:off x="225360" y="835200"/>
            <a:ext cx="1609920" cy="526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09680" y="114480"/>
            <a:ext cx="6451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avori in co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strazione di indicatori di performance (KPI) e collaborazione alla raccolta dei dati per l’analisi dell’impatto della dematerializzazi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pporto alla introduzione operativa delle linee guida negli atene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laborazione di nuove linee gui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estione documen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agamenti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lassificazione della rice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ultimedia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Workflow e Business Process Re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58:42Z</dcterms:created>
  <dc:creator>Anna Lisa</dc:creator>
  <dc:description/>
  <dc:language>en-US</dc:language>
  <cp:lastModifiedBy>Luca Mainetti</cp:lastModifiedBy>
  <dcterms:modified xsi:type="dcterms:W3CDTF">2010-11-11T18:29:24Z</dcterms:modified>
  <cp:revision>56</cp:revision>
  <dc:subject/>
  <dc:title>ANS</dc:title>
</cp:coreProperties>
</file>