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3D2-EF7E-48F9-9FFC-98688CBA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7A9-5831-4DEF-BD60-085CD21E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763-824C-4708-A4D9-36E7C240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605-47B2-4036-811A-32831287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C133-180A-4D0B-BF97-D584B83F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ACC9-FA42-498A-82CA-34B1D80C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AE67-2D92-4A12-BB12-0C6C50F2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2EB0-8BE9-43EE-A675-BF1E27E1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2894-415A-4873-8772-82BE3A5D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E020-B996-4881-ADD7-538B25C0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1AB6-5092-4EE7-AEA8-AA7A5C29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91C-A00F-4B94-AA28-93C8301F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4057-748A-4CDD-8AB7-056B28B4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A481-243D-41B7-9B29-6BF13649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164E-3A72-42B5-8182-3176F197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8DDF-9D7E-4CA1-8894-69A3798A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89EE-B527-42B6-9AF6-D0AFB5E7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B47-901C-4DEC-93EA-028D38CF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13A-F93E-4E62-ADB0-F67EE901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873D-4367-4968-9BD6-9A9563E1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7BAF-2B0E-4337-93CC-E1976DC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6202-D0D7-4ADB-8D50-E3B0C363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96FE-EEEA-4EDB-A0DF-966DE3DE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1E8-C8CB-461B-92C0-0C0261E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234F-5A34-4BF4-8C3C-F8B817C99D0D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CF9D-3680-472C-9120-C21EB2F39E5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7" descr=""/>
          <p:cNvPicPr/>
          <p:nvPr/>
        </p:nvPicPr>
        <p:blipFill>
          <a:blip r:embed="rId2"/>
          <a:stretch/>
        </p:blipFill>
        <p:spPr>
          <a:xfrm>
            <a:off x="2895480" y="5334120"/>
            <a:ext cx="1308240" cy="612720"/>
          </a:xfrm>
          <a:prstGeom prst="rect">
            <a:avLst/>
          </a:prstGeom>
          <a:ln w="0">
            <a:noFill/>
          </a:ln>
        </p:spPr>
      </p:pic>
      <p:pic>
        <p:nvPicPr>
          <p:cNvPr id="42" name="Immagine 2" descr="unisalento"/>
          <p:cNvPicPr/>
          <p:nvPr/>
        </p:nvPicPr>
        <p:blipFill>
          <a:blip r:embed="rId3"/>
          <a:srcRect l="0" t="0" r="66857" b="0"/>
          <a:stretch/>
        </p:blipFill>
        <p:spPr>
          <a:xfrm>
            <a:off x="5334120" y="5334120"/>
            <a:ext cx="674640" cy="649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43A1-3B30-46D7-AF74-B8A076D2EF14}" type="datetime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C65-094B-4701-8856-3365D2545DF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 tavolo tecnico Università Digitale e le linee guida prod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uca.Mainetti@Unisalento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poli, 12 novembre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La composizione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MILA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CATAN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ERR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URB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 SAL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litecnico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AR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OGG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OLOG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RENT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VERON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NAPOLI "Federico II”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G. d'Annunzio" CHIETI– PESCAR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ACER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TORIN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IUAV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"Cà Foscari" di VENEZ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PAV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BERGAM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FIRENZ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MILANO-BICOC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INSUBRIA VA-C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Tor Vergat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i ROMA "La Sapienza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"ROMA TRE"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Università degli Studi dell'AQUIL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nistero P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iU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Espert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magine 5" descr=""/>
          <p:cNvPicPr/>
          <p:nvPr/>
        </p:nvPicPr>
        <p:blipFill>
          <a:blip r:embed="rId1"/>
          <a:stretch/>
        </p:blipFill>
        <p:spPr>
          <a:xfrm>
            <a:off x="7597800" y="5288040"/>
            <a:ext cx="154620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i obiettivi del tavolo tecn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scutere e condividere le soluzioni tecnologiche ed organizzative adottate dai progetti di Università Digitale che abbiano rilevanza trasversa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dividuare modelli di processi condivisi che, superando anche eventuali ostacoli normativi, possano favorire la digitalizzazione e la cooperazione nel sistema universi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laborare linee guida riguardanti specifiche tematiche e innovazion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’organizzazione dei lav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collegiali con cadenza mens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contri su tematiche specif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iling list gener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Malining list temat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www.ict4university.gov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unidig-wiki.unich.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magine 7" descr=""/>
          <p:cNvPicPr/>
          <p:nvPr/>
        </p:nvPicPr>
        <p:blipFill>
          <a:blip r:embed="rId1"/>
          <a:stretch/>
        </p:blipFill>
        <p:spPr>
          <a:xfrm>
            <a:off x="4605480" y="1295280"/>
            <a:ext cx="3929040" cy="3116520"/>
          </a:xfrm>
          <a:prstGeom prst="rect">
            <a:avLst/>
          </a:prstGeom>
          <a:ln w="0">
            <a:noFill/>
          </a:ln>
        </p:spPr>
      </p:pic>
      <p:pic>
        <p:nvPicPr>
          <p:cNvPr id="96" name="Immagine 6" descr=""/>
          <p:cNvPicPr/>
          <p:nvPr/>
        </p:nvPicPr>
        <p:blipFill>
          <a:blip r:embed="rId2"/>
          <a:stretch/>
        </p:blipFill>
        <p:spPr>
          <a:xfrm>
            <a:off x="5062680" y="3581280"/>
            <a:ext cx="392904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olo 1" descr=""/>
          <p:cNvPicPr/>
          <p:nvPr/>
        </p:nvPicPr>
        <p:blipFill>
          <a:blip r:embed="rId1"/>
          <a:stretch/>
        </p:blipFill>
        <p:spPr>
          <a:xfrm>
            <a:off x="225360" y="835200"/>
            <a:ext cx="1609920" cy="526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09680" y="114480"/>
            <a:ext cx="64515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avori in cor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strazione di indicatori di performance (KPI) e collaborazione alla raccolta dei dati per l’analisi dell’impatto della dematerializzazio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Supporto alla introduzione operativa delle linee guida negli atene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alibri"/>
              </a:rPr>
              <a:t>Elaborazione di nuove linee gui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estione document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agamenti on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lassificazione della rice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ultimedial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Workflow e Business Process Reenginee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magine 3" descr=""/>
          <p:cNvPicPr/>
          <p:nvPr/>
        </p:nvPicPr>
        <p:blipFill>
          <a:blip r:embed="rId1"/>
          <a:stretch/>
        </p:blipFill>
        <p:spPr>
          <a:xfrm>
            <a:off x="7839000" y="5029200"/>
            <a:ext cx="1305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58:42Z</dcterms:created>
  <dc:creator>Anna Lisa</dc:creator>
  <dc:description/>
  <dc:language>en-US</dc:language>
  <cp:lastModifiedBy>Luca Mainetti</cp:lastModifiedBy>
  <dcterms:modified xsi:type="dcterms:W3CDTF">2010-11-11T18:29:24Z</dcterms:modified>
  <cp:revision>56</cp:revision>
  <dc:subject/>
  <dc:title>ANS</dc:title>
</cp:coreProperties>
</file>