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D9C39-AB89-4FE5-B569-00373B7C6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6F92-B8B2-4E80-915D-042B0739C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275C8-4C90-4FBD-80A8-0E9D962FD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71E5C-23D3-4BF2-8C62-C29E1FC11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3CC0B-7A3D-41C6-B4E3-F889D3051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F7513-ED29-4051-92BA-C8FC6BB97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5EA86-E7BA-4E5F-BCB6-EC060ECCF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2F021-1127-45AC-814A-699C1995D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F7651-1D60-4AD9-B050-73ED27E54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1EE20-4CD0-4DB3-9CC1-61EF76A0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29FE9-9E7E-43C4-9BA7-04BB41799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373B8-BC2D-40FC-B6F2-11D758E5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ED38-C2FD-43E8-9497-0E1A1C0B6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482A6-AD0A-4DC0-A15A-492D8B66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094D9-F319-4B4A-AB77-248CDEC02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B60F9-F30D-4BE0-983F-1BF594C3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BD66D-5B1E-4F17-BDDA-E13F0C8BF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86520-CEAA-418D-8E88-E54984CD7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7479-D7EA-48BB-9B52-E0E78C73B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DE88-C948-4EB8-A424-AF1C1081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1A894-3FD4-467E-8BAA-6B0B9083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14DC-E948-4566-BD96-148CDBAC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963C-6E10-4980-A63A-1BBD9013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9405-74C3-4D22-85B1-28F5FB5D0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FAB5-9EFA-4EE0-9E45-E30C39117721}"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5D95-AAD1-4127-A87A-E648CB1ED2B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7" descr=""/>
          <p:cNvPicPr/>
          <p:nvPr/>
        </p:nvPicPr>
        <p:blipFill>
          <a:blip r:embed="rId2"/>
          <a:stretch/>
        </p:blipFill>
        <p:spPr>
          <a:xfrm>
            <a:off x="2895480" y="5334120"/>
            <a:ext cx="1308240" cy="612720"/>
          </a:xfrm>
          <a:prstGeom prst="rect">
            <a:avLst/>
          </a:prstGeom>
          <a:ln w="0">
            <a:noFill/>
          </a:ln>
        </p:spPr>
      </p:pic>
      <p:pic>
        <p:nvPicPr>
          <p:cNvPr id="42" name="Immagine 2" descr="unisalento"/>
          <p:cNvPicPr/>
          <p:nvPr/>
        </p:nvPicPr>
        <p:blipFill>
          <a:blip r:embed="rId3"/>
          <a:srcRect l="0" t="0" r="66857" b="0"/>
          <a:stretch/>
        </p:blipFill>
        <p:spPr>
          <a:xfrm>
            <a:off x="5334120" y="5334120"/>
            <a:ext cx="674640" cy="649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3982-7E51-491F-9373-97B9E11DE0E2}"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EB19-D96E-4567-8DEA-65FF322C577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ttura di integrazione e cooperazione applicativa</a:t>
            </a: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ca.Mainetti@Unisalento.i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poli, 12 nov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applicativa tra atenei</a:t>
            </a:r>
            <a:endParaRPr b="0" lang="en-US" sz="4400" spc="-1" strike="noStrike">
              <a:solidFill>
                <a:srgbClr val="000000"/>
              </a:solidFill>
              <a:latin typeface="Calibri"/>
            </a:endParaRPr>
          </a:p>
        </p:txBody>
      </p:sp>
      <p:pic>
        <p:nvPicPr>
          <p:cNvPr id="87" name="Rettangolo arrotondato 3" descr=""/>
          <p:cNvPicPr/>
          <p:nvPr/>
        </p:nvPicPr>
        <p:blipFill>
          <a:blip r:embed="rId1"/>
          <a:stretch/>
        </p:blipFill>
        <p:spPr>
          <a:xfrm>
            <a:off x="3919680" y="1676520"/>
            <a:ext cx="1036440" cy="4286160"/>
          </a:xfrm>
          <a:prstGeom prst="rect">
            <a:avLst/>
          </a:prstGeom>
          <a:ln w="0">
            <a:noFill/>
          </a:ln>
        </p:spPr>
      </p:pic>
      <p:sp>
        <p:nvSpPr>
          <p:cNvPr id="88"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89"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90" name="Gruppo 8"/>
          <p:cNvGrpSpPr/>
          <p:nvPr/>
        </p:nvGrpSpPr>
        <p:grpSpPr>
          <a:xfrm>
            <a:off x="3144960" y="2629080"/>
            <a:ext cx="398520" cy="315720"/>
            <a:chOff x="3144960" y="2629080"/>
            <a:chExt cx="398520" cy="315720"/>
          </a:xfrm>
        </p:grpSpPr>
        <p:sp>
          <p:nvSpPr>
            <p:cNvPr id="91"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93" name="Gruppo 14"/>
          <p:cNvGrpSpPr/>
          <p:nvPr/>
        </p:nvGrpSpPr>
        <p:grpSpPr>
          <a:xfrm>
            <a:off x="3144960" y="4799160"/>
            <a:ext cx="398520" cy="317520"/>
            <a:chOff x="3144960" y="4799160"/>
            <a:chExt cx="398520" cy="317520"/>
          </a:xfrm>
        </p:grpSpPr>
        <p:sp>
          <p:nvSpPr>
            <p:cNvPr id="94"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96"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97"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98" name="CasellaDiTesto 51"/>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invio trasferimento</a:t>
            </a:r>
            <a:endParaRPr b="0" lang="en-US" sz="1200" spc="-1" strike="noStrike">
              <a:solidFill>
                <a:srgbClr val="000000"/>
              </a:solidFill>
              <a:latin typeface="Calibri"/>
            </a:endParaRPr>
          </a:p>
        </p:txBody>
      </p:sp>
      <p:sp>
        <p:nvSpPr>
          <p:cNvPr id="99" name="CasellaDiTesto 52"/>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risposta</a:t>
            </a:r>
            <a:endParaRPr b="0" lang="en-US" sz="1200" spc="-1" strike="noStrike">
              <a:solidFill>
                <a:srgbClr val="000000"/>
              </a:solidFill>
              <a:latin typeface="Calibri"/>
            </a:endParaRPr>
          </a:p>
        </p:txBody>
      </p:sp>
      <p:sp>
        <p:nvSpPr>
          <p:cNvPr id="100" name="Segnaposto numero diapositiva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8D10-0974-4445-A963-71F88955B59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 name="CasellaDiTesto 18"/>
          <p:cNvSpPr/>
          <p:nvPr/>
        </p:nvSpPr>
        <p:spPr>
          <a:xfrm>
            <a:off x="3461400" y="1827360"/>
            <a:ext cx="330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0: scelta facoltà (navigazione nei siti dell’ateneo B)</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con le anagrafi</a:t>
            </a:r>
            <a:endParaRPr b="0" lang="en-US" sz="4400" spc="-1" strike="noStrike">
              <a:solidFill>
                <a:srgbClr val="000000"/>
              </a:solidFill>
              <a:latin typeface="Calibri"/>
            </a:endParaRPr>
          </a:p>
        </p:txBody>
      </p:sp>
      <p:pic>
        <p:nvPicPr>
          <p:cNvPr id="103" name="Rettangolo arrotondato 3" descr=""/>
          <p:cNvPicPr/>
          <p:nvPr/>
        </p:nvPicPr>
        <p:blipFill>
          <a:blip r:embed="rId1"/>
          <a:stretch/>
        </p:blipFill>
        <p:spPr>
          <a:xfrm>
            <a:off x="3919680" y="1676520"/>
            <a:ext cx="1036440" cy="4286160"/>
          </a:xfrm>
          <a:prstGeom prst="rect">
            <a:avLst/>
          </a:prstGeom>
          <a:ln w="0">
            <a:noFill/>
          </a:ln>
        </p:spPr>
      </p:pic>
      <p:sp>
        <p:nvSpPr>
          <p:cNvPr id="104"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105"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106" name="Gruppo 8"/>
          <p:cNvGrpSpPr/>
          <p:nvPr/>
        </p:nvGrpSpPr>
        <p:grpSpPr>
          <a:xfrm>
            <a:off x="3144960" y="2629080"/>
            <a:ext cx="398520" cy="315720"/>
            <a:chOff x="3144960" y="2629080"/>
            <a:chExt cx="398520" cy="315720"/>
          </a:xfrm>
        </p:grpSpPr>
        <p:sp>
          <p:nvSpPr>
            <p:cNvPr id="107"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8"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109" name="Gruppo 14"/>
          <p:cNvGrpSpPr/>
          <p:nvPr/>
        </p:nvGrpSpPr>
        <p:grpSpPr>
          <a:xfrm>
            <a:off x="3144960" y="4799160"/>
            <a:ext cx="398520" cy="317520"/>
            <a:chOff x="3144960" y="4799160"/>
            <a:chExt cx="398520" cy="317520"/>
          </a:xfrm>
        </p:grpSpPr>
        <p:sp>
          <p:nvSpPr>
            <p:cNvPr id="110"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112"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113"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114" name="Rettangolo arrotondato 14"/>
          <p:cNvSpPr/>
          <p:nvPr/>
        </p:nvSpPr>
        <p:spPr>
          <a:xfrm>
            <a:off x="5730840" y="17082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FF.F Pubblic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nistero</a:t>
            </a:r>
            <a:endParaRPr b="0" lang="en-US" sz="2000" spc="-1" strike="noStrike">
              <a:solidFill>
                <a:srgbClr val="000000"/>
              </a:solidFill>
              <a:latin typeface="Calibri"/>
            </a:endParaRPr>
          </a:p>
        </p:txBody>
      </p:sp>
      <p:sp>
        <p:nvSpPr>
          <p:cNvPr id="115" name="Rettangolo arrotondato 22"/>
          <p:cNvSpPr/>
          <p:nvPr/>
        </p:nvSpPr>
        <p:spPr>
          <a:xfrm>
            <a:off x="5730840" y="39528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stero</a:t>
            </a:r>
            <a:endParaRPr b="0" lang="en-US" sz="2000" spc="-1" strike="noStrike">
              <a:solidFill>
                <a:srgbClr val="000000"/>
              </a:solidFill>
              <a:latin typeface="Calibri"/>
            </a:endParaRPr>
          </a:p>
        </p:txBody>
      </p:sp>
      <p:grpSp>
        <p:nvGrpSpPr>
          <p:cNvPr id="116" name="Gruppo 8"/>
          <p:cNvGrpSpPr/>
          <p:nvPr/>
        </p:nvGrpSpPr>
        <p:grpSpPr>
          <a:xfrm>
            <a:off x="5331960" y="2625840"/>
            <a:ext cx="398520" cy="317520"/>
            <a:chOff x="5331960" y="2625840"/>
            <a:chExt cx="398520" cy="317520"/>
          </a:xfrm>
        </p:grpSpPr>
        <p:sp>
          <p:nvSpPr>
            <p:cNvPr id="117" name="Connettore 1 24"/>
            <p:cNvSpPr/>
            <p:nvPr/>
          </p:nvSpPr>
          <p:spPr>
            <a:xfrm flipH="1">
              <a:off x="5502600" y="27828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8" name="Immagine 25" descr="Uml component.png"/>
            <p:cNvPicPr/>
            <p:nvPr/>
          </p:nvPicPr>
          <p:blipFill>
            <a:blip r:embed="rId4"/>
            <a:stretch/>
          </p:blipFill>
          <p:spPr>
            <a:xfrm flipH="1" rot="16200000">
              <a:off x="5300280" y="2657520"/>
              <a:ext cx="317520" cy="254160"/>
            </a:xfrm>
            <a:prstGeom prst="rect">
              <a:avLst/>
            </a:prstGeom>
            <a:ln w="0">
              <a:noFill/>
            </a:ln>
          </p:spPr>
        </p:pic>
      </p:grpSp>
      <p:grpSp>
        <p:nvGrpSpPr>
          <p:cNvPr id="119" name="Gruppo 8"/>
          <p:cNvGrpSpPr/>
          <p:nvPr/>
        </p:nvGrpSpPr>
        <p:grpSpPr>
          <a:xfrm>
            <a:off x="5331960" y="4800600"/>
            <a:ext cx="398520" cy="316080"/>
            <a:chOff x="5331960" y="4800600"/>
            <a:chExt cx="398520" cy="316080"/>
          </a:xfrm>
        </p:grpSpPr>
        <p:sp>
          <p:nvSpPr>
            <p:cNvPr id="120" name="Connettore 1 27"/>
            <p:cNvSpPr/>
            <p:nvPr/>
          </p:nvSpPr>
          <p:spPr>
            <a:xfrm flipH="1">
              <a:off x="5502600" y="495684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Immagine 28" descr="Uml component.png"/>
            <p:cNvPicPr/>
            <p:nvPr/>
          </p:nvPicPr>
          <p:blipFill>
            <a:blip r:embed="rId5"/>
            <a:stretch/>
          </p:blipFill>
          <p:spPr>
            <a:xfrm flipH="1" rot="16200000">
              <a:off x="5301000" y="4831560"/>
              <a:ext cx="316080" cy="254160"/>
            </a:xfrm>
            <a:prstGeom prst="rect">
              <a:avLst/>
            </a:prstGeom>
            <a:ln w="0">
              <a:noFill/>
            </a:ln>
          </p:spPr>
        </p:pic>
      </p:grpSp>
      <p:cxnSp>
        <p:nvCxnSpPr>
          <p:cNvPr id="122" name="Connettore 4 33"/>
          <p:cNvCxnSpPr/>
          <p:nvPr/>
        </p:nvCxnSpPr>
        <p:spPr>
          <a:xfrm flipH="1" flipV="1" rot="5400000">
            <a:off x="4435200" y="1605240"/>
            <a:ext cx="3960" cy="2043720"/>
          </a:xfrm>
          <a:prstGeom prst="bentConnector3">
            <a:avLst>
              <a:gd name="adj1" fmla="val 34610000"/>
            </a:avLst>
          </a:prstGeom>
          <a:ln w="25560">
            <a:solidFill>
              <a:srgbClr val="4f81bd"/>
            </a:solidFill>
            <a:miter/>
            <a:tailEnd len="med" type="arrow" w="med"/>
          </a:ln>
        </p:spPr>
      </p:cxnSp>
      <p:sp>
        <p:nvSpPr>
          <p:cNvPr id="123" name="CasellaDiTesto 35"/>
          <p:cNvSpPr/>
          <p:nvPr/>
        </p:nvSpPr>
        <p:spPr>
          <a:xfrm>
            <a:off x="3421440" y="1708200"/>
            <a:ext cx="115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scelta facoltà</a:t>
            </a:r>
            <a:endParaRPr b="0" lang="en-US" sz="1200" spc="-1" strike="noStrike">
              <a:solidFill>
                <a:srgbClr val="000000"/>
              </a:solidFill>
              <a:latin typeface="Calibri"/>
            </a:endParaRPr>
          </a:p>
        </p:txBody>
      </p:sp>
      <p:cxnSp>
        <p:nvCxnSpPr>
          <p:cNvPr id="124" name="Connettore 4 38"/>
          <p:cNvCxnSpPr/>
          <p:nvPr/>
        </p:nvCxnSpPr>
        <p:spPr>
          <a:xfrm flipH="1" rot="16200000">
            <a:off x="4436640" y="4095000"/>
            <a:ext cx="1080" cy="2043720"/>
          </a:xfrm>
          <a:prstGeom prst="bentConnector3">
            <a:avLst>
              <a:gd name="adj1" fmla="val 66450000"/>
            </a:avLst>
          </a:prstGeom>
          <a:ln w="25560">
            <a:solidFill>
              <a:srgbClr val="4f81bd"/>
            </a:solidFill>
            <a:miter/>
            <a:tailEnd len="med" type="arrow" w="med"/>
          </a:ln>
        </p:spPr>
      </p:cxnSp>
      <p:sp>
        <p:nvSpPr>
          <p:cNvPr id="125" name="CasellaDiTesto 43"/>
          <p:cNvSpPr/>
          <p:nvPr/>
        </p:nvSpPr>
        <p:spPr>
          <a:xfrm>
            <a:off x="3421800" y="5611680"/>
            <a:ext cx="12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 aggiornamento</a:t>
            </a:r>
            <a:endParaRPr b="0" lang="en-US" sz="1200" spc="-1" strike="noStrike">
              <a:solidFill>
                <a:srgbClr val="000000"/>
              </a:solidFill>
              <a:latin typeface="Calibri"/>
            </a:endParaRPr>
          </a:p>
        </p:txBody>
      </p:sp>
      <p:sp>
        <p:nvSpPr>
          <p:cNvPr id="126" name="CasellaDiTesto 44"/>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invio trasferimento</a:t>
            </a:r>
            <a:endParaRPr b="0" lang="en-US" sz="1200" spc="-1" strike="noStrike">
              <a:solidFill>
                <a:srgbClr val="000000"/>
              </a:solidFill>
              <a:latin typeface="Calibri"/>
            </a:endParaRPr>
          </a:p>
        </p:txBody>
      </p:sp>
      <p:sp>
        <p:nvSpPr>
          <p:cNvPr id="127" name="CasellaDiTesto 46"/>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risposta</a:t>
            </a:r>
            <a:endParaRPr b="0" lang="en-US" sz="1200" spc="-1" strike="noStrike">
              <a:solidFill>
                <a:srgbClr val="000000"/>
              </a:solidFill>
              <a:latin typeface="Calibri"/>
            </a:endParaRPr>
          </a:p>
        </p:txBody>
      </p:sp>
      <p:sp>
        <p:nvSpPr>
          <p:cNvPr id="128" name="Segnaposto numero diapositiva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0F27-D53E-4181-A1C3-B44C87B1E0B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e guida generali</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di un glossario dei termini condiviso che inquadri lo specifico dominio o process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divisione del processo: accordi sul formato di interscambio dati, sulle modalità di interazione e sul protocollo di comunicazione (NON condivisione del processo intern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e condivisione del formato di interscambio dati (struttura delle informazioni, tabelle di codifica, opzionalità dei camp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ee guida generali (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le modalità di interazione (comunicazione sincrona/asincrona/mista, quali dati sono scambiati in parallel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 protocollo di comunicazione (a. negoziazione, b. sincronizzazione, c. interscambio, d. chiu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o d’uso “trasferiment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ssari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eneo di provenienza, Ateneo di destinazione, Convalida di crediti, Foglio di congedo, Carriera, Prima immatricolazione, Tratta, Domanda di trasferimento, Corso di Studi ad accesso programmato, Corso di Studi ad accesso libero, Corso singolo, Agre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o</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zione corso di stud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goziazione tra atene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zione della domanda di trasferimento all’ateneo di provenienza</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he amministrativ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parazione foglio di conged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ambio del foglio di congedo e identificazione del process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quisizione del foglio di congedo da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a dello stato di trasferiment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crizione dello studente ne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lusione del processo di trasferiment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ato di interscambio dei dati</a:t>
            </a:r>
            <a:endParaRPr b="0" lang="en-US" sz="20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1. TRASFERIMENTO: informazioni relative al trasferimento intendendo con ciò gli estremi della domanda che lo studente ha presentato presso l’Ateneo di provenienza e le informazioni sull’Ateneo di destinazione e sul corso di studi specifico all’interno dell’Ateneo di destinazion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2. DATI IDENTIFICATIVI STUDENTE: dati che consentono di identificare lo studente quali codice fiscale, nome, cognome, data e luogo di nascita etc. In questa sezione sono presenti anche informazioni di contatto quali residenza e domicilio ed informazioni relative ad altre forme di contatto possibili (e-mail, skype etc)</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3. TITOLI CONSEGUITI: titoli di studio conseguiti dallo studente a partire dal diploma di scuola media superiore fino ad eventuali titoli di tipo universitario. Per i titoli universitari è importante riportare la descrizione della prova final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4. CARRIERA UNIVERSITARIA: informazioni sulla prima immatricolazione e successivamente, per ciascuna tratta, sono riportate le iscrizioni effettuate e gli esami sostenuti (o convalidati) nell’ambito della tratta.  Per ciascun esame si indica se esso è stato sostenuto o convalidato e tutti i dettagli di interesse (votazione, CFU, SSD etc). Per ciascuna tratta si indicano i motivi per cui essa è stata chiusa (Chiusa per Conseguimento titolo, Chiusa per trasferimento, ecc.). Si indicano anche le attività extra curricular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pic>
        <p:nvPicPr>
          <p:cNvPr id="140" name="" descr=""/>
          <p:cNvPicPr/>
          <p:nvPr/>
        </p:nvPicPr>
        <p:blipFill>
          <a:blip r:embed="rId1"/>
          <a:stretch/>
        </p:blipFill>
        <p:spPr>
          <a:xfrm>
            <a:off x="990720" y="2209680"/>
            <a:ext cx="6892920" cy="4648320"/>
          </a:xfrm>
          <a:prstGeom prst="rect">
            <a:avLst/>
          </a:prstGeom>
          <a:ln w="0">
            <a:noFill/>
          </a:ln>
        </p:spPr>
      </p:pic>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zi di interscambio dei da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47:52Z</dcterms:created>
  <dc:creator>Anna Lisa</dc:creator>
  <dc:description/>
  <dc:language>en-US</dc:language>
  <cp:lastModifiedBy>Luca Mainetti</cp:lastModifiedBy>
  <dcterms:modified xsi:type="dcterms:W3CDTF">2010-11-11T18:28:55Z</dcterms:modified>
  <cp:revision>44</cp:revision>
  <dc:subject/>
  <dc:title>ANS</dc:title>
</cp:coreProperties>
</file>