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2A6B-D61D-48E9-891F-702BCC9E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60A0-7FBB-45D0-92FA-326E177F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7AE3-2E3C-4F7A-9F76-D2C143D7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AA39-AB09-461F-B137-A3B1024A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55BA-D06E-47D1-924E-B05E57FC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1B85-E4F0-46D8-A963-C5CFE813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7BAA-E205-489B-9966-832970FC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CC8E-4203-4EE4-816C-153CBD18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F0A6-12ED-47F0-BB23-4A544839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53F3-B12C-4448-BE41-B5C0E370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21FB-C118-48B9-811B-E3645781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9C23-1284-48FD-98A9-0485BC1B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EBB7-5F22-47BE-9E40-90A89D69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2E1D-EFAA-4868-AE52-7EC69847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0D35-F9F2-4C64-8D65-5826E2C6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3D08-7205-4433-977D-B5AF3D54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444A-1D2A-4894-98F1-E98884D2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2F4E-290B-4B67-AAD3-FC1452F8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D3FF-BACC-4D32-AA61-A188F4B8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DA4-DE34-464D-92A2-B335684F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0574-A9B9-4B95-923F-ED9DEB2D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298B-87E7-4D64-B135-71C07102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AF63-430F-41A6-BE18-B642CB84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CC80-45C8-4F6A-8159-5083673E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6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51000" indent="-35100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927080" indent="-31572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446200" indent="-3394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erbalizzazione esami: proposta processo dematerializzato</a:t>
            </a: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-  </a:t>
            </a:r>
            <a:fld id="{9D5B5A64-F6BB-4257-ACBE-A1658E65A302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6165720"/>
            <a:ext cx="822960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882440"/>
            <a:ext cx="76230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62B5-6D82-4F9B-BA89-4944AFA1D9B8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219320"/>
            <a:ext cx="7923240" cy="24969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5289480"/>
            <a:ext cx="435276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3849840"/>
            <a:ext cx="3009960" cy="1666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45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71400" indent="228600" algn="ctr">
              <a:spcBef>
                <a:spcPts val="45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58752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indent="765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 indent="765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 indent="765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04996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Verdana"/>
              </a:rPr>
              <a:t>Napoli – 12 novembre 2010 </a:t>
            </a:r>
            <a:br>
              <a:rPr sz="1800"/>
            </a:br>
            <a:r>
              <a:rPr b="1" lang="it-IT" sz="2000" spc="-1" strike="noStrike">
                <a:solidFill>
                  <a:srgbClr val="000000"/>
                </a:solidFill>
                <a:latin typeface="Verdana"/>
                <a:ea typeface="Verdana"/>
              </a:rPr>
              <a:t>WORKSHOP ICT4UNIVERSITY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tà Federico II, Complesso San Marcellino e Fest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068720" y="4221000"/>
            <a:ext cx="4896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lessandro Boglio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iversità di Urbi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lessandro.bogliolo@uniurb.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635280" y="2693880"/>
            <a:ext cx="2392560" cy="1220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1474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utenticazione feder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 l’accesso ad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7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nform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’utente deve essere informa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e finalità e delle modalità di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trattamento dei propri dat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personali eventualmente richiest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dei serviz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, delle federazioni e delle confederazioni a cui le credenziali danno access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’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dentità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del soggetto che fornisce il servizio (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FdS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) e dell’identità del soggetto che opera la validazione delle credenziali all’atto dell’autenticazione (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dA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scambio di informazion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tra OdA e FdS ai fini della fornitura del servizi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e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condizioni di utilizz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del servizio di access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9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lle modalità di interruzione dell’accesso (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logout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8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78598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consens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ima di effettuare l’accesso l’utente deve acconsentire, caso per caso o una tantu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llo scambio di informazion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tra OdA e FdS eventualmente necessarie ai fini della fornitura del servizi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9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204640"/>
            <a:ext cx="78598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’utente deve avere controllo della durata della connessione ad Internet e deve poterne verificare in ogni momento la sussistenza o la cessazio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Implementazioni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Allegati tecnici alle linee guida</a:t>
            </a:r>
            <a:br>
              <a:rPr sz="2800"/>
            </a:b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204640"/>
            <a:ext cx="78598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D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 si forniscono dettagli poiché è stato oggetto di uno specifico interv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URO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 si forniscono dettagli poiché è stato oggetto di uno specifico interv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Ultim’ora: Con o senza il Decreto Pisanu</a:t>
            </a:r>
            <a:br>
              <a:rPr sz="2800"/>
            </a:b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La licenza per il WiF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7859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Legge 31 luglio 2005, n. 15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"Conversione in legge, con modificazioni, del decreto-legge 27 luglio 2005, n. 144, recante misure urgenti per il contrasto del terrorismo internazionale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Art. 7.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 Integrazione della disciplina amministrativa degli esercizi pubblici di telefonia e interne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A decorrere […] 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fino al 31 dicembre 2007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chiunque intende aprire un pubblico esercizio o un circolo privato di qualsiasi specie, nel quale sono posti a disposizione del pubblico, dei clienti o dei soci apparecchi terminali utilizzabili per le comunicazioni, anche telematiche,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eve chiederne la licenza al questor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[…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 Per coloro che già esercitano le attività di cui al comma 1, la licenza […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 La licenza si intende rilasciata trascorsi […]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Restano ferme le disposizioni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di cui al decreto legislativo 1° agosto 2003, n. 259,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nonche' le attribuzioni degli enti locali in materia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Ultim’ora: Con o senza il Decreto Pisanu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Monitoraggio e identificazion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Legge 31 luglio 2005, n. 15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"Conversione in legge, con modificazioni, del decreto-legge 27 luglio 2005, n. 144, recante misure urgenti per il contrasto del terrorismo internazionale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Art. 7.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 Integrazione della disciplina amministrativa degli esercizi pubblici di telefonia e interne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 Con decreto […] sono stabilite le misure che il titolare o il gestore di un esercizio in cui si svolgono le attività di cui al comma 1, e' tenuto ad osservare per il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monitoraggio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elle operazioni dell'utente e l'archiviazione dei relativi dati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[…] nonche' le misure di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preventiva acquisizione di dati anagrafici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riportati su un documento di identità dei soggetti che utilizzano postazioni pubbliche non vigilate per comunicazioni telematiche ovvero punti di accesso ad Internet utilizzando tecnologia senza fili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. […] il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controllo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sull'osservanza del decreto di cui al comma 4 e l'accesso ai relativi dati sono effettuati dall'organo del Ministero dell'interno preposto ai servizi di polizia postale e delle comunicazioni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Ultim’ora: Con o senza il Decreto Pisanu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Il Consiglio dei Ministr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Consiglio dei Ministri n. 113 del 05/11/201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	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La Presidenza del Consiglio dei Ministri comunic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Il Consiglio dei Ministri ha approvato un </a:t>
            </a:r>
            <a:r>
              <a:rPr b="1" lang="it-IT" sz="1600" spc="-1" strike="noStrike">
                <a:solidFill>
                  <a:srgbClr val="5f5f5f"/>
                </a:solidFill>
                <a:latin typeface="Verdana"/>
              </a:rPr>
              <a:t>decreto legge</a:t>
            </a:r>
            <a:r>
              <a:rPr b="0" lang="it-IT" sz="1600" spc="-1" strike="noStrike">
                <a:solidFill>
                  <a:srgbClr val="5f5f5f"/>
                </a:solidFill>
                <a:latin typeface="Verdana"/>
              </a:rPr>
              <a:t>, su proposta del Presidente del Consiglio, Silvio Berlusconi, e del Ministro dell’interno, Roberto Maroni, che contiene diverse disposizioni in materia di sicurezza pubblica […] il Governo ha varato, tra le altre, le seguenti misur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[…]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’intervento del Governo in materia di sicurezza pubblica è stato completato e rafforzato da un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isegno di legg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approvato su proposta del Ministro Maroni, che, fra l’altro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[…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in materia di accesso alla rete Wi.Fi: prevede il superamento delle restrizioni al libero accesso alla rete contenute nel cosiddetto “decreto Pisanu”, mantenendo tuttavia adeguati standard di sicurezz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[…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(Il testo del disegno di legge non è ancora disponibi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Ultim’ora: Con o senza il Decreto Pisanu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Le dichiarazioni 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ichiarazioni del Ministro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iberalizzazion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al primo gennaio 201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Superamento delle restrizioni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imposte dal decreto di cinque anni fa, che ora sono stat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oltrepassate dall'evoluzione tecnologic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iberalizzazione dei collegamenti Wi Fi attraverso gli smartphone o attraverso altri collegamenti offlin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senza bisogno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come succede oggi,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i preventivamente registrarsi con la fotocopia del documento d’identit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Contemperamento delle esigenz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della libera diffusione del collegamento WiFi con quelle legate alla sicurezza e alle misure antiterrorism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Dichiarazione del Procuratore Antimafia Grass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redo che ci si debba rendere conto che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ietro questi internet point e queste reti wi-fi ci si possa nascondere benissimo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nella massa degli utenti non più identificabili. Si possono trovare anche terroristi, pedofili e mafios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Ultim’ora: Con o senza il Decreto Pisanu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sa aspettars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Osservazioni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Si tratta di un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disegno di legg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che a quanto mi risulta non ha ancora iniziato l’iter parlamenta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riferimento al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primo gennaio 2011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lascia intendere che non si tratti di un’abrogazione dell’articolo 7, che potrebbe avere decorrenza da qualsiasi momento, ma della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mancata proroga del comma 1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l’unico ad avere un riferimento temporal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’abrogazione in toto dell’Art. 7 del decreto Pisanu creerebbe un vuoto normativo che mal si concilia con il “mantenimento di adeguati standard di sicurezza”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riferimento di Maroni all’evoluzione tecnologica che permetterebbe di superare il vincolo alla registrazione di un documento di identità, sembra alludere a soluzioni molto vicine alle linee guida del tavolo tecnico, che sono già ammesse dal ministero dell’intern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onclusioni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Non mi aspetto significative ricadute per le universit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termine liberalizzazione credo vada riferito alla mancata proroga dell’obbligo di licenza (comma 1 art. 7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9480" indent="-429480">
              <a:lnSpc>
                <a:spcPct val="80000"/>
              </a:lnSpc>
              <a:spcBef>
                <a:spcPts val="400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Senz’altro liberalizzazione non significa quello che l’opinione pubblica si aspetta: wifi gratis per tutt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aso d’uso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L'utente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, registrato presso un soggetto, detto “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Organizzazione di appartenenza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OdA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), che gli ha fornito un’identità digitale e le relative credenziali (username e password, o certificato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utilizza le credenziali fornite dall’Od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per accedere ad Internet attraverso le risorse di rete di un secondo soggetto, detto “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Fornitore di servizio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FdS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1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859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registr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procedura di registrazione adottata dall’OdA per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ssegnare e/o abilitare le credenzial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ll’utente deve garantire la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riservatezz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lle credenziali e l’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dentificazione cert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ll’utente nel rispetto della normativa vigente in materia di antiterrorismo e di sicurezza informatic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1 (continua)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981000"/>
            <a:ext cx="8218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dentificazione dirett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cedure di registrazione a seguito di identificazione dirett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de visu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attraverso l’acquisizione dei dati di un documento di identità personal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dentificazione indiretta estern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cedure di registrazione a seguito di identificazione indiretta basata sull’acquisizione dei dati di un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arta di credit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o di un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IM card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rilasciata in Italia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dentificazione indiretta intern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68240" indent="-376920"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cedure di registrazione a seguito di identificazione indiretta basata sull’acquisizione di token o la verifica di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redenziali precedentemente rilasciati dalla Od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stessa con modalità di tipo a) o b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2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gestione dell’identità digita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’OdA deve garantire il trattamento dei dati e delle credenziali dell’utente nel rispetto della normativa vigente in materia d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icurezza informatic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d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rivacy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, nel caso in cui l’identità digitale comprenda username e password, l’OdA deve mettere a disposizione dell’utente procedure sicure per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modificare o reimpostare la propria password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6928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3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859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tenticazio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procedura di autenticazione deve prevedere l’utilizzo di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ali sicur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 la trasmissione delle credenziali 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itare di esporre le credenziali al Fornitore di servizio o a terz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4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7859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ccess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procedura di accesso deve prevedere lo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cambi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tra l’OdA e il FdS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dei dati minimi indispensabil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 permette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’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identificaz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ell’utente presso l’OdA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verific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el possesso dei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requisiti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i accesso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’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erogaz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del servizio nel rispetto della normativa vigente e delle usage policies della rete del FdS e della rete (ad esempio NREN) a cui questo è conness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5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racciament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’OdA e il FdS devono collaborare ai fini del 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racciament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dell’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dentific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dell’utente, nel rispetto della normativa vigente in materia di antiterrorismo, di privacy e di sicurezza informatic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 tal fine l’OdA e il FdS devono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condividere riferimenti univoc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associati alle tracce mantenute dal FdS e all’identità dell’utente mantenuta dall’Od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6928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ndizione 6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iduci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’OdA e il FdS devono darsi garanzie reciproche di rispetto delle condizioni espresse ai precedenti punti 1), 2), 3), 4) e 5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li garanzie possono essere formalizzate da un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accordo bilatera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tra OdA e FdS, o dalla adesione dell’OdA e del FdS ad una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ederazion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o confederazione che preveda il rispetto delle suddette condizio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e36928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1:19:12Z</dcterms:created>
  <dc:creator>Cesare</dc:creator>
  <dc:description/>
  <dc:language>en-US</dc:language>
  <cp:lastModifiedBy>xxx</cp:lastModifiedBy>
  <dcterms:modified xsi:type="dcterms:W3CDTF">2010-11-12T10:43:28Z</dcterms:modified>
  <cp:revision>42</cp:revision>
  <dc:subject/>
  <dc:title>La verbalizzazione degli esami:  proposta di processo dematerializzato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