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C9F6-126F-44EE-BAEA-A55FE01C5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7C63-F299-4E1E-B5F3-CB0C71058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F981-7461-4401-982E-DD68ECA68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0BFA-E261-4268-B549-EC88A28A1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16C6-E353-4324-806A-B8B222DDC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5B4D-A3B7-46A6-8A24-E55CFFF83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78DB-FD94-46B1-90F0-BB843BBD4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66CF-6BA1-48E3-837F-2544E6051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82AE-D266-4264-B663-A1E6661A4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08EC-16FB-4CEF-889D-ED03FBCD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0419-6163-4C65-8100-8295A070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7397-6F34-479C-8C99-95BE19D47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DF31CE-0684-434D-A52C-F4DBF4687727}" type="datetime">
              <a:rPr b="0" lang="it-IT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31A319-DF9B-470A-91B0-89AD552B5BB6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uppo 12"/>
          <p:cNvGrpSpPr/>
          <p:nvPr/>
        </p:nvGrpSpPr>
        <p:grpSpPr>
          <a:xfrm>
            <a:off x="666000" y="1427040"/>
            <a:ext cx="7863840" cy="3706920"/>
            <a:chOff x="666000" y="1427040"/>
            <a:chExt cx="7863840" cy="3706920"/>
          </a:xfrm>
        </p:grpSpPr>
        <p:sp>
          <p:nvSpPr>
            <p:cNvPr id="42" name="Triangolo isoscele 3"/>
            <p:cNvSpPr/>
            <p:nvPr/>
          </p:nvSpPr>
          <p:spPr>
            <a:xfrm>
              <a:off x="3122640" y="2168640"/>
              <a:ext cx="3329640" cy="23839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bc1ff"/>
                </a:gs>
                <a:gs pos="100000">
                  <a:srgbClr val="3f80cd"/>
                </a:gs>
              </a:gsLst>
              <a:lin ang="54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Calibri"/>
                </a:rPr>
                <a:t>Demateria-lizzazion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CasellaDiTesto 4"/>
            <p:cNvSpPr/>
            <p:nvPr/>
          </p:nvSpPr>
          <p:spPr>
            <a:xfrm>
              <a:off x="2713320" y="1427040"/>
              <a:ext cx="3835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</a:rPr>
                <a:t>Innovazione processo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CasellaDiTesto 5"/>
            <p:cNvSpPr/>
            <p:nvPr/>
          </p:nvSpPr>
          <p:spPr>
            <a:xfrm>
              <a:off x="5285880" y="4552560"/>
              <a:ext cx="3243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</a:rPr>
                <a:t>Standardizzazione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CasellaDiTesto 6"/>
            <p:cNvSpPr/>
            <p:nvPr/>
          </p:nvSpPr>
          <p:spPr>
            <a:xfrm>
              <a:off x="666000" y="4552560"/>
              <a:ext cx="4344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</a:rPr>
                <a:t>Innovazione piattaforma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Ovale 9"/>
            <p:cNvSpPr/>
            <p:nvPr/>
          </p:nvSpPr>
          <p:spPr>
            <a:xfrm>
              <a:off x="4673520" y="2011680"/>
              <a:ext cx="213840" cy="21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Ovale 10"/>
            <p:cNvSpPr/>
            <p:nvPr/>
          </p:nvSpPr>
          <p:spPr>
            <a:xfrm>
              <a:off x="3015720" y="4445640"/>
              <a:ext cx="213840" cy="21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Ovale 11"/>
            <p:cNvSpPr/>
            <p:nvPr/>
          </p:nvSpPr>
          <p:spPr>
            <a:xfrm>
              <a:off x="6345360" y="4445640"/>
              <a:ext cx="213840" cy="21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2T11:32:19Z</dcterms:created>
  <dc:creator>Luca Mainetti</dc:creator>
  <dc:description/>
  <dc:language>en-US</dc:language>
  <cp:lastModifiedBy>Luca Mainetti</cp:lastModifiedBy>
  <dcterms:modified xsi:type="dcterms:W3CDTF">2010-11-12T11:42:02Z</dcterms:modified>
  <cp:revision>2</cp:revision>
  <dc:subject/>
  <dc:title>Diapositiva 1</dc:title>
</cp:coreProperties>
</file>