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27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79A-34C9-42C2-94FE-30C7C308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882-E114-484E-A9F1-96CAFA3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248-DEC0-42E0-844F-509D7110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65F-E1C6-4D54-B7DC-2136493A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793-41E1-4C6A-A93A-F1C8E39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E43-A911-4AF9-811F-B501FBF1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18D-1D2E-417B-95EB-4AD66093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DAE-88E4-4D1F-AB82-1AE72353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AB6-1C7E-4B25-B8CB-1AFD1298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FAD-8138-4C18-A04E-55B529D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5FA-E5AD-4D48-A8F3-50C49A4B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17D-5D6B-4484-92CC-F62AE8F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17B6-6A3A-468C-8353-0B1149229BFA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5C1-AD18-4DCD-AF71-310FE4FFE84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" descr="Testat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0160" y="1699920"/>
            <a:ext cx="943272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f497d"/>
                </a:solidFill>
                <a:latin typeface="Calibri"/>
              </a:rPr>
              <a:t>Programma ICT4University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r>
              <a:rPr b="0" lang="it-IT" sz="2200" spc="-1" strike="noStrike">
                <a:solidFill>
                  <a:srgbClr val="1f497d"/>
                </a:solidFill>
                <a:latin typeface="Calibri"/>
              </a:rPr>
              <a:t>- Il piano eGov 2012: obiettivo università –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12 Novembre 2010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8520" y="4952880"/>
            <a:ext cx="68724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Ing. Paolo Donz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rettor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General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Ufficio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Studi e progetti per l’innovazione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partimento per la digitalizzazione della PA e l’innovazione tecnolo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F05B-B3D0-48E8-B8B5-9F98BB6306D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50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461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Copertura WiFi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28520" y="1528920"/>
            <a:ext cx="6604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C43F-0881-45DE-B274-C9CA600132A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3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516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scrizione online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136440" y="1638360"/>
            <a:ext cx="64724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EAB7-EA70-401B-B503-EBBD5E4F38E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8"/>
          <p:cNvSpPr/>
          <p:nvPr/>
        </p:nvSpPr>
        <p:spPr>
          <a:xfrm>
            <a:off x="6969240" y="2152800"/>
            <a:ext cx="2736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8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130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nel 2010 il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 7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dei verbali è firmato digit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76160" y="189000"/>
            <a:ext cx="907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300" spc="-1" strike="noStrike">
                <a:solidFill>
                  <a:srgbClr val="1f497d"/>
                </a:solidFill>
                <a:latin typeface="Calibri"/>
              </a:rPr>
              <a:t>- Verbalizzazione elettronica degli esami per aree geografiche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128520" y="1563840"/>
            <a:ext cx="6624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3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 nuovi servizi: le linee guida di “</a:t>
            </a:r>
            <a:r>
              <a:rPr b="1" i="1" lang="it-IT" sz="3200" spc="-1" strike="noStrike">
                <a:solidFill>
                  <a:srgbClr val="1f497d"/>
                </a:solidFill>
                <a:latin typeface="Calibri"/>
              </a:rPr>
              <a:t>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72880" y="1268280"/>
            <a:ext cx="90918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er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vorire la diffusione dei risultati conseguiti, le 27 università interessate dall’iniziativa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“</a:t>
            </a:r>
            <a:r>
              <a:rPr b="1" i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Università digitale”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con DDI e MIUR) hanno elaborato delle linee guida per la digitalizzazione e standardizzazione dei principali proces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verbale digit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VoIP per studenti e doc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el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ematerializzazione scambio docum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tra Università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spcAft>
                <a:spcPts val="1800"/>
              </a:spcAft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Autenticazione fede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ts val="2500"/>
              </a:lnSpc>
              <a:spcBef>
                <a:spcPts val="1800"/>
              </a:spcBef>
              <a:spcAft>
                <a:spcPts val="1800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isponibili sul sito ICT4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B505-9DF6-42A4-B1C7-069D056E687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rcRect l="35856" t="15374" r="36476" b="12766"/>
          <a:stretch/>
        </p:blipFill>
        <p:spPr>
          <a:xfrm>
            <a:off x="6464160" y="2421000"/>
            <a:ext cx="2592360" cy="3784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146240" y="189000"/>
            <a:ext cx="761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ortale: ICT4University.gov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8520" y="1515960"/>
            <a:ext cx="3932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formazioni e news sulle iniziative in corso e su quelle prev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resentazione e gestione online dei progetti e della relativa docum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ottoscrizione delle  convenzioni e di tutta la documentazione amministrativa con firma digit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inestra sullo stato di avanzamento di ogni singolo progetto (ad oggi 126!) gestita dalla singola univer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tudi e ricerche di inte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0" descr=""/>
          <p:cNvPicPr/>
          <p:nvPr/>
        </p:nvPicPr>
        <p:blipFill>
          <a:blip r:embed="rId2"/>
          <a:stretch/>
        </p:blipFill>
        <p:spPr>
          <a:xfrm>
            <a:off x="4448160" y="1628640"/>
            <a:ext cx="5180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gli obiet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119520" y="1485720"/>
            <a:ext cx="475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0" lang="it-IT" sz="1400" spc="-1" strike="noStrike">
                <a:solidFill>
                  <a:srgbClr val="009a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e477a"/>
                </a:solidFill>
                <a:latin typeface="Calibri"/>
              </a:rPr>
              <a:t>Gli obiettivi settor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: Scuo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2: Universit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3: Giustiz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4: Sal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5: Imp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6: Sicurezza e libertà civ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7: Affari Este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8: 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9: Turismo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0: Beni cultur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1: Gioventù, pari opportunità e affari soci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2: Mobilità mezzi e pers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3: Infrastrutture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4: Agricoltura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5024520" y="1413000"/>
            <a:ext cx="4881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territo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5:  Anagra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6:  Dati  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7:  Carte  dei  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8:  Servizi  in  banda  la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di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9:  Trasparenza  ed  efficienza  della  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0:  Demateri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1:  Sistema  pubblico  di  conne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2:  Rapporto  cittadino‐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3:  Trasferimento  know‐how  dell’inn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4:  Sicurezza  dei  sistemi  informativi  e r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inter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5:  e‐governance  per  lo  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6:  Governance  di  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7:  Raccordo  con  Uee  OC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65160" y="1981080"/>
            <a:ext cx="2514600" cy="38124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C342-289D-4A92-8044-954B80EF3AE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720880" y="1413000"/>
            <a:ext cx="93528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consulente03\Desktop\DITfabio\DDI\Logo\Sanità\certificati di malattia logo def.jpg"/>
          <p:cNvPicPr/>
          <p:nvPr/>
        </p:nvPicPr>
        <p:blipFill>
          <a:blip r:embed="rId3"/>
          <a:stretch/>
        </p:blipFill>
        <p:spPr>
          <a:xfrm>
            <a:off x="3549600" y="2627280"/>
            <a:ext cx="52236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consulente03\Desktop\DITfabio\DDI\Logo\Scuola\SCUOLAMIA LOGO\SCUOLA MIA LOGO\logo_subianco.jpg"/>
          <p:cNvPicPr/>
          <p:nvPr/>
        </p:nvPicPr>
        <p:blipFill>
          <a:blip r:embed="rId4"/>
          <a:srcRect l="11114" t="18232" r="0" b="26831"/>
          <a:stretch/>
        </p:blipFill>
        <p:spPr>
          <a:xfrm>
            <a:off x="4089240" y="1359000"/>
            <a:ext cx="11509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iclavoro_PayoffNuovo"/>
          <p:cNvPicPr/>
          <p:nvPr/>
        </p:nvPicPr>
        <p:blipFill>
          <a:blip r:embed="rId5"/>
          <a:stretch/>
        </p:blipFill>
        <p:spPr>
          <a:xfrm>
            <a:off x="3513240" y="3397320"/>
            <a:ext cx="160488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rcRect l="36719" t="31299" r="46126" b="64769"/>
          <a:stretch/>
        </p:blipFill>
        <p:spPr>
          <a:xfrm>
            <a:off x="3008160" y="4189320"/>
            <a:ext cx="2232000" cy="2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consulente03\Desktop\DITfabio\DDI\Logo\Immagini Barbara\Ict4University500px.jpg"/>
          <p:cNvPicPr/>
          <p:nvPr/>
        </p:nvPicPr>
        <p:blipFill>
          <a:blip r:embed="rId7"/>
          <a:srcRect l="934" t="2786" r="0" b="0"/>
          <a:stretch/>
        </p:blipFill>
        <p:spPr>
          <a:xfrm>
            <a:off x="3368520" y="1916280"/>
            <a:ext cx="1108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Obiettivo Univers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7200" y="1295280"/>
            <a:ext cx="86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l programma ICT4University è finalizza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ncrementare efficacia e accessibilità dei sistemi di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semplificare le relazioni am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realizzare la piena condivisione dei dati e l’automazione dei flussi amministrativi tra università e tra le università e le altre pubbliche amministrazioni, nel contesto delle regole di cooperazione del sistema pubblico di conne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1143000" y="4724280"/>
            <a:ext cx="7315200" cy="1523880"/>
            <a:chOff x="1143000" y="4724280"/>
            <a:chExt cx="7315200" cy="1523880"/>
          </a:xfrm>
        </p:grpSpPr>
        <p:sp>
          <p:nvSpPr>
            <p:cNvPr id="60" name="Text Box 6"/>
            <p:cNvSpPr/>
            <p:nvPr/>
          </p:nvSpPr>
          <p:spPr>
            <a:xfrm>
              <a:off x="2590920" y="4724280"/>
              <a:ext cx="5867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I progetti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Servizi e reti WiFi per le Univers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 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Università digit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1143000" y="5257440"/>
              <a:ext cx="1066680" cy="609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6E73-6D9F-408F-9858-6D6CB63C61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:\Users\consulente03\Desktop\DITfabio\DDI\Logo\Immagini Barbara\Ict4University500px.jpg"/>
          <p:cNvPicPr/>
          <p:nvPr/>
        </p:nvPicPr>
        <p:blipFill>
          <a:blip r:embed="rId3"/>
          <a:srcRect l="932" t="2800" r="0" b="0"/>
          <a:stretch/>
        </p:blipFill>
        <p:spPr>
          <a:xfrm>
            <a:off x="7689960" y="1413000"/>
            <a:ext cx="1800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 “Servizi e reti WiF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1371600"/>
            <a:ext cx="9333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8520" y="1413000"/>
            <a:ext cx="58327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e reti WiFi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ha inteso incrementare la copertura WiFi e favorire l’adozione di servizi on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i è articolato nelle inizi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ampus digi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i tutto il territori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troduzione servizi di iscrizione online e verbalizzazione elettronica degli esami (70% dei fondi) – sviluppo WiF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WiFi 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elle regioni del Mezzo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viluppo WiFi (70% ei fondi) – introduzione servizi di iscrizione online e verbalizzazione elettronica degli esam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si basa sull’esperienza dell’iniziativa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 Cappuccino per un PC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,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he ha finanzia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64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università italiane per la realizzazione di reti WiF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D7AA-C9EE-4F5D-A850-27693D6A223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rcRect l="12367" t="23626" r="33781" b="8446"/>
          <a:stretch/>
        </p:blipFill>
        <p:spPr>
          <a:xfrm>
            <a:off x="6392880" y="1319040"/>
            <a:ext cx="2763720" cy="26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rcRect l="14139" t="24369" r="33039" b="8259"/>
          <a:stretch/>
        </p:blipFill>
        <p:spPr>
          <a:xfrm>
            <a:off x="6392880" y="3995640"/>
            <a:ext cx="2765520" cy="26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4"/>
          <a:srcRect l="59413" t="56722" r="25093" b="34424"/>
          <a:stretch/>
        </p:blipFill>
        <p:spPr>
          <a:xfrm>
            <a:off x="4773600" y="2060640"/>
            <a:ext cx="1366920" cy="463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2" name="Picture 10" descr=""/>
          <p:cNvPicPr/>
          <p:nvPr/>
        </p:nvPicPr>
        <p:blipFill>
          <a:blip r:embed="rId5"/>
          <a:stretch/>
        </p:blipFill>
        <p:spPr>
          <a:xfrm>
            <a:off x="4773600" y="3554280"/>
            <a:ext cx="14032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Segue.jpg"/>
          <p:cNvPicPr/>
          <p:nvPr/>
        </p:nvPicPr>
        <p:blipFill>
          <a:blip r:embed="rId1"/>
          <a:stretch/>
        </p:blipFill>
        <p:spPr>
          <a:xfrm>
            <a:off x="0" y="324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“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-15840" y="1461960"/>
            <a:ext cx="61927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iversità digitale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 intende accelerare il processo di semplificazione e digitalizzazione dei serviz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telefonia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OIP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per personale e student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completa digitalizzazione del processo (dalla definizione degli appelli, alla redazione e conservazione dei verb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igita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raccolta degli eventi universitari dello studente (dall’immatricolazione, ai piani di studio, ai verbali di esame)  in un formato condiviso e in linea con gli standard europe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eliminazione dei flussi cartace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automazione dei flussi informativi tra gli atenei (es: foglio di congedo) e tra gli atenei e il MIUR (es: anagrafe studenti), per convergere a modelli standard di documenti e razionalizzare le banche dati esiste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ompletamento e federazione delle reti WiF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reazione di uno spazio WiFi unico degli atenei per studenti e ricercatori, con aperture al territorio (</a:t>
            </a:r>
            <a:r>
              <a:rPr b="1" lang="it-IT" sz="1600" spc="-1" strike="noStrike" u="sng">
                <a:solidFill>
                  <a:srgbClr val="345a88"/>
                </a:solidFill>
                <a:uFillTx/>
                <a:latin typeface="Arial"/>
                <a:ea typeface="宋体"/>
              </a:rPr>
              <a:t>scuo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745-267D-4F04-B681-EE7A6622774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rcRect l="10141" t="22636" r="34490" b="7683"/>
          <a:stretch/>
        </p:blipFill>
        <p:spPr>
          <a:xfrm>
            <a:off x="6465960" y="2817720"/>
            <a:ext cx="3240000" cy="30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969240" y="1461960"/>
            <a:ext cx="23050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Segue.jpg"/>
          <p:cNvPicPr/>
          <p:nvPr/>
        </p:nvPicPr>
        <p:blipFill>
          <a:blip r:embed="rId1"/>
          <a:stretch/>
        </p:blipFill>
        <p:spPr>
          <a:xfrm>
            <a:off x="0" y="-936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4520" y="1333440"/>
            <a:ext cx="79214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145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progetti finanziati dal Dipart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9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82,14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un’iniziativa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5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1,90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4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8,57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3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Tutti i progetti attivati si concluderanno entr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9A0-BE55-4F1B-9A00-85C164A02ED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762120" y="260280"/>
            <a:ext cx="891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1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2"/>
          <a:srcRect l="0" t="10526" r="0" b="20475"/>
          <a:stretch/>
        </p:blipFill>
        <p:spPr>
          <a:xfrm>
            <a:off x="1492200" y="3343320"/>
            <a:ext cx="692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BA58-9931-4995-8858-A9928BCD1D4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6"/>
          <p:cNvSpPr/>
          <p:nvPr/>
        </p:nvSpPr>
        <p:spPr>
          <a:xfrm>
            <a:off x="415800" y="1268280"/>
            <a:ext cx="626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5a88"/>
                </a:solidFill>
                <a:latin typeface="Arial"/>
                <a:ea typeface="宋体"/>
              </a:rPr>
              <a:t>Finanziamenti crescenti per interventi sempre più mi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2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rcRect l="0" t="0" r="0" b="10808"/>
          <a:stretch/>
        </p:blipFill>
        <p:spPr>
          <a:xfrm>
            <a:off x="446040" y="1916280"/>
            <a:ext cx="90140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ante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D740-1251-4B56-BC64-6B23A3CEB5A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5681520" y="2154240"/>
            <a:ext cx="2930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post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F0BB-348E-4796-BD7F-E0042F26E62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673600" y="2146320"/>
            <a:ext cx="4032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42:30Z</dcterms:created>
  <dc:creator>pd</dc:creator>
  <dc:description/>
  <dc:language>en-US</dc:language>
  <cp:lastModifiedBy>Paolo Donzelli</cp:lastModifiedBy>
  <dcterms:modified xsi:type="dcterms:W3CDTF">2010-11-11T12:51:41Z</dcterms:modified>
  <cp:revision>354</cp:revision>
  <dc:subject/>
  <dc:title>eHealth forum milano</dc:title>
</cp:coreProperties>
</file>