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100-A8F0-472D-9E17-EE3F8C69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E25-0A6B-44BC-9FC3-2E569F18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BF3-E5AD-4D22-99A3-DB23905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EC2-D6CC-4E76-8214-57235AC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7723-5F0B-4F9C-BBAC-2E08A6A2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3C62-07BC-4887-A390-65DE00ED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F6D8-211E-4F1F-ADEE-9C90F3AF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1120-A910-4666-BD65-35618BD3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2673-6FE0-4518-A1CB-AF5A82C8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201-36CC-4706-A6E7-846C783F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A073-3BA2-412A-A113-A0AE5F5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E33-E8B3-4A51-8C08-E8F277DD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9B58-1019-4F65-B2DA-4D4F263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1490-2F3A-4F93-A693-97E394F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7739-538C-435B-97BC-DE5E1696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CF6B-E79D-4F83-9C67-9BBAE3E0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BE1D-826E-4097-B9BF-0607158E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3E9-EC43-456B-A66E-F7A51CB0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7BF-7B54-4E18-BFB0-11BB35DD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4A3-5930-4D9D-A93E-D32C20BB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B87-55E9-4FB2-95D2-F3D7D47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43C-477E-4194-973B-711F84F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CF5-D3B0-410E-B878-13A5F6BB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EAA-652E-434B-94D9-3063475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2D9C-3C40-424A-B9BA-5566EC0C51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 DIT"/>
          <p:cNvPicPr/>
          <p:nvPr/>
        </p:nvPicPr>
        <p:blipFill>
          <a:blip r:embed="rId2"/>
          <a:stretch/>
        </p:blipFill>
        <p:spPr>
          <a:xfrm>
            <a:off x="2668680" y="166680"/>
            <a:ext cx="2475000" cy="75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"/>
          <p:cNvPicPr/>
          <p:nvPr/>
        </p:nvPicPr>
        <p:blipFill>
          <a:blip r:embed="rId3"/>
          <a:stretch/>
        </p:blipFill>
        <p:spPr>
          <a:xfrm>
            <a:off x="5786280" y="214200"/>
            <a:ext cx="257652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DA3-5B96-4C0F-A2C6-72A551E13D2E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468360" y="177336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PER GLI STUDENTI UNIVERSI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O STATO DELL’INFORMATIZZAZIONE DEI SERVIZI NELLE UNIVERSITA’ ITALI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vembr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laborazione col DDI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opoldo Milano &amp; Guido Ru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partimento di Scienze Fi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Federic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900000" y="5373720"/>
            <a:ext cx="727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nota immediatamente che i servizi informativi:Web-TV/Radio su can. temat.,Newsletter studenti o non sono  presenti o c’è poca propensione alla loro attivazione se non finanziati con risorse esterne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539640" y="1052640"/>
            <a:ext cx="3888000" cy="4178160"/>
            <a:chOff x="539640" y="1052640"/>
            <a:chExt cx="3888000" cy="4178160"/>
          </a:xfrm>
        </p:grpSpPr>
        <p:pic>
          <p:nvPicPr>
            <p:cNvPr id="104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1052640"/>
              <a:ext cx="38880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0"/>
            <p:cNvSpPr/>
            <p:nvPr/>
          </p:nvSpPr>
          <p:spPr>
            <a:xfrm flipH="1">
              <a:off x="3419280" y="1268280"/>
              <a:ext cx="2156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3708360" y="1341360"/>
              <a:ext cx="1429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4570560" y="1125360"/>
            <a:ext cx="4178160" cy="3961080"/>
            <a:chOff x="4570560" y="1125360"/>
            <a:chExt cx="4178160" cy="3961080"/>
          </a:xfrm>
        </p:grpSpPr>
        <p:pic>
          <p:nvPicPr>
            <p:cNvPr id="108" name="Picture 5" descr=""/>
            <p:cNvPicPr/>
            <p:nvPr/>
          </p:nvPicPr>
          <p:blipFill>
            <a:blip r:embed="rId2"/>
            <a:stretch/>
          </p:blipFill>
          <p:spPr>
            <a:xfrm>
              <a:off x="4570560" y="1125360"/>
              <a:ext cx="417816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3"/>
            <p:cNvSpPr/>
            <p:nvPr/>
          </p:nvSpPr>
          <p:spPr>
            <a:xfrm flipH="1">
              <a:off x="7667640" y="1197000"/>
              <a:ext cx="50472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8244000" y="1197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87280" y="1461960"/>
            <a:ext cx="4211640" cy="405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4684680" y="1341360"/>
            <a:ext cx="4135320" cy="417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179280" y="5722920"/>
            <a:ext cx="874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servizi amministrativi si nota che: Certificazioni, Moduli pagamenti,Pagamenti online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./Ril.cert.integr “Diploma Supplement” sono non presenti o si intendono attivare con mezzi propri o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776400" cy="444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251240" y="968400"/>
            <a:ext cx="3992760" cy="433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Amministrativi : Sportello amministrativo virtuale,Studentcard elettronica,Prenotazione del posto in segreteria,Registrazione elettronica degli esam,immissione domande tesi di Laurea non sono presenti on line e si intendono attivare prevalentemente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467240" y="1052640"/>
            <a:ext cx="3560760" cy="41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1280" y="981000"/>
            <a:ext cx="428472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Didattici : Web-streaming di materiali didattici,Podcasting,Did. online e attiv. di tutoring (E-learning),Esami a distanza,Consult. Riv. online / fonti bibl. non sono presenti on line e si intendono attivare prevalentemen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23960" y="903240"/>
            <a:ext cx="3560760" cy="391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467240" y="981000"/>
            <a:ext cx="4208400" cy="396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6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Generali :  Servizi VoIP, Sportello per divers.abili,Auto-prest. e contr. acces. bibl. tecn. RFID, Suggerimenti / Reclami non sono prevalentemente  presenti on line e si intendono attivare per la maggior par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2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203640" y="119700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029280" y="1268280"/>
            <a:ext cx="311472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26920" y="4089240"/>
            <a:ext cx="2973600" cy="2768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67280" y="4568760"/>
            <a:ext cx="4932360" cy="173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anto concer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livello di utilizzo dei vari servi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sulla bas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dichiarazioni delle Università rispon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situazione che emerge è che il livello di utilizzo è alto nel  42% dei casi, medio nel 38% dei casi e basso nel 20% dei ca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4284720"/>
            <a:ext cx="6804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iva è anche la statistica su uno specifico servizio tra quelli amministrativi, cioè il “diploma supplement”, un documento previsto dalla normativa europea finalizzato alla descrizione delle abilità e conoscenze acquisite, ai fini della mobilità. La realizzazione di questo documento, a partire dagli esami sostenuti e dal relativo programma, ha trovato tutti gli Atenei italiani, o per lo meno la stragrande maggioranza, non all’altezza della situ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36880" cy="2001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0" y="907920"/>
            <a:ext cx="6697800" cy="325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 quali sono i servizi generali sui quali l’informatizzazione è più indietro ? Innanzitutto quelli riguardanti la gestione delle biblioteche : non tanto per quel che riguarda le riviste on-line, per le quali la situazione è quasi ottimale, ma piuttosto per quel che riguarda le funzioni di auto-prestito e di controllo dei testi tramite RFID: meno del 20% ha realizzato il servizio, ed il 42% non ha fatto nulla in merito; una percentuale analoga, del 40% lo ha in progetto ed attende i fondi per realizzarlo. Il 20% è poi distribuito quasi esclusivamente nel nord Italia, specie nella parte ori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732720" y="1268280"/>
            <a:ext cx="2074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431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2400" y="1125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o studio effettuato emerge  un quadro in cui si evidenzia, come spesso accade, che vi è innanzitutto uno sbilanciamento tra nord e sud, a sfavore del sud. Inoltre  la digitalizzazione dei servizi degli Atenei, è un po’ a macchia di leopardo vi sono punte di eccellenza, ma vi sono anche processi che potrebbero e dovrebbero essere informatizzati e non lo sono.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nto di questa situazione è attribuibile a scarsi finanziamenti?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versi di questi servizi sono stati implementati o in fase di implementazione in molti Atenei Italiani, nell’ambito del programm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CT4UNIVERS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anche con risorse aggiuntive ritenend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alla fine la informatizzazione dei servizi sia un valore aggiunto che dovrebb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ntrare a far parte del sistema di valutazione degli atenei italian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anch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i fini del miglioramento del ranking internazionale degli Atenei del nostro pa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ipartimento per la Digitalizzazione della Pubblica Amministrazione e l’Innovazione Tecnolog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a Presidenza del Consiglio dei Ministri ha inviato, nell’autunno 2009,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nell’ambito del programma ICT4University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n questionario a tutti gli Atenei italiani (esclusi quelli telematici), per un “censimento” dello stato di informatizzazione dei servizi universita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1125360"/>
            <a:ext cx="882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questionario prevedeva quesiti sui principali servizi, suddivisi in quattro categorie 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form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,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mministr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5280" y="2924280"/>
            <a:ext cx="280836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nform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-7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08360" y="2924280"/>
            <a:ext cx="338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mministr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8-22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457992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3-29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51280" y="458136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30-34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uesiti p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74920" y="1773360"/>
          <a:ext cx="5976720" cy="3402000"/>
        </p:xfrm>
        <a:graphic>
          <a:graphicData uri="http://schemas.openxmlformats.org/drawingml/2006/table">
            <a:tbl>
              <a:tblPr/>
              <a:tblGrid>
                <a:gridCol w="315720"/>
                <a:gridCol w="5661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INFORM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ferta Form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 didat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.Borse st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lavoro e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z. tiroc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visi e scad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TV/Radio su canali tema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wsletter stud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488880"/>
          <a:ext cx="8075520" cy="6340680"/>
        </p:xfrm>
        <a:graphic>
          <a:graphicData uri="http://schemas.openxmlformats.org/drawingml/2006/table">
            <a:tbl>
              <a:tblPr/>
              <a:tblGrid>
                <a:gridCol w="585720"/>
                <a:gridCol w="748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AMMINISTR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azioni amminist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atric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rizione anni success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asse iscriz./Calc.I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rtific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uli paga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gamenti on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ich./Ril.cert.integr “Diploma Supplemen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amministrativo virtu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dentcard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notazione del posto in segre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gistrazione elettronica degli es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issione domande tesi di Lau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taz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907920"/>
          <a:ext cx="4038480" cy="5811840"/>
        </p:xfrm>
        <a:graphic>
          <a:graphicData uri="http://schemas.openxmlformats.org/drawingml/2006/table">
            <a:tbl>
              <a:tblPr/>
              <a:tblGrid>
                <a:gridCol w="576000"/>
                <a:gridCol w="346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. sulla didattica / Bach elett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eriale didattico on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streaming di material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dc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d. online e attiv. di tutoring (E-lear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sami a dist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sult. Riv. online / fonti bib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1197000"/>
          <a:ext cx="4716360" cy="3597120"/>
        </p:xfrm>
        <a:graphic>
          <a:graphicData uri="http://schemas.openxmlformats.org/drawingml/2006/table">
            <a:tbl>
              <a:tblPr/>
              <a:tblGrid>
                <a:gridCol w="725400"/>
                <a:gridCol w="39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GENER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sella di posta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Vo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per diversamente abi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uto-prest. e contr. acces. bibl. tecn. RF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ggerimenti / Recl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27"/>
          <p:cNvSpPr/>
          <p:nvPr/>
        </p:nvSpPr>
        <p:spPr>
          <a:xfrm>
            <a:off x="108000" y="1341360"/>
            <a:ext cx="882000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servizio, il questionario richiedeva semplici risposte qualitative, ovv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rvizio è presente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zi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pres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totalmente presente, e' prevista l’attivazione (o il completamento) del servizio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o nell’eventualità di appositi finanziamenti estern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resente (anche solo parzialmente), indicare il livello di utilizz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di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so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 è la piattaforma softwa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stom;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questionari ricevuti sono stati 65 su 84 Atenei interpellati, pari a circa il 77% dei questionari inviati; tale percentuale costituisce sicuramente un campione significativo ed è rappresentativo del sistema universitario, comprendendo atenei di ogni tipo e di ogni collocazione geogra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328464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nanzitutto sono state calcolate le percentuali corrispondenti alle risposte fornite per tutto il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4221000"/>
            <a:ext cx="7777440" cy="215316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ono suddivise le risposte degli Atenei in cinque zone geografiche;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ccid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ri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Cent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Meridion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Insu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64000" y="5013360"/>
            <a:ext cx="2880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e medie zonali s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onfrontate con 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a</a:t>
            </a:r>
            <a:r>
              <a:rPr b="1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nalisi sc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95280" y="1197000"/>
            <a:ext cx="8209080" cy="478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figure riportate di seguito ci sono le statistich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arz. 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tutti i servizi forniti dagli atenei italiani, confrontati con quelli forniti dai 5 raggruppamenti per aree geografiche. Da questi istogrammi è immediato estrarre le informazioni cercate per i vari servizi e per le varie aree geografiche, con i criteri seguen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queste rappresentazioni il verde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ot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l giallo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arzi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n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è utilizzato il ro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28:07Z</dcterms:created>
  <dc:creator>Leopoldo Milano</dc:creator>
  <dc:description/>
  <dc:language>en-US</dc:language>
  <cp:lastModifiedBy>wifiUPUAS</cp:lastModifiedBy>
  <dcterms:modified xsi:type="dcterms:W3CDTF">2010-11-12T07:45:23Z</dcterms:modified>
  <cp:revision>39</cp:revision>
  <dc:subject/>
  <dc:title>Diapositiva 1</dc:title>
</cp:coreProperties>
</file>