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27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1E5-3547-4BA2-84F1-F94A159C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9E0-F1C2-4084-855B-002070D4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F8A-CA80-4DB6-A89F-8DF600BB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C51-B45D-465F-B20F-20FEB27A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323-F37F-4DF4-88A3-36FD4D4E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F5A-EF04-488E-A409-8FAFF76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7B8-A858-442A-9330-B8869E56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F03-222D-4BF3-8571-3B97E52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8C4-4A05-439B-8F92-05824E2C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FC8-7FB6-47F6-A1DD-0A24BB5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03C-4504-4A19-A136-67C9A79C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5E2-49EB-4C5B-A68E-8C3EAA28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45D2-DDE6-406A-BB3B-447BA4D3853C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B61-F51A-45E6-A8C7-AB141A6363F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6" descr="Testat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0160" y="1699920"/>
            <a:ext cx="943272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f497d"/>
                </a:solidFill>
                <a:latin typeface="Calibri"/>
              </a:rPr>
              <a:t>Programma ICT4University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r>
              <a:rPr b="0" lang="it-IT" sz="2200" spc="-1" strike="noStrike">
                <a:solidFill>
                  <a:srgbClr val="1f497d"/>
                </a:solidFill>
                <a:latin typeface="Calibri"/>
              </a:rPr>
              <a:t>- Il piano eGov 2012: obiettivo università –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12 Novembre 2010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28520" y="4952880"/>
            <a:ext cx="68724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Ing. Paolo Donz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rettor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General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Ufficio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Studi e progetti per l’innovazione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partimento per la digitalizzazione della PA e l’innovazione tecnolo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C990-35C0-4C84-BB30-AFAD8730998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50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461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Copertura WiFi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28520" y="1528920"/>
            <a:ext cx="6604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ECF2-695E-4D1D-8232-BF4F72429BF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3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516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scrizione online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136440" y="1638360"/>
            <a:ext cx="64724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87A-2008-48F2-899F-C829E9D77D7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8"/>
          <p:cNvSpPr/>
          <p:nvPr/>
        </p:nvSpPr>
        <p:spPr>
          <a:xfrm>
            <a:off x="6969240" y="2152800"/>
            <a:ext cx="27367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8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130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nel 2010 il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 7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dei verbali è firmato digit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776160" y="189000"/>
            <a:ext cx="907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300" spc="-1" strike="noStrike">
                <a:solidFill>
                  <a:srgbClr val="1f497d"/>
                </a:solidFill>
                <a:latin typeface="Calibri"/>
              </a:rPr>
              <a:t>- Verbalizzazione elettronica degli esami per aree geografiche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128520" y="1563840"/>
            <a:ext cx="66247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3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 nuovi servizi: le linee guida di “</a:t>
            </a:r>
            <a:r>
              <a:rPr b="1" i="1" lang="it-IT" sz="3200" spc="-1" strike="noStrike">
                <a:solidFill>
                  <a:srgbClr val="1f497d"/>
                </a:solidFill>
                <a:latin typeface="Calibri"/>
              </a:rPr>
              <a:t>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72880" y="1268280"/>
            <a:ext cx="90918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er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vorire la diffusione dei risultati conseguiti, le 27 università interessate dall’iniziativa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“</a:t>
            </a:r>
            <a:r>
              <a:rPr b="1" i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Università digitale”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con DDI e MIUR) hanno elaborato delle linee guida per la digitalizzazione e standardizzazione dei principali proces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verbale digit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VoIP per studenti e doc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el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ematerializzazione scambio docume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tra Università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spcAft>
                <a:spcPts val="1800"/>
              </a:spcAft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Autenticazione fede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ts val="2500"/>
              </a:lnSpc>
              <a:spcBef>
                <a:spcPts val="1800"/>
              </a:spcBef>
              <a:spcAft>
                <a:spcPts val="1800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isponibili sul sito ICT4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7D1-84F2-4C2E-AF48-5E306ED1117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rcRect l="35856" t="15374" r="36476" b="12766"/>
          <a:stretch/>
        </p:blipFill>
        <p:spPr>
          <a:xfrm>
            <a:off x="6464160" y="2421000"/>
            <a:ext cx="2592360" cy="37846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146240" y="189000"/>
            <a:ext cx="761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ortale: ICT4University.gov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8520" y="1515960"/>
            <a:ext cx="3932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formazioni e news sulle iniziative in corso e su quelle prev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resentazione e gestione online dei progetti e della relativa docum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ottoscrizione delle  convenzioni e di tutta la documentazione amministrativa con firma digit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inestra sullo stato di avanzamento di ogni singolo progetto (ad oggi 126!) gestita dalla singola univer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tudi e ricerche di inte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0" descr=""/>
          <p:cNvPicPr/>
          <p:nvPr/>
        </p:nvPicPr>
        <p:blipFill>
          <a:blip r:embed="rId2"/>
          <a:stretch/>
        </p:blipFill>
        <p:spPr>
          <a:xfrm>
            <a:off x="4448160" y="1628640"/>
            <a:ext cx="5180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gli obiet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119520" y="1485720"/>
            <a:ext cx="475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0" lang="it-IT" sz="1400" spc="-1" strike="noStrike">
                <a:solidFill>
                  <a:srgbClr val="009a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e477a"/>
                </a:solidFill>
                <a:latin typeface="Calibri"/>
              </a:rPr>
              <a:t>Gli obiettivi settori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: Scuo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2: Universit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3: Giustiz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4: Sal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5: Imp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6: Sicurezza e libertà civ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7: Affari Este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8: 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9: Turismo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0: Beni cultur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1: Gioventù, pari opportunità e affari soci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2: Mobilità mezzi e pers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3: Infrastrutture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4: Agricoltura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5024520" y="1413000"/>
            <a:ext cx="4881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territo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5:  Anagra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6:  Dati  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7:  Carte  dei  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8:  Servizi  in  banda  la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di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9:  Trasparenza  ed  efficienza  della  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0:  Demateri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1:  Sistema  pubblico  di  conne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2:  Rapporto  cittadino‐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3:  Trasferimento  know‐how  dell’inn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4:  Sicurezza  dei  sistemi  informativi  e r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inter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5:  e‐governance  per  lo  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6:  Governance  di  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7:  Raccordo  con  Uee  OC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65160" y="1981080"/>
            <a:ext cx="2514600" cy="38124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B00D-EA95-461F-B028-5497ADBCD0E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2720880" y="1413000"/>
            <a:ext cx="93528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consulente03\Desktop\DITfabio\DDI\Logo\Sanità\certificati di malattia logo def.jpg"/>
          <p:cNvPicPr/>
          <p:nvPr/>
        </p:nvPicPr>
        <p:blipFill>
          <a:blip r:embed="rId3"/>
          <a:stretch/>
        </p:blipFill>
        <p:spPr>
          <a:xfrm>
            <a:off x="3549600" y="2627280"/>
            <a:ext cx="52236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consulente03\Desktop\DITfabio\DDI\Logo\Scuola\SCUOLAMIA LOGO\SCUOLA MIA LOGO\logo_subianco.jpg"/>
          <p:cNvPicPr/>
          <p:nvPr/>
        </p:nvPicPr>
        <p:blipFill>
          <a:blip r:embed="rId4"/>
          <a:srcRect l="11114" t="18232" r="0" b="26831"/>
          <a:stretch/>
        </p:blipFill>
        <p:spPr>
          <a:xfrm>
            <a:off x="4089240" y="1359000"/>
            <a:ext cx="11509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liclavoro_PayoffNuovo"/>
          <p:cNvPicPr/>
          <p:nvPr/>
        </p:nvPicPr>
        <p:blipFill>
          <a:blip r:embed="rId5"/>
          <a:stretch/>
        </p:blipFill>
        <p:spPr>
          <a:xfrm>
            <a:off x="3513240" y="3397320"/>
            <a:ext cx="1604880" cy="46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rcRect l="36719" t="31299" r="46126" b="64769"/>
          <a:stretch/>
        </p:blipFill>
        <p:spPr>
          <a:xfrm>
            <a:off x="3008160" y="4189320"/>
            <a:ext cx="2232000" cy="2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consulente03\Desktop\DITfabio\DDI\Logo\Immagini Barbara\Ict4University500px.jpg"/>
          <p:cNvPicPr/>
          <p:nvPr/>
        </p:nvPicPr>
        <p:blipFill>
          <a:blip r:embed="rId7"/>
          <a:srcRect l="934" t="2786" r="0" b="0"/>
          <a:stretch/>
        </p:blipFill>
        <p:spPr>
          <a:xfrm>
            <a:off x="3368520" y="1916280"/>
            <a:ext cx="1108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Obiettivo Univers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57200" y="1295280"/>
            <a:ext cx="86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l programma ICT4University è finalizza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ncrementare efficacia e accessibilità dei sistemi di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semplificare le relazioni am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realizzare la piena condivisione dei dati e l’automazione dei flussi amministrativi tra università e tra le università e le altre pubbliche amministrazioni, nel contesto delle regole di cooperazione del sistema pubblico di conne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1143000" y="4724280"/>
            <a:ext cx="7315200" cy="1523880"/>
            <a:chOff x="1143000" y="4724280"/>
            <a:chExt cx="7315200" cy="1523880"/>
          </a:xfrm>
        </p:grpSpPr>
        <p:sp>
          <p:nvSpPr>
            <p:cNvPr id="60" name="Text Box 6"/>
            <p:cNvSpPr/>
            <p:nvPr/>
          </p:nvSpPr>
          <p:spPr>
            <a:xfrm>
              <a:off x="2590920" y="4724280"/>
              <a:ext cx="58672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I progetti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Servizi e reti WiFi per le Universi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 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Università digit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1143000" y="5257440"/>
              <a:ext cx="1066680" cy="609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F837-7B13-43E9-A513-7CDD6225982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:\Users\consulente03\Desktop\DITfabio\DDI\Logo\Immagini Barbara\Ict4University500px.jpg"/>
          <p:cNvPicPr/>
          <p:nvPr/>
        </p:nvPicPr>
        <p:blipFill>
          <a:blip r:embed="rId3"/>
          <a:srcRect l="932" t="2800" r="0" b="0"/>
          <a:stretch/>
        </p:blipFill>
        <p:spPr>
          <a:xfrm>
            <a:off x="7689960" y="1413000"/>
            <a:ext cx="1800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 “Servizi e reti WiF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1371600"/>
            <a:ext cx="9333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8520" y="1413000"/>
            <a:ext cx="58327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e reti WiFi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ha inteso incrementare la copertura WiFi e favorire l’adozione di servizi on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i è articolato nelle inizia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ampus digi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i tutto il territori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troduzione servizi di iscrizione online e verbalizzazione elettronica degli esami (70% dei fondi) – sviluppo WiF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WiFi 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elle regioni del Mezzogi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viluppo WiFi (70% ei fondi) – introduzione servizi di iscrizione online e verbalizzazione elettronica degli esam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si basa sull’esperienza dell’iniziativa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 Cappuccino per un PC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,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he ha finanzia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64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università italiane per la realizzazione di reti WiF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numero diapositiva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9392-D3FF-4B3C-8362-4C65904792E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rcRect l="12367" t="23626" r="33781" b="8446"/>
          <a:stretch/>
        </p:blipFill>
        <p:spPr>
          <a:xfrm>
            <a:off x="6392880" y="1319040"/>
            <a:ext cx="2763720" cy="261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rcRect l="14139" t="24369" r="33039" b="8259"/>
          <a:stretch/>
        </p:blipFill>
        <p:spPr>
          <a:xfrm>
            <a:off x="6392880" y="3995640"/>
            <a:ext cx="2765520" cy="264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4"/>
          <a:srcRect l="59413" t="56722" r="25093" b="34424"/>
          <a:stretch/>
        </p:blipFill>
        <p:spPr>
          <a:xfrm>
            <a:off x="4773600" y="2060640"/>
            <a:ext cx="1366920" cy="463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72" name="Picture 10" descr=""/>
          <p:cNvPicPr/>
          <p:nvPr/>
        </p:nvPicPr>
        <p:blipFill>
          <a:blip r:embed="rId5"/>
          <a:stretch/>
        </p:blipFill>
        <p:spPr>
          <a:xfrm>
            <a:off x="4773600" y="3554280"/>
            <a:ext cx="14032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Segue.jpg"/>
          <p:cNvPicPr/>
          <p:nvPr/>
        </p:nvPicPr>
        <p:blipFill>
          <a:blip r:embed="rId1"/>
          <a:stretch/>
        </p:blipFill>
        <p:spPr>
          <a:xfrm>
            <a:off x="0" y="324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“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-15840" y="1461960"/>
            <a:ext cx="61927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iversità digitale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 intende accelerare il processo di semplificazione e digitalizzazione dei serviz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telefonia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OIP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per personale e student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completa digitalizzazione del processo (dalla definizione degli appelli, alla redazione e conservazione dei verbal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igita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raccolta degli eventi universitari dello studente (dall’immatricolazione, ai piani di studio, ai verbali di esame)  in un formato condiviso e in linea con gli standard europe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eliminazione dei flussi cartace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automazione dei flussi informativi tra gli atenei (es: foglio di congedo) e tra gli atenei e il MIUR (es: anagrafe studenti), per convergere a modelli standard di documenti e razionalizzare le banche dati esisten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ompletamento e federazione delle reti WiF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reazione di uno spazio WiFi unico degli atenei per studenti e ricercatori, con aperture al territorio (</a:t>
            </a:r>
            <a:r>
              <a:rPr b="1" lang="it-IT" sz="1600" spc="-1" strike="noStrike" u="sng">
                <a:solidFill>
                  <a:srgbClr val="345a88"/>
                </a:solidFill>
                <a:uFillTx/>
                <a:latin typeface="Arial"/>
                <a:ea typeface="宋体"/>
              </a:rPr>
              <a:t>scuo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907-7409-40D1-895D-574703E465B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rcRect l="10141" t="22636" r="34490" b="7683"/>
          <a:stretch/>
        </p:blipFill>
        <p:spPr>
          <a:xfrm>
            <a:off x="6465960" y="2817720"/>
            <a:ext cx="3240000" cy="305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6969240" y="1461960"/>
            <a:ext cx="23050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Segue.jpg"/>
          <p:cNvPicPr/>
          <p:nvPr/>
        </p:nvPicPr>
        <p:blipFill>
          <a:blip r:embed="rId1"/>
          <a:stretch/>
        </p:blipFill>
        <p:spPr>
          <a:xfrm>
            <a:off x="0" y="-936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4520" y="1333440"/>
            <a:ext cx="79214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145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progetti finanziati dal Dipart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9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82,14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un’iniziativa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5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1,90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4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8,57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3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Tutti i progetti attivati si concluderanno entr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FFE9-96D2-40E7-875E-C1C63EC0459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762120" y="260280"/>
            <a:ext cx="891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1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2"/>
          <a:srcRect l="0" t="10526" r="0" b="20475"/>
          <a:stretch/>
        </p:blipFill>
        <p:spPr>
          <a:xfrm>
            <a:off x="1492200" y="3343320"/>
            <a:ext cx="692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D28B-C9B2-4D11-9E52-B4E9E40DD17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6"/>
          <p:cNvSpPr/>
          <p:nvPr/>
        </p:nvSpPr>
        <p:spPr>
          <a:xfrm>
            <a:off x="415800" y="1268280"/>
            <a:ext cx="626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5a88"/>
                </a:solidFill>
                <a:latin typeface="Arial"/>
                <a:ea typeface="宋体"/>
              </a:rPr>
              <a:t>Finanziamenti crescenti per interventi sempre più mi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2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rcRect l="0" t="0" r="0" b="10808"/>
          <a:stretch/>
        </p:blipFill>
        <p:spPr>
          <a:xfrm>
            <a:off x="446040" y="1916280"/>
            <a:ext cx="90140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ante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B0C2-0E9D-446D-8F87-A8F01CFC2B8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5681520" y="2154240"/>
            <a:ext cx="2930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post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4B0D-C3DB-484F-AE81-6B003E6913C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5673600" y="2146320"/>
            <a:ext cx="4032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42:30Z</dcterms:created>
  <dc:creator>pd</dc:creator>
  <dc:description/>
  <dc:language>en-US</dc:language>
  <cp:lastModifiedBy>Paolo Donzelli</cp:lastModifiedBy>
  <dcterms:modified xsi:type="dcterms:W3CDTF">2010-11-11T12:51:41Z</dcterms:modified>
  <cp:revision>354</cp:revision>
  <dc:subject/>
  <dc:title>eHealth forum milano</dc:title>
</cp:coreProperties>
</file>