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8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7B1-6E58-463E-84DA-C0F82E41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3D2-4A85-422C-83E1-24A7E44A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A7A-0FCB-4612-B2CC-E710EF4B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B0F-0B9C-4005-BC76-691E1585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D966-E258-4623-ACD2-CB837763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0D76-1BE8-4972-B493-1BBDFDA8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6D43-A50D-41B7-A9B2-B5FA5050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4720-E322-435A-9E18-28388FFF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2C1B-391B-40D3-A33E-CB9B3E0B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5ED5-6CBF-43BD-AD3E-A5344363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FAC8-FE52-4A1B-A52B-596F4A25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070-DADE-404B-BDE0-D1DA10FD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1D58-FD9C-4928-AABC-D18C031B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28D3-74B8-42F6-A599-B4A4FFCF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ABE0-6F76-4074-AB82-0DF20164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B65D-9CED-413A-9648-59CEF484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078F-54F1-458C-A0E9-23877E89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C67-3B76-4DF0-88FD-4D7E588E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F38-D1D8-45CC-923B-3584A805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990-4B71-4A6A-B255-E9220621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DFF-5CEF-4286-82F2-8E271CDC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09B-D9BF-4AFA-8234-0D66B7A8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81D-63E7-44C2-ACD6-086EE364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AAE-CEEC-4468-AE3C-82163F4D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871C-C281-4894-B32D-7A197CA75E4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logo DIT"/>
          <p:cNvPicPr/>
          <p:nvPr/>
        </p:nvPicPr>
        <p:blipFill>
          <a:blip r:embed="rId2"/>
          <a:stretch/>
        </p:blipFill>
        <p:spPr>
          <a:xfrm>
            <a:off x="2668680" y="166680"/>
            <a:ext cx="2475000" cy="752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"/>
          <p:cNvPicPr/>
          <p:nvPr/>
        </p:nvPicPr>
        <p:blipFill>
          <a:blip r:embed="rId3"/>
          <a:stretch/>
        </p:blipFill>
        <p:spPr>
          <a:xfrm>
            <a:off x="5786280" y="214200"/>
            <a:ext cx="257652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FEA2-337B-4134-993E-3FE0D663F966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468360" y="1773360"/>
            <a:ext cx="83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PER GLI STUDENTI UNIVERSIT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O STATO DELL’INFORMATIZZAZIONE DEI SERVIZI NELLE UNIVERSITA’ ITALI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vembre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llaborazione col DDI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opoldo Milano &amp; Guido Ru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partimento di Scienze Fis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iversità Federico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ap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>
            <a:off x="900000" y="5373720"/>
            <a:ext cx="7272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nota immediatamente che i servizi informativi:Web-TV/Radio su can. temat.,Newsletter studenti o non sono  presenti o c’è poca propensione alla loro attivazione se non finanziati con risorse esterne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2"/>
          <p:cNvGrpSpPr/>
          <p:nvPr/>
        </p:nvGrpSpPr>
        <p:grpSpPr>
          <a:xfrm>
            <a:off x="539640" y="1052640"/>
            <a:ext cx="3888000" cy="4178160"/>
            <a:chOff x="539640" y="1052640"/>
            <a:chExt cx="3888000" cy="4178160"/>
          </a:xfrm>
        </p:grpSpPr>
        <p:pic>
          <p:nvPicPr>
            <p:cNvPr id="104" name="Picture 4" descr=""/>
            <p:cNvPicPr/>
            <p:nvPr/>
          </p:nvPicPr>
          <p:blipFill>
            <a:blip r:embed="rId1"/>
            <a:stretch/>
          </p:blipFill>
          <p:spPr>
            <a:xfrm>
              <a:off x="539640" y="1052640"/>
              <a:ext cx="3888000" cy="41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Line 10"/>
            <p:cNvSpPr/>
            <p:nvPr/>
          </p:nvSpPr>
          <p:spPr>
            <a:xfrm flipH="1">
              <a:off x="3419280" y="1268280"/>
              <a:ext cx="21564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1"/>
            <p:cNvSpPr/>
            <p:nvPr/>
          </p:nvSpPr>
          <p:spPr>
            <a:xfrm>
              <a:off x="3708360" y="1341360"/>
              <a:ext cx="1429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4570560" y="1125360"/>
            <a:ext cx="4178160" cy="3961080"/>
            <a:chOff x="4570560" y="1125360"/>
            <a:chExt cx="4178160" cy="3961080"/>
          </a:xfrm>
        </p:grpSpPr>
        <p:pic>
          <p:nvPicPr>
            <p:cNvPr id="108" name="Picture 5" descr=""/>
            <p:cNvPicPr/>
            <p:nvPr/>
          </p:nvPicPr>
          <p:blipFill>
            <a:blip r:embed="rId2"/>
            <a:stretch/>
          </p:blipFill>
          <p:spPr>
            <a:xfrm>
              <a:off x="4570560" y="1125360"/>
              <a:ext cx="4178160" cy="39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Line 13"/>
            <p:cNvSpPr/>
            <p:nvPr/>
          </p:nvSpPr>
          <p:spPr>
            <a:xfrm flipH="1">
              <a:off x="7667640" y="1197000"/>
              <a:ext cx="50472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8244000" y="119700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87280" y="1461960"/>
            <a:ext cx="4211640" cy="4052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4684680" y="1341360"/>
            <a:ext cx="4135320" cy="417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179280" y="5722920"/>
            <a:ext cx="8748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i servizi amministrativi si nota che: Certificazioni, Moduli pagamenti,Pagamenti online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./Ril.cert.integr “Diploma Supplement” sono non presenti o si intendono attivare con mezzi propri o con finanziamenti ester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776400" cy="4448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251240" y="968400"/>
            <a:ext cx="3992760" cy="433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395280" y="5468760"/>
            <a:ext cx="8209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ervizi Amministrativi : Sportello amministrativo virtuale,Studentcard elettronica,Prenotazione del posto in segreteria,Registrazione elettronica degli esam,immissione domande tesi di Laurea non sono presenti on line e si intendono attivare prevalentemente con finanziamenti ester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467240" y="1052640"/>
            <a:ext cx="3560760" cy="417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71280" y="981000"/>
            <a:ext cx="428472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95280" y="5468760"/>
            <a:ext cx="8209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ervizi Didattici : Web-streaming di materiali didattici,Podcasting,Did. online e attiv. di tutoring (E-learning),Esami a distanza,Consult. Riv. online / fonti bibl. non sono presenti on line e si intendono attivare prevalentemente con finanziamenti esterni o non ne è prevista la atti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723960" y="903240"/>
            <a:ext cx="3560760" cy="391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4467240" y="981000"/>
            <a:ext cx="4208400" cy="3960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6"/>
          <p:cNvSpPr/>
          <p:nvPr/>
        </p:nvSpPr>
        <p:spPr>
          <a:xfrm>
            <a:off x="395280" y="5468760"/>
            <a:ext cx="8209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ervizi Generali :  Servizi VoIP, Sportello per divers.abili,Auto-prest. e contr. acces. bibl. tecn. RFID, Suggerimenti / Reclami non sono prevalentemente  presenti on line e si intendono attivare per la maggior parte con finanziamenti esterni o non ne è prevista la atti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121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916000" cy="287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3203640" y="1197000"/>
            <a:ext cx="2735280" cy="3168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6029280" y="1268280"/>
            <a:ext cx="3114720" cy="331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26920" y="4089240"/>
            <a:ext cx="2973600" cy="2768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67280" y="4568760"/>
            <a:ext cx="4932360" cy="1739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quanto concern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livello di utilizzo dei vari serviz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, sulla bas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 dichiarazioni delle Università rispond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a situazione che emerge è che il livello di utilizzo è alto nel  42% dei casi, medio nel 38% dei casi e basso nel 20% dei cas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4284720"/>
            <a:ext cx="680400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gnificativa è anche la statistica su uno specifico servizio tra quelli amministrativi, cioè il “diploma supplement”, un documento previsto dalla normativa europea finalizzato alla descrizione delle abilità e conoscenze acquisite, ai fini della mobilità. La realizzazione di questo documento, a partire dagli esami sostenuti e dal relativo programma, ha trovato tutti gli Atenei italiani, o per lo meno la stragrande maggioranza, non all’altezza della situazi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2036880" cy="2001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0" y="907920"/>
            <a:ext cx="6697800" cy="325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 quali sono i servizi generali sui quali l’informatizzazione è più indietro ? Innanzitutto quelli riguardanti la gestione delle biblioteche : non tanto per quel che riguarda le riviste on-line, per le quali la situazione è quasi ottimale, ma piuttosto per quel che riguarda le funzioni di auto-prestito e di controllo dei testi tramite RFID: meno del 20% ha realizzato il servizio, ed il 42% non ha fatto nulla in merito; una percentuale analoga, del 40% lo ha in progetto ed attende i fondi per realizzarlo. Il 20% è poi distribuito quasi esclusivamente nel nord Italia, specie nella parte orient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6732720" y="1268280"/>
            <a:ext cx="20746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431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22400" y="112500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lo studio effettuato emerge  un quadro in cui si evidenzia, come spesso accade, che vi è innanzitutto uno sbilanciamento tra nord e sud, a sfavore del sud. Inoltre  la digitalizzazione dei servizi degli Atenei, è un po’ a macchia di leopardo vi sono punte di eccellenza, ma vi sono anche processi che potrebbero e dovrebbero essere informatizzati e non lo sono.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Quanto di questa situazione è attribuibile a scarsi finanziamenti?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versi di questi servizi sono stati implementati o in fase di implementazione in molti Atenei Italiani, nell’ambito del programma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CT4UNIVERSIT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anche con risorse aggiuntive ritenend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he alla fine la informatizzazione dei servizi sia un valore aggiunto che dovrebb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entrare a far parte del sistema di valutazione degli atenei italian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anch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ai fini del miglioramento del ranking internazionale degli Atenei del nostro pa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Dipartimento per la Digitalizzazione della Pubblica Amministrazione e l’Innovazione Tecnologic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la Presidenza del Consiglio dei Ministri ha inviato, nell’autunno 2009,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nell’ambito del programma ICT4University,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un questionario a tutti gli Atenei italiani (esclusi quelli telematici), per un “censimento” dello stato di informatizzazione dei servizi universita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79280" y="1125360"/>
            <a:ext cx="882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questionario prevedeva quesiti sui principali servizi, suddivisi in quattro categorie , serviz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informativ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,serviz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amministrativ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erviz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didattic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erviz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genera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95280" y="2924280"/>
            <a:ext cx="2808360" cy="10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inform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1-7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708360" y="2924280"/>
            <a:ext cx="3384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amministr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8-22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68360" y="4579920"/>
            <a:ext cx="2808360" cy="10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idat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23-29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851280" y="4581360"/>
            <a:ext cx="2808360" cy="10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gene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30-34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Quesiti p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74920" y="1773360"/>
          <a:ext cx="5976720" cy="3402000"/>
        </p:xfrm>
        <a:graphic>
          <a:graphicData uri="http://schemas.openxmlformats.org/drawingml/2006/table">
            <a:tbl>
              <a:tblPr/>
              <a:tblGrid>
                <a:gridCol w="315720"/>
                <a:gridCol w="5661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MR10"/>
                          <a:ea typeface="CMR10"/>
                        </a:rPr>
                        <a:t>SERVIZI INFORMAT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ferta Form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rient. didat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st.Borse stu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rient.lavoro e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nz. tiroci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visi e scaden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eb-TV/Radio su canali temat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wsletter stud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488880"/>
          <a:ext cx="8075520" cy="6340680"/>
        </p:xfrm>
        <a:graphic>
          <a:graphicData uri="http://schemas.openxmlformats.org/drawingml/2006/table">
            <a:tbl>
              <a:tblPr/>
              <a:tblGrid>
                <a:gridCol w="585720"/>
                <a:gridCol w="748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MR10"/>
                          <a:ea typeface="CMR10"/>
                        </a:rPr>
                        <a:t>SERVIZI AMMINISTRAT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formazioni amminist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mmatricol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crizione anni success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asse iscriz./Calc.IS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ertificaz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oduli pagam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gamenti on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ich./Ril.cert.integr “Diploma Supplemen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ortello amministrativo virtu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udentcard elettro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notazione del posto in segre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gistrazione elettronica degli es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mmissione domande tesi di Lau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stione dei Dottorati di Ricer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tazione dei Dottorati di Ricer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0920" y="907920"/>
          <a:ext cx="4038480" cy="5811840"/>
        </p:xfrm>
        <a:graphic>
          <a:graphicData uri="http://schemas.openxmlformats.org/drawingml/2006/table">
            <a:tbl>
              <a:tblPr/>
              <a:tblGrid>
                <a:gridCol w="576000"/>
                <a:gridCol w="34624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MR10"/>
                          <a:ea typeface="CMR10"/>
                        </a:rPr>
                        <a:t>SERVIZI DIDATT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form. sulla didattica / Bach elett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teriale didattico on 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eb-streaming di materiali didatt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dca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d. online e attiv. di tutoring (E-lear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sami a dist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sult. Riv. online / fonti bib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427640" y="1197000"/>
          <a:ext cx="4716360" cy="3597120"/>
        </p:xfrm>
        <a:graphic>
          <a:graphicData uri="http://schemas.openxmlformats.org/drawingml/2006/table">
            <a:tbl>
              <a:tblPr/>
              <a:tblGrid>
                <a:gridCol w="725400"/>
                <a:gridCol w="399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RVIZI GENER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sella di posta elettro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rvizi Vo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ortello per diversamente abi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uto-prest. e contr. acces. bibl. tecn. RF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ggerimenti / Recl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27"/>
          <p:cNvSpPr/>
          <p:nvPr/>
        </p:nvSpPr>
        <p:spPr>
          <a:xfrm>
            <a:off x="108000" y="1341360"/>
            <a:ext cx="882000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servizio, il questionario richiedeva semplici risposte qualitative, ovv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servizio è presente in modalità on li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risposte possibili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talmente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zialmente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pres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non totalmente presente, e' prevista l’attivazione (o il completamento) del servizio in modalità on li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risposte possibili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lo nell’eventualità di appositi finanziamenti esterni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presente (anche solo parzialmente), indicare il livello di utilizz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risposte possibili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o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dio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sso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l è la piattaforma software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risposte possibili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ustom;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ck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nalisi Ris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questionari ricevuti sono stati 65 su 84 Atenei interpellati, pari a circa il 77% dei questionari inviati; tale percentuale costituisce sicuramente un campione significativo ed è rappresentativo del sistema universitario, comprendendo atenei di ogni tipo e di ogni collocazione geogra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39640" y="3284640"/>
            <a:ext cx="8229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nanzitutto sono state calcolate le percentuali corrispondenti alle risposte fornite per tutto il camp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9640" y="4221000"/>
            <a:ext cx="7777440" cy="215316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sono suddivise le risposte degli Atenei in cinque zone geografiche;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Nord-Occidenta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Nord-Orienta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Centr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Meridiona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Insul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5364000" y="5013360"/>
            <a:ext cx="2880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Le medie zonali s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onfrontate con l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taliana</a:t>
            </a:r>
            <a:r>
              <a:rPr b="1" lang="it-IT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nalisi sca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395280" y="1197000"/>
            <a:ext cx="8209080" cy="478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le figure riportate di seguito ci sono le statistiche d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d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arz. OnLi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 tutti i servizi forniti dagli atenei italiani, confrontati con quelli forniti dai 5 raggruppamenti per aree geografiche. Da questi istogrammi è immediato estrarre le informazioni cercate per i vari servizi e per le varie aree geografiche, con i criteri seguent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queste rappresentazioni il verde indica servizi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totalmente presen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il giallo indica servizi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parzialmente presen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e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n presen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i è utilizzato il ro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4:28:07Z</dcterms:created>
  <dc:creator>Leopoldo Milano</dc:creator>
  <dc:description/>
  <dc:language>en-US</dc:language>
  <cp:lastModifiedBy>wifiUPUAS</cp:lastModifiedBy>
  <dcterms:modified xsi:type="dcterms:W3CDTF">2010-11-12T07:45:23Z</dcterms:modified>
  <cp:revision>39</cp:revision>
  <dc:subject/>
  <dc:title>Diapositiva 1</dc:title>
</cp:coreProperties>
</file>