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396-3AAA-411E-9B1D-61EA6CF6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AEC-33F5-4BD1-8F62-E0998E0A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473-6F51-4C3D-9670-16819944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89B-C7E0-4761-89CA-1DC50268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CAFA-9F9B-464E-A301-438CCC9A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2BF6-A745-46F9-A2CD-18561328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B5AA-7DE9-4A41-ACCB-C9129FF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0613-21AA-48F6-9B1F-4C0F18DB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69B-1B9D-4CFB-9B41-3BFA330D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E7F-039D-47BD-9D7D-F28E6B34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ED05-288F-4C9E-ACF1-CB005C6C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262-4A6E-43E4-8FDE-08924181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E86F-C1C0-480F-82CC-BCD110E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E9E1-66F1-4C10-880F-48A5134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A57E-3B89-4229-A366-F9E962FF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D70-E8BA-4C66-B597-D76F35FB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4CE8-B2F1-4FE4-A7EF-E05956C2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A76-534C-4C2D-9A85-7DE899B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CAD-DE0D-4FDE-B52F-FDE9D0D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CEB-9385-4281-A3E4-AFD25784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998-60C7-473C-9AB8-0402441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029-1106-443F-8FA7-447C4C70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982-0F67-4A1D-9B1F-1D83D91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10F-DD17-44B4-8309-C9CDC57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2C7A2058-307C-447A-9FDE-09480C42D8AC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CB1-F882-4432-BB01-D4E26C168F0F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petti normativi delle reti 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 della comunicazione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llaborazione con AGCOM e FUB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8120" y="1196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COM e FUB hanno siglato un accordo triennale per studi e ricerche nel settore Reti, Editoria, Televisi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C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è innanzitutto un’autorità di garanzia con il duplice compito di assicurare la competizione degli operatori e di tutelare  … libertà fondamentali dei cittadin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Fondazione Ugo Bordoni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, sottoposta alla vigilanza del Ministero dello Sviluppo Economico, realizza ricerche, studi scientifici e applicativi nelle materie delle comunicazioni elettroniche … al fine di promuovere il progresso scientifico e l'innovazione tecnologica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propone di offrire ad AGCOM e FUB la disponibilità del tavolo tecnico a discutere temi di loro interesse, eventualmente elaborando pareri e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tiv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icoltà interpretative della normativa vigente rallentano l’introduzione di ICT in Aten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ingoli atenei difficilmente hanno la massa critica e la motivazione per risolvere i problemi interpre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tavolo tecnico ha le caratteristiche giuste per provare a dirimere alcune questioni di interesse del sistema universitario in virt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massa cri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legittimazione ricevuta da DDI e MI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dus operand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859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artire da casi d’uso concreti che evidenzino il problema interpret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alizzare la normativa con l’aiuto di giuri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digere linee guida che rappresentino soluzioni adeguate applicate al caso d’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iedere il conforto delle autorità competenti sulla legittimità delle soluzioni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rovare e pubblicare 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dottare e implementazione pilota del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vorire il riuso delle esperienze pil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Verbalizzazione onli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sottolinea ch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tema è stato affrontato da un apposito gruppo di lavoro prima della costituzione formale del gruppo di lavoro sugli aspetti norm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s operandi adottato dal tavolo tecnico e il successo nella definizione di linee guida pragmatiche per la verbalizzazione online hanno creato i presupposti per la costituzione di un gruppo di lavoro sugli aspetti normativi trasversale ai gruppi temat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65680" y="6165720"/>
            <a:ext cx="49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ere favorevole espresso da DigitPA e MI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VoIP nomadico e servizi agli student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: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'utente, dotato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erminale VoIP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llegato su rete IP al centralino dell'istituzione di appartenenza, si presenta su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te telefonica gen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STN) con un numero di telefono del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ano di numerazione na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NN) assegnato all'istituzione di appartenenz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o nomadico di numeri fi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ocalizzazione delle chia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izi VoIP agli stud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egato alle linee guida sul VoIP che sarann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601160" y="6165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AG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utenticazione federata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per l’accesso ad Interne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L'utente, registrato presso un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per accedere ad Internet attraverso le risorse di rete di un secondo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6172200"/>
            <a:ext cx="76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Polizia Postale - Ministero dell’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eb services per l’accesso ad ANS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812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gg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odello di cooperazione applicativa tra Università e ANS  finalizzato a semplificare il conferimento di dati all’ANS da parte delle Università e fornire supporto alla mobilità nazionale degli studenti universita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smissione  all’ANS dei dati di carrie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i errori sintattici e semantici nei dati e di anomalie di trasmissi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e prime immatricolazioni nel sistema universitario italian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o stato della carriera degli studen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ito predisposto da DDI e MIUR per garante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GSM BOX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8120" y="1197000"/>
            <a:ext cx="7859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ffettuare internamente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assaggio fisso-mob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poter usufruire delle tariffe più vantaggiose mobile-mobile per mettere in comunicazione i telefoni di rete fissa dell’Ateneo con i cellula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(UniFE): 8c€ fisso-mobile, 3.5c€ mobile-mobile, con 70% di traffico verso cellulare il risparmio sulla spesa telefonica complessiva sarebbe del 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normativa non sembra vietare l’uso di GSM-BOX, ma gli operatori non lo ammetto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assumerà una posizione collegiale da sottoporre alle autorità compet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erienze di Milano Bicocca (Ministeri) e UniFE (Core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nterconnessione tra reti priva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8120" y="126792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eti degli atenei sono reti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soggette a limitazioni di uso e di interconnessione imposte dal codice delle comunic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: accordi tra Atenei e Pubbliche amministrazioni per la copertura Wi-Fi di zone metropolitan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i correlati: misure anti digital divide, NREN, aiuti di st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intende chiari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con ‘eventuale aiuto di AGCOM)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i limiti e le opportunità di utilizzo ed interconnessione delle reti degli Atene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1722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te di Urbino - Interpretazioni dell’Ispettorato dell’Emilia Rom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07:55:25Z</dcterms:modified>
  <cp:revision>39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