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B509-664A-4A43-AE90-E91F0CF0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D4C-6716-4E3A-BF8D-D38B2D5A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DA63-4F13-47AC-B1E4-DA751692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AD5-B36E-45BB-B3EB-2E571A2B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7630-0586-4345-A0D9-FA9BF1F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940-629F-4E94-A46D-5E9907AF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F8B-E34D-4452-A414-96009F7D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DDD-74E0-446B-B2C8-60ADE13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4AE8-C39C-41E6-BB77-F17038FD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07D-8B54-4CFE-837E-8E994C17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698-CF85-4605-93DA-E7C664F6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145-832A-4EBC-961A-8F4F16F4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8A082-402A-47A4-AC07-38DD3C0D42F1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E12B2F-CE18-4963-AD49-8F5BDA6F9EA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o 12"/>
          <p:cNvGrpSpPr/>
          <p:nvPr/>
        </p:nvGrpSpPr>
        <p:grpSpPr>
          <a:xfrm>
            <a:off x="666000" y="1427040"/>
            <a:ext cx="7863840" cy="3706920"/>
            <a:chOff x="666000" y="1427040"/>
            <a:chExt cx="7863840" cy="3706920"/>
          </a:xfrm>
        </p:grpSpPr>
        <p:sp>
          <p:nvSpPr>
            <p:cNvPr id="42" name="Triangolo isoscele 3"/>
            <p:cNvSpPr/>
            <p:nvPr/>
          </p:nvSpPr>
          <p:spPr>
            <a:xfrm>
              <a:off x="3122640" y="2168640"/>
              <a:ext cx="3329640" cy="2383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Calibri"/>
                </a:rPr>
                <a:t>Demateria-lizzazion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CasellaDiTesto 4"/>
            <p:cNvSpPr/>
            <p:nvPr/>
          </p:nvSpPr>
          <p:spPr>
            <a:xfrm>
              <a:off x="2713320" y="1427040"/>
              <a:ext cx="383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rocess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CasellaDiTesto 5"/>
            <p:cNvSpPr/>
            <p:nvPr/>
          </p:nvSpPr>
          <p:spPr>
            <a:xfrm>
              <a:off x="5285880" y="4552560"/>
              <a:ext cx="3243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Standardizzazion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CasellaDiTesto 6"/>
            <p:cNvSpPr/>
            <p:nvPr/>
          </p:nvSpPr>
          <p:spPr>
            <a:xfrm>
              <a:off x="666000" y="4552560"/>
              <a:ext cx="434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Innovazione piattaform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Ovale 9"/>
            <p:cNvSpPr/>
            <p:nvPr/>
          </p:nvSpPr>
          <p:spPr>
            <a:xfrm>
              <a:off x="4673520" y="201168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Ovale 10"/>
            <p:cNvSpPr/>
            <p:nvPr/>
          </p:nvSpPr>
          <p:spPr>
            <a:xfrm>
              <a:off x="301572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Ovale 11"/>
            <p:cNvSpPr/>
            <p:nvPr/>
          </p:nvSpPr>
          <p:spPr>
            <a:xfrm>
              <a:off x="6345360" y="4445640"/>
              <a:ext cx="213840" cy="21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1:32:19Z</dcterms:created>
  <dc:creator>Luca Mainetti</dc:creator>
  <dc:description/>
  <dc:language>en-US</dc:language>
  <cp:lastModifiedBy>Luca Mainetti</cp:lastModifiedBy>
  <dcterms:modified xsi:type="dcterms:W3CDTF">2010-11-12T11:42:02Z</dcterms:modified>
  <cp:revision>2</cp:revision>
  <dc:subject/>
  <dc:title>Diapositiva 1</dc:title>
</cp:coreProperties>
</file>