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AD3-FF42-4DA8-BFB5-394DD2BD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D14-43E5-4493-B3D3-44D6A28D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0FB-4BA2-4715-AE95-B5F7CBE1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85F-0450-437E-A543-A755CA85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913-D1E8-46F2-A607-B6DD69AC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36D-2733-4C1B-8398-C5C79B2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52F-679C-449E-914E-B284A83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0D3-F469-4B63-9B4E-6158256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5DF-E132-451C-B5DB-624CD601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39F-63EF-4C82-9E6F-545B45D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0F0-F364-4D72-B96E-44FA81A8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9EF-117E-4C57-970E-3D11CE0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AB616-1113-4592-8F0A-B15C72BE805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B3DC1-70C2-4D64-B1CD-E483CB2FBB7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2"/>
          <p:cNvGrpSpPr/>
          <p:nvPr/>
        </p:nvGrpSpPr>
        <p:grpSpPr>
          <a:xfrm>
            <a:off x="666000" y="1427040"/>
            <a:ext cx="7863840" cy="3706920"/>
            <a:chOff x="666000" y="1427040"/>
            <a:chExt cx="7863840" cy="3706920"/>
          </a:xfrm>
        </p:grpSpPr>
        <p:sp>
          <p:nvSpPr>
            <p:cNvPr id="42" name="Triangolo isoscele 3"/>
            <p:cNvSpPr/>
            <p:nvPr/>
          </p:nvSpPr>
          <p:spPr>
            <a:xfrm>
              <a:off x="3122640" y="2168640"/>
              <a:ext cx="3329640" cy="23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Demateria-lizz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asellaDiTesto 4"/>
            <p:cNvSpPr/>
            <p:nvPr/>
          </p:nvSpPr>
          <p:spPr>
            <a:xfrm>
              <a:off x="2713320" y="142704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roces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asellaDiTesto 5"/>
            <p:cNvSpPr/>
            <p:nvPr/>
          </p:nvSpPr>
          <p:spPr>
            <a:xfrm>
              <a:off x="5285880" y="4552560"/>
              <a:ext cx="32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tandardizzazi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asellaDiTesto 6"/>
            <p:cNvSpPr/>
            <p:nvPr/>
          </p:nvSpPr>
          <p:spPr>
            <a:xfrm>
              <a:off x="666000" y="4552560"/>
              <a:ext cx="434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iattaform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e 9"/>
            <p:cNvSpPr/>
            <p:nvPr/>
          </p:nvSpPr>
          <p:spPr>
            <a:xfrm>
              <a:off x="4673520" y="20116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e 10"/>
            <p:cNvSpPr/>
            <p:nvPr/>
          </p:nvSpPr>
          <p:spPr>
            <a:xfrm>
              <a:off x="301572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e 11"/>
            <p:cNvSpPr/>
            <p:nvPr/>
          </p:nvSpPr>
          <p:spPr>
            <a:xfrm>
              <a:off x="634536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32:19Z</dcterms:created>
  <dc:creator>Luca Mainetti</dc:creator>
  <dc:description/>
  <dc:language>en-US</dc:language>
  <cp:lastModifiedBy>Luca Mainetti</cp:lastModifiedBy>
  <dcterms:modified xsi:type="dcterms:W3CDTF">2010-11-12T11:42:02Z</dcterms:modified>
  <cp:revision>2</cp:revision>
  <dc:subject/>
  <dc:title>Diapositiva 1</dc:title>
</cp:coreProperties>
</file>