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D73-AB06-4B4C-B9E2-D33310C5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429-BE82-433A-9F6A-72C7F1A7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C6F-2A7F-4E6E-8BDC-A9FD82A7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E74-AA55-41BF-A41D-C382B1C2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F435-9E9A-4CF7-9753-F610A694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5C24-6A49-495B-8CD8-9BBA84D2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4461-4AA0-4372-AF6A-6A9A2A64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C03B-AB08-4D71-BDE4-57130E2F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5751-88F1-4C59-A8E6-00DADD28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2ED7-9F55-49C1-9600-7202281A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530D-D40F-4912-B94A-06EF28C0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026-24D5-42F9-A129-4F0A8251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E2DF-62E8-4356-83E6-D0B1A576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3B0D-ACE7-4972-A3AE-54D68E5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32C2-F919-4EDE-A87D-10CB5453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A4EA-5629-4D80-95A6-60A66AD9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130B-82E1-408C-9ACD-8B049D68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571-844B-4E2A-90E1-D37764AA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623-A0DC-497E-AAD2-155EBF45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238-E3A5-4BCB-8921-EB3460FE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ED8-0D09-403C-924E-F645E38F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946-47F6-4323-A99E-F7A4FA6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A78-A9A0-4621-9349-025FC974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88D-6280-4781-A006-BEC487D5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2BA1-458B-44C4-806E-6261BAC8DD90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2733-34DE-4FCA-BA61-FA881695883B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2911320"/>
            <a:ext cx="77724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Fascicolo dello studen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Linee 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Dr. Flavio Ferl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Dr.ssa Cristina Mugn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1e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543800" cy="90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88620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533412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BDA-1571-4FD5-AE52-4ACC9EF4F3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6699"/>
                </a:solidFill>
                <a:uFillTx/>
                <a:latin typeface="Arial"/>
              </a:rPr>
              <a:t>Modello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l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istema di gestione documental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eve esporr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ervizi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 grado di trattare  i principali eventi relativi al ciclo di vita del fascicolo dello studente: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pertura, chiusura, inserimento e consul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istemi di gestione delle carriere studenti, i servizi web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ed eventuali altri sistemi gestional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evono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essere in grado di integrar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all’interno delle loro funzion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i servizi offerti dal sistema di gestione documental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27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1EC-44E6-48CD-9081-DE915B7B52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778040"/>
            <a:ext cx="7010280" cy="4317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01840" y="45720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18288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Modello di rifer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FC2-828D-4130-AD99-985CD45E3A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81e2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dell’art. 2, comma 1, lettera d) dell’avviso Università Digital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: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ntrodurre il fascicolo personale dello studente, nonché ulteriori servizi finalizzati a reingegnerizzare ed automatizzare i processi interni ad elevato costo di risorse umane e strumen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progetti ammessi al finanziamento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:</a:t>
            </a:r>
            <a:r>
              <a:rPr b="1" lang="it-IT" sz="1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realizzare l’integrazione tra i sistemi di gestione documentale ed i sistemi gestionali in uso presso gli atenei, a partire dal sistema di gestione delle carriere stud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final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reingegnerizzare ed automatizzare tutti i processi interni agli atenei relativi al ciclo di vita dello studente per una completa dematerializzazione del fascic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egnaposto piè di pagina 4"/>
          <p:cNvSpPr/>
          <p:nvPr/>
        </p:nvSpPr>
        <p:spPr>
          <a:xfrm>
            <a:off x="3124080" y="6324480"/>
            <a:ext cx="289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90680" y="304920"/>
            <a:ext cx="6362640" cy="909360"/>
          </a:xfrm>
          <a:prstGeom prst="rect">
            <a:avLst/>
          </a:prstGeom>
          <a:ln w="0">
            <a:noFill/>
          </a:ln>
        </p:spPr>
      </p:pic>
      <p:sp>
        <p:nvSpPr>
          <p:cNvPr id="9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8954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4956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C6E-ECCF-4927-99F9-0860D2124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336699"/>
                </a:solidFill>
                <a:uFillTx/>
                <a:latin typeface="Arial"/>
              </a:rPr>
              <a:t>Benefici at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Semplificare l’apertura del fascicolo studente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nel sistema di gestione documentale, rendendo automatica l’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Ridurre il carico di lavoro del personale amministrativo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consentendo l’inserimento automatico nel fascicolo dei documenti più rilev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Possibilità di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rendere disponibile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</a:rPr>
              <a:t>online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 allo studente il proprio fascicolo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ai fini della trasparenza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98" name="Segnaposto piè di pagina 4"/>
          <p:cNvSpPr/>
          <p:nvPr/>
        </p:nvSpPr>
        <p:spPr>
          <a:xfrm>
            <a:off x="0" y="6280200"/>
            <a:ext cx="28954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5A8-39B9-42F6-A29C-C994120C3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Arial"/>
              </a:rPr>
              <a:t>Approccio adottato per giungere alla formulazione delle linee g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ndivisione e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rmonizzazione del lingu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icerca dei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ferimenti norm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levazione dei modelli organizzativi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gli Aten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finizione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di u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odello di rife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02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F28-9312-4A55-8287-C02A315B1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Terminologia e principali riferimenti normativi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Documento informatico – artt. 1 e 20 del C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Procedimento e fascicolo informatico – art. 41, c. 2 del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Sistema di gestione dei flussi documentali – art. 64 DPR 445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Gestione informatica dei documenti – art. 1, c. 1 , lettera u) del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Non esistono al momento norme o linee guida che definiscano il contenuto del fascicolo studente e le regole di conservazione dei documenti in esso contenuti (scarto). La materia è oggetto di studio da parte di progetti nazionali ed internazionali (es. Cartes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06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495680"/>
            <a:ext cx="0" cy="13716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25C-85E8-4E50-ADB1-C11E09B642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Rilevazione dei modelli organizzativi negli atenei ed uso del fasci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 modelli organizzativi adottati dagli atenei per la gestione dei processi che riguardano la vita dello studente sono profondamente diversi tra loro – Elemento di norma comune: la segreteria studenti, una per ciascuna facol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Non esiste una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</a:rPr>
              <a:t>policy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uniforme e condivisa per la formazione del fascicolo stu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È sempre più diffusa la tendenza a sostituire le istanze cartacee con servizi web autentic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l sistema di archiviazione documentale di norma non è integrato con il sistema di gestione delle carriere stud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Esiste quasi sempre un insieme di documenti/atti (es. decreti, delibere), spesso di natura collettiva, che sono ancora in forma cartac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1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EBC-2597-447B-88AD-35A809B225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  (prim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 progetti devono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mirare alla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emplificazione del processo di apertura e chiusura del fascicolo student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nei sistemi di gestione documentale in uso mediante la realizzazione di opportuni servizi automatizzati che supportino l’interoperabilità tra il sistema di gestione delle carriere studenti e quello document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Analogamente,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anche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l’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inserimento di documenti nel fascicolo deve essere semplific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’inserimento nel fascicolo informatic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dello studente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delle istanze presentate tramite servizi </a:t>
            </a:r>
            <a:r>
              <a:rPr b="1" i="1" lang="it-IT" sz="1600" spc="-1" strike="noStrike">
                <a:solidFill>
                  <a:srgbClr val="336699"/>
                </a:solidFill>
                <a:latin typeface="Arial"/>
              </a:rPr>
              <a:t>web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autenticat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e dei documenti informatic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 deve esser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limitato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a quelli di legge ed a quelli che si riferiscono ad eventi che hanno effetto sulla carriera dello stud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5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6D2-EEB7-4CF5-8F5B-2D0DA81C14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  (second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Tutti i documenti informatic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dovranno essere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generati in formati standard apert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PDF/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e istanze presentate tramite un servizio web autenticat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da parte di soggetti (studenti) la cui identità sia stata accertata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all’atto dell’immatricolazione)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ono equivalenti alle istanz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e alle dichiarazion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ottoscritte con firma autografa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(art. 65, c. 1, lettera c, del CA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Quind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e credenziali non possono essere quelle di un soggetto autoregistrat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. In questi cas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non è necessario richiedere anche la presentazione dell’istanza cartac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Una istanza singolarmente identificabil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mediante un numero univoco)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può essere esclusa dalla registrazione di protocollo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(art. 53, c. 5, del DPR 445/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9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DBB-1F75-46FE-8964-4EF33A841A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(ultim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i fini della trasparenza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è auspicabile che lo studente possa consultare il contenuto del proprio fascicolo informatico tramite un servizio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Nella fase transitoria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, in cui vi sono ancora processi manuali, sarà cura del personale dell’U.O. che ha in carico il procedimento inserire nel fascicolo informatico dello studente, se necessario, i relativi documenti cartacei, avvalendosi dei servizi offerti dal proprio sistema documentale (es. caricamento documento acquisito tramite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2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FCF-A645-4104-A0DE-B68B2F0F80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gnai </cp:lastModifiedBy>
  <dcterms:modified xsi:type="dcterms:W3CDTF">2010-11-11T22:17:21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